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EE4-97E3-4B01-BC00-9409ADA0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0C9-F043-4884-A650-3D26F61C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214A-2ADF-4C26-BCE9-EA928803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15E8-C51C-4894-8C5C-4FC890B4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533D-098C-4C0C-8202-14517D06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635-3A2C-4EAA-A90E-17F1B9F4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D6F-E175-4526-BD7C-ADB74878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B9C0-ABCA-4D10-883F-22C9E455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AD2-0080-471C-80C7-12CBAC69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3B5-D736-4981-8381-07942327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524-7991-468A-BBAC-72F2F34B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4AE4-B133-4FB7-8143-0729B352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B05C-4E2B-49B4-9EFB-9974C4294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s to Mobil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endix to AFRL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Ko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1000" y="515880"/>
            <a:ext cx="8440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extend other techniqu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6120" y="1828800"/>
            <a:ext cx="74944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 - dynamic proces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on - checkpointing to support process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- process serialization and state captur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ce (rumor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e these all going to end up supporting code mo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ny different systems are heading in the direction of mobile code.  Let’s go there direct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1520" y="1479600"/>
            <a:ext cx="81849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2240" y="76320"/>
            <a:ext cx="8796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picture: A uniform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1090440"/>
            <a:ext cx="8131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MMARY (so f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several different strengths of mobile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code helps solve various performanc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ness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iosyncratic solutions exist in each problem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provide a unified framework,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for solving m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go directly to where many different sys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ving,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chniques work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1165320"/>
            <a:ext cx="74055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 ( eg. adaptive mes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document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 and queued R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99880" y="1092240"/>
            <a:ext cx="8536320" cy="1545840"/>
            <a:chOff x="299880" y="1092240"/>
            <a:chExt cx="8536320" cy="1545840"/>
          </a:xfrm>
        </p:grpSpPr>
        <p:sp>
          <p:nvSpPr>
            <p:cNvPr id="47" name=""/>
            <p:cNvSpPr/>
            <p:nvPr/>
          </p:nvSpPr>
          <p:spPr>
            <a:xfrm>
              <a:off x="299880" y="1636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389240" y="1092240"/>
              <a:ext cx="7446960" cy="1545840"/>
              <a:chOff x="1389240" y="1092240"/>
              <a:chExt cx="7446960" cy="1545840"/>
            </a:xfrm>
          </p:grpSpPr>
          <p:sp>
            <p:nvSpPr>
              <p:cNvPr id="49" name=""/>
              <p:cNvSpPr/>
              <p:nvPr/>
            </p:nvSpPr>
            <p:spPr>
              <a:xfrm>
                <a:off x="3419640" y="1092240"/>
                <a:ext cx="203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Call to server 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339160" y="1893960"/>
                <a:ext cx="3497040" cy="601560"/>
              </a:xfrm>
              <a:prstGeom prst="parallelogram">
                <a:avLst>
                  <a:gd name="adj" fmla="val 14118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013880" y="1490760"/>
                <a:ext cx="108756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389240" y="1893960"/>
                <a:ext cx="2567160" cy="601560"/>
              </a:xfrm>
              <a:prstGeom prst="parallelogram">
                <a:avLst>
                  <a:gd name="adj" fmla="val 1720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251440" y="154620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870880" y="15476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138840" y="1784160"/>
                <a:ext cx="2690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3173760" y="2004840"/>
                <a:ext cx="26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712200" y="193032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37440" y="1995480"/>
                <a:ext cx="1595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212760" y="2846520"/>
            <a:ext cx="8704080" cy="1733400"/>
            <a:chOff x="212760" y="2846520"/>
            <a:chExt cx="8704080" cy="1733400"/>
          </a:xfrm>
        </p:grpSpPr>
        <p:grpSp>
          <p:nvGrpSpPr>
            <p:cNvPr id="60" name=""/>
            <p:cNvGrpSpPr/>
            <p:nvPr/>
          </p:nvGrpSpPr>
          <p:grpSpPr>
            <a:xfrm>
              <a:off x="1469880" y="2846520"/>
              <a:ext cx="7446960" cy="1733400"/>
              <a:chOff x="1469880" y="2846520"/>
              <a:chExt cx="7446960" cy="1733400"/>
            </a:xfrm>
          </p:grpSpPr>
          <p:sp>
            <p:nvSpPr>
              <p:cNvPr id="61" name=""/>
              <p:cNvSpPr/>
              <p:nvPr/>
            </p:nvSpPr>
            <p:spPr>
              <a:xfrm>
                <a:off x="5419800" y="3860640"/>
                <a:ext cx="3497040" cy="601920"/>
              </a:xfrm>
              <a:prstGeom prst="parallelogram">
                <a:avLst>
                  <a:gd name="adj" fmla="val 14110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094520" y="3457440"/>
                <a:ext cx="108720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69880" y="3860640"/>
                <a:ext cx="2567160" cy="601920"/>
              </a:xfrm>
              <a:prstGeom prst="parallelogram">
                <a:avLst>
                  <a:gd name="adj" fmla="val 171921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332080" y="35132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951520" y="351468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792840" y="389736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446360" y="3317760"/>
                <a:ext cx="455760" cy="1262160"/>
              </a:xfrm>
              <a:prstGeom prst="lightningBol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217680" y="3740040"/>
                <a:ext cx="1235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3268440" y="3286080"/>
                <a:ext cx="1000440" cy="378000"/>
                <a:chOff x="3268440" y="3286080"/>
                <a:chExt cx="1000440" cy="3780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93552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26844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59568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113080" y="3516480"/>
                <a:ext cx="665280" cy="378720"/>
                <a:chOff x="5113080" y="3516480"/>
                <a:chExt cx="665280" cy="378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113080" y="3517920"/>
                  <a:ext cx="333360" cy="37728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445000" y="3516480"/>
                  <a:ext cx="333360" cy="37764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 flipH="1">
                <a:off x="4862520" y="3970440"/>
                <a:ext cx="1015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832120" y="2846520"/>
                <a:ext cx="16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cal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871880" y="3098880"/>
                <a:ext cx="185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212760" y="3301920"/>
              <a:ext cx="132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Queu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93080" y="4888080"/>
            <a:ext cx="756756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mobil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 constrained to server’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requests and results over client’s network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latency or bandwidth reduction, and blocked if link goe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ed procedures and RE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0120" y="10666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57480" y="3186000"/>
            <a:ext cx="15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Sen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38240" y="1668600"/>
            <a:ext cx="3863880" cy="2952720"/>
            <a:chOff x="138240" y="1668600"/>
            <a:chExt cx="3863880" cy="2952720"/>
          </a:xfrm>
        </p:grpSpPr>
        <p:sp>
          <p:nvSpPr>
            <p:cNvPr id="85" name=""/>
            <p:cNvSpPr/>
            <p:nvPr/>
          </p:nvSpPr>
          <p:spPr>
            <a:xfrm>
              <a:off x="200160" y="2071800"/>
              <a:ext cx="3497040" cy="601920"/>
            </a:xfrm>
            <a:prstGeom prst="parallelogram">
              <a:avLst>
                <a:gd name="adj" fmla="val 14110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07920" y="1668600"/>
              <a:ext cx="108756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34960" y="40197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41720" y="37515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00400" y="1714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00160" y="210852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2486160" y="2779560"/>
              <a:ext cx="353880" cy="1015920"/>
              <a:chOff x="2486160" y="2779560"/>
              <a:chExt cx="353880" cy="1015920"/>
            </a:xfrm>
          </p:grpSpPr>
          <p:sp>
            <p:nvSpPr>
              <p:cNvPr id="92" name=""/>
              <p:cNvSpPr/>
              <p:nvPr/>
            </p:nvSpPr>
            <p:spPr>
              <a:xfrm flipV="1">
                <a:off x="2486160" y="2785320"/>
                <a:ext cx="2880" cy="99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2651040" y="2779560"/>
                <a:ext cx="7920" cy="98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35360" y="2807640"/>
                <a:ext cx="4680" cy="987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363760" y="2259360"/>
              <a:ext cx="67788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240" y="282276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procedure code to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8240" y="35244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Call proced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095560" y="3079800"/>
              <a:ext cx="392040" cy="8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006640" y="3483000"/>
              <a:ext cx="649080" cy="22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5360" y="3281760"/>
              <a:ext cx="2570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168960" y="1066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1320" y="2071800"/>
            <a:ext cx="3497040" cy="601560"/>
          </a:xfrm>
          <a:prstGeom prst="parallelogram">
            <a:avLst>
              <a:gd name="adj" fmla="val 1411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29080" y="1668600"/>
            <a:ext cx="108756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56120" y="4019400"/>
            <a:ext cx="2567160" cy="601920"/>
          </a:xfrm>
          <a:prstGeom prst="parallelogram">
            <a:avLst>
              <a:gd name="adj" fmla="val 1719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62880" y="3751200"/>
            <a:ext cx="841320" cy="75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21560" y="1714680"/>
            <a:ext cx="841320" cy="750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21320" y="210816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6765840" y="2752560"/>
            <a:ext cx="152640" cy="10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8040" y="2739960"/>
            <a:ext cx="308160" cy="70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72160" y="223668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61040" y="34527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0120" y="2778120"/>
            <a:ext cx="25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Send procedure cod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nd argument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to server - procedure called immedi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2360" y="2378160"/>
            <a:ext cx="157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Send results (and maybe a server proced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388200" y="3230280"/>
            <a:ext cx="447480" cy="13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250040" y="3017880"/>
            <a:ext cx="515880" cy="12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20" y="4989600"/>
            <a:ext cx="849312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ect if accessing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iculties if accessing more than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communicate with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send out their own procedures (e.g., no prox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ets and serv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1920" y="5167440"/>
            <a:ext cx="849312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e limitations as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s pay more attention to security than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00160" y="1119240"/>
            <a:ext cx="8910000" cy="3665520"/>
            <a:chOff x="200160" y="1119240"/>
            <a:chExt cx="8910000" cy="3665520"/>
          </a:xfrm>
        </p:grpSpPr>
        <p:sp>
          <p:nvSpPr>
            <p:cNvPr id="120" name=""/>
            <p:cNvSpPr/>
            <p:nvPr/>
          </p:nvSpPr>
          <p:spPr>
            <a:xfrm>
              <a:off x="1581120" y="112068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pp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00160" y="1712880"/>
              <a:ext cx="4647960" cy="3053880"/>
              <a:chOff x="200160" y="1712880"/>
              <a:chExt cx="4647960" cy="305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2763720" y="2869920"/>
                <a:ext cx="2084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2. Receive page and “embedded” applet; execute appl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0160" y="2182680"/>
                <a:ext cx="3497040" cy="601200"/>
              </a:xfrm>
              <a:prstGeom prst="parallelogram">
                <a:avLst>
                  <a:gd name="adj" fmla="val 141272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07920" y="1712880"/>
                <a:ext cx="1087560" cy="930240"/>
              </a:xfrm>
              <a:prstGeom prst="can">
                <a:avLst>
                  <a:gd name="adj" fmla="val 2013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g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1520" y="4165200"/>
                <a:ext cx="2566800" cy="601560"/>
              </a:xfrm>
              <a:prstGeom prst="parallelogram">
                <a:avLst>
                  <a:gd name="adj" fmla="val 17200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96760" y="3662280"/>
                <a:ext cx="1143000" cy="101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ow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55760" y="1780920"/>
                <a:ext cx="955800" cy="85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00160" y="221904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1724040" y="2537640"/>
                <a:ext cx="743040" cy="117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2436480" y="2636640"/>
                <a:ext cx="252360" cy="13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92240" y="3928680"/>
                <a:ext cx="946080" cy="5346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ppl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20680" y="29224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1. Request Web p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8520" y="3192120"/>
                <a:ext cx="403200" cy="134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532240" y="3450960"/>
                <a:ext cx="482400" cy="10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124240" y="2178000"/>
              <a:ext cx="3497040" cy="601560"/>
            </a:xfrm>
            <a:prstGeom prst="parallelogram">
              <a:avLst>
                <a:gd name="adj" fmla="val 14118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2360" y="1708200"/>
              <a:ext cx="1087200" cy="930240"/>
            </a:xfrm>
            <a:prstGeom prst="can">
              <a:avLst>
                <a:gd name="adj" fmla="val 201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19600" y="418320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45200" y="3679920"/>
              <a:ext cx="1142640" cy="1017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row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57880" y="1776240"/>
              <a:ext cx="955440" cy="85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24600" y="2214720"/>
              <a:ext cx="248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927840" y="3047760"/>
              <a:ext cx="406080" cy="66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110360" y="3024360"/>
              <a:ext cx="509040" cy="798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19720" y="2511360"/>
              <a:ext cx="94572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02000" y="30304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serv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353052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Get 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24520" y="3271680"/>
              <a:ext cx="291600" cy="1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96120" y="3495600"/>
              <a:ext cx="267840" cy="157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9680" y="11192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31760" y="1260360"/>
            <a:ext cx="73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, Condor and Legion: Load balancing can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statically (for a heterogeneous networ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dynamically through data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programmer effort required to achieve even limited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much security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ten pre-loaded code or homogeneous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-specific 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0960" y="386244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67160" y="466560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19440" y="280836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31040" y="3678120"/>
            <a:ext cx="971640" cy="8287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4760" y="3720960"/>
            <a:ext cx="971640" cy="828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0480" y="477504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69908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Grid/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62800" y="372276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omposi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08880" y="46512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Visualiz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94040" y="4056120"/>
            <a:ext cx="722160" cy="230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827520" y="3668760"/>
            <a:ext cx="882720" cy="511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4427640"/>
            <a:ext cx="1341720" cy="757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10240" y="3139920"/>
            <a:ext cx="169380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332400" y="4303800"/>
            <a:ext cx="90036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7720" y="1407960"/>
            <a:ext cx="84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Modeling of complex mechanic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60640" y="244620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efined,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07360" y="574524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dwired” approach….nothing dynam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 without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mart" descr=""/>
          <p:cNvPicPr/>
          <p:nvPr/>
        </p:nvPicPr>
        <p:blipFill>
          <a:blip r:embed="rId1"/>
          <a:stretch/>
        </p:blipFill>
        <p:spPr>
          <a:xfrm>
            <a:off x="277920" y="1130400"/>
            <a:ext cx="2246040" cy="1569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070520" y="18813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24120" y="236700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e-installed application-specific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054920" y="2019240"/>
            <a:ext cx="1828800" cy="703080"/>
            <a:chOff x="7054920" y="2019240"/>
            <a:chExt cx="1828800" cy="703080"/>
          </a:xfrm>
        </p:grpSpPr>
        <p:sp>
          <p:nvSpPr>
            <p:cNvPr id="174" name=""/>
            <p:cNvSpPr/>
            <p:nvPr/>
          </p:nvSpPr>
          <p:spPr>
            <a:xfrm>
              <a:off x="7054920" y="21888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20120" y="201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7679880" y="15717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554200" y="1862280"/>
            <a:ext cx="1941480" cy="648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35640" y="1512720"/>
            <a:ext cx="896760" cy="7844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list" descr=""/>
          <p:cNvPicPr/>
          <p:nvPr/>
        </p:nvPicPr>
        <p:blipFill>
          <a:blip r:embed="rId2"/>
          <a:stretch/>
        </p:blipFill>
        <p:spPr>
          <a:xfrm>
            <a:off x="949320" y="1911240"/>
            <a:ext cx="1281240" cy="128448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7124760" y="849240"/>
            <a:ext cx="1828800" cy="703080"/>
            <a:chOff x="7124760" y="849240"/>
            <a:chExt cx="1828800" cy="703080"/>
          </a:xfrm>
        </p:grpSpPr>
        <p:sp>
          <p:nvSpPr>
            <p:cNvPr id="181" name=""/>
            <p:cNvSpPr/>
            <p:nvPr/>
          </p:nvSpPr>
          <p:spPr>
            <a:xfrm>
              <a:off x="7124760" y="10191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89960" y="84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735600" y="2724120"/>
            <a:ext cx="22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igher-level database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361120" y="1184040"/>
            <a:ext cx="2523960" cy="6267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560" y="1930320"/>
            <a:ext cx="2535120" cy="4492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09960" y="12016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76960" y="1511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smart" descr=""/>
          <p:cNvPicPr/>
          <p:nvPr/>
        </p:nvPicPr>
        <p:blipFill>
          <a:blip r:embed="rId3"/>
          <a:stretch/>
        </p:blipFill>
        <p:spPr>
          <a:xfrm>
            <a:off x="222120" y="4114800"/>
            <a:ext cx="2246400" cy="1569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48120" y="49100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2080" y="5396040"/>
            <a:ext cx="25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999120" y="5003640"/>
            <a:ext cx="1828800" cy="703080"/>
            <a:chOff x="6999120" y="5003640"/>
            <a:chExt cx="1828800" cy="703080"/>
          </a:xfrm>
        </p:grpSpPr>
        <p:sp>
          <p:nvSpPr>
            <p:cNvPr id="192" name=""/>
            <p:cNvSpPr/>
            <p:nvPr/>
          </p:nvSpPr>
          <p:spPr>
            <a:xfrm>
              <a:off x="6999120" y="51732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64320" y="500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624440" y="45561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79840" y="4497480"/>
            <a:ext cx="897120" cy="7840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list" descr=""/>
          <p:cNvPicPr/>
          <p:nvPr/>
        </p:nvPicPr>
        <p:blipFill>
          <a:blip r:embed="rId4"/>
          <a:stretch/>
        </p:blipFill>
        <p:spPr>
          <a:xfrm>
            <a:off x="893880" y="4917960"/>
            <a:ext cx="1280880" cy="128448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7068960" y="3833640"/>
            <a:ext cx="1828800" cy="703080"/>
            <a:chOff x="7068960" y="3833640"/>
            <a:chExt cx="1828800" cy="703080"/>
          </a:xfrm>
        </p:grpSpPr>
        <p:sp>
          <p:nvSpPr>
            <p:cNvPr id="198" name=""/>
            <p:cNvSpPr/>
            <p:nvPr/>
          </p:nvSpPr>
          <p:spPr>
            <a:xfrm>
              <a:off x="7068960" y="40035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34160" y="383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 flipV="1">
            <a:off x="2563920" y="4974840"/>
            <a:ext cx="1638360" cy="126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54480" y="48243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7560" y="39337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9760" y="51055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300640" y="4184640"/>
            <a:ext cx="1974960" cy="636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15040" y="5005440"/>
            <a:ext cx="1896840" cy="3031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4160" y="3686040"/>
            <a:ext cx="69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uch less work, but now try extending the TR ap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4040" y="70020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Lot of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11240" y="4322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3440" y="453240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takes several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81520" y="1635120"/>
            <a:ext cx="67752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propos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mobil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strong code mobility, to solve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20:38:20Z</dcterms:created>
  <dc:creator>David Kotz</dc:creator>
  <dc:description/>
  <dc:language>en-US</dc:language>
  <cp:lastModifiedBy>David Kotz</cp:lastModifiedBy>
  <dcterms:modified xsi:type="dcterms:W3CDTF">1999-09-05T20:44:51Z</dcterms:modified>
  <cp:revision>1</cp:revision>
  <dc:subject/>
  <dc:title>Alternatives to Mobile Agents</dc:title>
</cp:coreProperties>
</file>