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597D-0576-4B0D-835D-73217047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A91C-67B2-4855-9E01-98AFBBCF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3B0-5E6E-4E58-B656-1C995C66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5A1-F082-406F-BE43-B7BBFBB4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989-C969-4CE9-BBA3-36114DBB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016-B617-41B6-8CD4-E7503542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9C0-04C8-42A9-A483-47138757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A6E8-325B-42D7-B1A5-D7DB1FA3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655-F303-4779-9F04-F3713371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BB1-08DE-47FA-8803-0D7AD45D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819-E57D-4042-9BCB-06BE8E64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6EA6-BE40-42DC-BAD5-E42D0164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4795-52CD-43A7-B4D4-DC5F08503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1.jpeg"/><Relationship Id="rId7" Type="http://schemas.openxmlformats.org/officeDocument/2006/relationships/image" Target="../media/image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1.jpeg"/><Relationship Id="rId7" Type="http://schemas.openxmlformats.org/officeDocument/2006/relationships/image" Target="../media/image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ndix to AFRL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Ko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: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53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54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55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security conc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gateway" descr=""/>
          <p:cNvPicPr/>
          <p:nvPr/>
        </p:nvPicPr>
        <p:blipFill>
          <a:blip r:embed="rId1"/>
          <a:stretch/>
        </p:blipFill>
        <p:spPr>
          <a:xfrm>
            <a:off x="5059440" y="248616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72" name="gateway" descr=""/>
          <p:cNvPicPr/>
          <p:nvPr/>
        </p:nvPicPr>
        <p:blipFill>
          <a:blip r:embed="rId2"/>
          <a:stretch/>
        </p:blipFill>
        <p:spPr>
          <a:xfrm>
            <a:off x="6230880" y="334332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73" name="gateway" descr=""/>
          <p:cNvPicPr/>
          <p:nvPr/>
        </p:nvPicPr>
        <p:blipFill>
          <a:blip r:embed="rId3"/>
          <a:stretch/>
        </p:blipFill>
        <p:spPr>
          <a:xfrm>
            <a:off x="4724280" y="37987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5400000">
            <a:off x="5417280" y="21945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4968000" y="42393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6422040" y="38692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gentred" descr=""/>
          <p:cNvPicPr/>
          <p:nvPr/>
        </p:nvPicPr>
        <p:blipFill>
          <a:blip r:embed="rId4"/>
          <a:stretch/>
        </p:blipFill>
        <p:spPr>
          <a:xfrm>
            <a:off x="7751880" y="260676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7908840" y="3373560"/>
            <a:ext cx="414360" cy="722160"/>
            <a:chOff x="7908840" y="3373560"/>
            <a:chExt cx="414360" cy="722160"/>
          </a:xfrm>
        </p:grpSpPr>
        <p:sp>
          <p:nvSpPr>
            <p:cNvPr id="79" name=""/>
            <p:cNvSpPr/>
            <p:nvPr/>
          </p:nvSpPr>
          <p:spPr>
            <a:xfrm>
              <a:off x="7908840" y="360216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7937640" y="3373560"/>
              <a:ext cx="358560" cy="290160"/>
              <a:chOff x="7937640" y="3373560"/>
              <a:chExt cx="358560" cy="290160"/>
            </a:xfrm>
          </p:grpSpPr>
          <p:sp>
            <p:nvSpPr>
              <p:cNvPr id="81" name=""/>
              <p:cNvSpPr/>
              <p:nvPr/>
            </p:nvSpPr>
            <p:spPr>
              <a:xfrm flipV="1">
                <a:off x="8121600" y="338904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937640" y="337356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 flipV="1">
            <a:off x="5245200" y="34286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468760" y="388908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59280" y="3260520"/>
            <a:ext cx="57168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38840" y="256716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6840" y="3948120"/>
            <a:ext cx="1054080" cy="29844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89560" y="4202280"/>
            <a:ext cx="1658880" cy="50616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54200" y="1457280"/>
            <a:ext cx="2779560" cy="4286160"/>
            <a:chOff x="754200" y="1457280"/>
            <a:chExt cx="2779560" cy="4286160"/>
          </a:xfrm>
        </p:grpSpPr>
        <p:grpSp>
          <p:nvGrpSpPr>
            <p:cNvPr id="90" name=""/>
            <p:cNvGrpSpPr/>
            <p:nvPr/>
          </p:nvGrpSpPr>
          <p:grpSpPr>
            <a:xfrm>
              <a:off x="785520" y="1457280"/>
              <a:ext cx="2715120" cy="1523520"/>
              <a:chOff x="785520" y="1457280"/>
              <a:chExt cx="2715120" cy="1523520"/>
            </a:xfrm>
          </p:grpSpPr>
          <p:pic>
            <p:nvPicPr>
              <p:cNvPr id="91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844920" y="1841400"/>
                <a:ext cx="76032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2803680" y="1457280"/>
                <a:ext cx="69696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 rot="5400000">
                <a:off x="1164240" y="236052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400000">
                <a:off x="1059840" y="2446560"/>
                <a:ext cx="21204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5400000">
                <a:off x="1067400" y="223200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2940120" y="2258640"/>
                <a:ext cx="414360" cy="722160"/>
                <a:chOff x="2940120" y="2258640"/>
                <a:chExt cx="414360" cy="722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940120" y="24872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968920" y="2258640"/>
                  <a:ext cx="358560" cy="290160"/>
                  <a:chOff x="2968920" y="2258640"/>
                  <a:chExt cx="358560" cy="2901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V="1">
                    <a:off x="3152880" y="22741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V="1">
                    <a:off x="2968920" y="22586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1" name=""/>
              <p:cNvSpPr/>
              <p:nvPr/>
            </p:nvSpPr>
            <p:spPr>
              <a:xfrm>
                <a:off x="1806840" y="2835000"/>
                <a:ext cx="113184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94080" y="2734920"/>
                <a:ext cx="21276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4000" y="2633400"/>
                <a:ext cx="43668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70240" y="2835000"/>
                <a:ext cx="43812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54200" y="4064040"/>
              <a:ext cx="2779560" cy="1679400"/>
              <a:chOff x="754200" y="4064040"/>
              <a:chExt cx="2779560" cy="1679400"/>
            </a:xfrm>
          </p:grpSpPr>
          <p:pic>
            <p:nvPicPr>
              <p:cNvPr id="106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2773440" y="406404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787680" y="455436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5400000">
                <a:off x="1132560" y="512352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1027800" y="52092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400000">
                <a:off x="1035720" y="49950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2908440" y="5021280"/>
                <a:ext cx="414360" cy="722160"/>
                <a:chOff x="2908440" y="5021280"/>
                <a:chExt cx="414360" cy="7221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908440" y="524988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2937240" y="5021280"/>
                  <a:ext cx="358560" cy="290160"/>
                  <a:chOff x="2937240" y="5021280"/>
                  <a:chExt cx="358560" cy="2901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V="1">
                    <a:off x="3121200" y="503676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V="1">
                    <a:off x="2937240" y="502128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6" name=""/>
              <p:cNvSpPr/>
              <p:nvPr/>
            </p:nvSpPr>
            <p:spPr>
              <a:xfrm>
                <a:off x="1774800" y="559728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562400" y="549756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62320" y="539568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38560" y="559728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: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gateway" descr=""/>
          <p:cNvPicPr/>
          <p:nvPr/>
        </p:nvPicPr>
        <p:blipFill>
          <a:blip r:embed="rId1"/>
          <a:stretch/>
        </p:blipFill>
        <p:spPr>
          <a:xfrm>
            <a:off x="5048280" y="217800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22" name="gateway" descr=""/>
          <p:cNvPicPr/>
          <p:nvPr/>
        </p:nvPicPr>
        <p:blipFill>
          <a:blip r:embed="rId2"/>
          <a:stretch/>
        </p:blipFill>
        <p:spPr>
          <a:xfrm>
            <a:off x="6219720" y="3035160"/>
            <a:ext cx="760680" cy="933480"/>
          </a:xfrm>
          <a:prstGeom prst="rect">
            <a:avLst/>
          </a:prstGeom>
          <a:ln w="0">
            <a:noFill/>
          </a:ln>
        </p:spPr>
      </p:pic>
      <p:pic>
        <p:nvPicPr>
          <p:cNvPr id="123" name="gateway" descr=""/>
          <p:cNvPicPr/>
          <p:nvPr/>
        </p:nvPicPr>
        <p:blipFill>
          <a:blip r:embed="rId3"/>
          <a:stretch/>
        </p:blipFill>
        <p:spPr>
          <a:xfrm>
            <a:off x="4713120" y="34909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5400000">
            <a:off x="5406120" y="18867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4956840" y="393120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410880" y="35614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agentred" descr=""/>
          <p:cNvPicPr/>
          <p:nvPr/>
        </p:nvPicPr>
        <p:blipFill>
          <a:blip r:embed="rId4"/>
          <a:stretch/>
        </p:blipFill>
        <p:spPr>
          <a:xfrm>
            <a:off x="7740720" y="229860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7897680" y="3065400"/>
            <a:ext cx="414360" cy="722160"/>
            <a:chOff x="7897680" y="3065400"/>
            <a:chExt cx="414360" cy="722160"/>
          </a:xfrm>
        </p:grpSpPr>
        <p:sp>
          <p:nvSpPr>
            <p:cNvPr id="129" name=""/>
            <p:cNvSpPr/>
            <p:nvPr/>
          </p:nvSpPr>
          <p:spPr>
            <a:xfrm>
              <a:off x="7897680" y="329400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7926480" y="3065400"/>
              <a:ext cx="358560" cy="290160"/>
              <a:chOff x="7926480" y="3065400"/>
              <a:chExt cx="358560" cy="2901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8110440" y="308088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926480" y="306540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 flipV="1">
            <a:off x="5234040" y="31208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457960" y="358092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748120" y="2952360"/>
            <a:ext cx="57132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7680" y="225900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35680" y="3639960"/>
            <a:ext cx="1054080" cy="29880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8400" y="3894120"/>
            <a:ext cx="1658880" cy="50652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53160" y="4606920"/>
            <a:ext cx="34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Ongoing research: market-based resource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95440" y="1301760"/>
            <a:ext cx="3119400" cy="4866120"/>
            <a:chOff x="595440" y="1301760"/>
            <a:chExt cx="3119400" cy="4866120"/>
          </a:xfrm>
        </p:grpSpPr>
        <p:grpSp>
          <p:nvGrpSpPr>
            <p:cNvPr id="141" name=""/>
            <p:cNvGrpSpPr/>
            <p:nvPr/>
          </p:nvGrpSpPr>
          <p:grpSpPr>
            <a:xfrm>
              <a:off x="765000" y="3952800"/>
              <a:ext cx="2779560" cy="1679400"/>
              <a:chOff x="765000" y="3952800"/>
              <a:chExt cx="2779560" cy="1679400"/>
            </a:xfrm>
          </p:grpSpPr>
          <p:pic>
            <p:nvPicPr>
              <p:cNvPr id="142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4240" y="395280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798480" y="444312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5400000">
                <a:off x="1143360" y="501228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5400000">
                <a:off x="1038600" y="50979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5400000">
                <a:off x="1046520" y="48837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2919240" y="4910040"/>
                <a:ext cx="414360" cy="722160"/>
                <a:chOff x="2919240" y="4910040"/>
                <a:chExt cx="414360" cy="7221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919240" y="51386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2948040" y="4910040"/>
                  <a:ext cx="358560" cy="290160"/>
                  <a:chOff x="2948040" y="4910040"/>
                  <a:chExt cx="358560" cy="2901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V="1">
                    <a:off x="3132000" y="49255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2948040" y="49100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2" name=""/>
              <p:cNvSpPr/>
              <p:nvPr/>
            </p:nvSpPr>
            <p:spPr>
              <a:xfrm>
                <a:off x="1785600" y="548604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573200" y="538632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73120" y="528444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49360" y="548604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97040" y="1301760"/>
              <a:ext cx="2714040" cy="1523520"/>
              <a:chOff x="797040" y="1301760"/>
              <a:chExt cx="2714040" cy="1523520"/>
            </a:xfrm>
          </p:grpSpPr>
          <p:pic>
            <p:nvPicPr>
              <p:cNvPr id="157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855720" y="1685880"/>
                <a:ext cx="75996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2814480" y="1301760"/>
                <a:ext cx="69660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 rot="5400000">
                <a:off x="1175400" y="220536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5400000">
                <a:off x="1071000" y="2291040"/>
                <a:ext cx="21204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5400000">
                <a:off x="1078560" y="207684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950920" y="2103120"/>
                <a:ext cx="414000" cy="722160"/>
                <a:chOff x="2950920" y="2103120"/>
                <a:chExt cx="414000" cy="722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950920" y="2331720"/>
                  <a:ext cx="41400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2979360" y="2103120"/>
                  <a:ext cx="358200" cy="290160"/>
                  <a:chOff x="2979360" y="2103120"/>
                  <a:chExt cx="358200" cy="2901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V="1">
                    <a:off x="3162960" y="211860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>
                    <a:off x="2979360" y="2103120"/>
                    <a:ext cx="35820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7" name=""/>
              <p:cNvSpPr/>
              <p:nvPr/>
            </p:nvSpPr>
            <p:spPr>
              <a:xfrm>
                <a:off x="1817640" y="2679480"/>
                <a:ext cx="113148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04880" y="2579400"/>
                <a:ext cx="21240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04800" y="2477880"/>
                <a:ext cx="43632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81040" y="2679480"/>
                <a:ext cx="43776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595440" y="2938320"/>
              <a:ext cx="311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Implemented hard limits, but not schedul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8080" y="5769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Other research grou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960" y="76320"/>
            <a:ext cx="814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’Agents: Protecting the mach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03720" y="2332080"/>
            <a:ext cx="239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. Authent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. Accept or re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. Resum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67480" y="11523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. open (tutorial.ppt, 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92200" y="3762360"/>
            <a:ext cx="3214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. Access request (read) and security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{owner, untrusted machines?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85000" y="3900600"/>
            <a:ext cx="14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. Yes / no / qua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18480" y="390060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7. If yes,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e managers for all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security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5360" y="3403440"/>
            <a:ext cx="177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ame filesystem manager (and same access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280" y="3973680"/>
            <a:ext cx="3111480" cy="219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at application level (with normal Tcl/Java sup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04:24:33Z</dcterms:created>
  <dc:creator>David Kotz</dc:creator>
  <dc:description/>
  <dc:language>en-US</dc:language>
  <cp:lastModifiedBy>David Kotz</cp:lastModifiedBy>
  <dcterms:modified xsi:type="dcterms:W3CDTF">1999-09-06T04:25:30Z</dcterms:modified>
  <cp:revision>1</cp:revision>
  <dc:subject/>
  <dc:title>No Slide Title</dc:title>
</cp:coreProperties>
</file>