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6.png" ContentType="image/png"/>
  <Override PartName="/ppt/media/image27.png" ContentType="image/png"/>
  <Override PartName="/ppt/media/image8.png" ContentType="image/png"/>
  <Override PartName="/ppt/media/image5.pct" ContentType="image/x-pict"/>
  <Override PartName="/ppt/media/image38.png" ContentType="image/png"/>
  <Override PartName="/ppt/media/image33.png" ContentType="image/png"/>
  <Override PartName="/ppt/media/image30.pct" ContentType="image/x-pict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14.png" ContentType="image/png"/>
  <Override PartName="/ppt/media/image28.pct" ContentType="image/x-pict"/>
  <Override PartName="/ppt/media/image2.png" ContentType="image/png"/>
  <Override PartName="/ppt/media/image62.pct" ContentType="image/x-pict"/>
  <Override PartName="/ppt/media/image61.pct" ContentType="image/x-pict"/>
  <Override PartName="/ppt/media/image17.png" ContentType="image/png"/>
  <Override PartName="/ppt/media/image11.jpeg" ContentType="image/jpeg"/>
  <Override PartName="/ppt/media/image24.png" ContentType="image/png"/>
  <Override PartName="/ppt/media/image25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31.png" ContentType="image/png"/>
  <Override PartName="/ppt/media/image22.png" ContentType="image/png"/>
  <Override PartName="/ppt/media/image59.png" ContentType="image/png"/>
  <Override PartName="/ppt/media/image10.pct" ContentType="image/x-pict"/>
  <Override PartName="/ppt/media/image1.png" ContentType="image/png"/>
  <Override PartName="/ppt/media/image13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9.pct" ContentType="image/x-pict"/>
  <Override PartName="/ppt/media/image35.png" ContentType="image/png"/>
  <Override PartName="/ppt/media/image39.png" ContentType="image/png"/>
  <Override PartName="/ppt/media/image54.pct" ContentType="image/x-pict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jpeg" ContentType="image/jpeg"/>
  <Override PartName="/ppt/media/image49.png" ContentType="image/png"/>
  <Override PartName="/ppt/media/image50.png" ContentType="image/png"/>
  <Override PartName="/ppt/media/image51.png" ContentType="image/png"/>
  <Override PartName="/ppt/media/image5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45A-8FDB-4402-9D0B-9E791586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894F-ACE1-4C83-9AF8-13D1D347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A0A8-E4AD-4221-B44C-FAC9EADD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79B1-3D47-4B0E-AD31-122E2723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DD5E-E53A-4672-9B9D-53232B2C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52AF-B0AF-42D5-A09D-2505093B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7B6-74CD-4A88-BA6B-1A427AED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AC9C-3D2E-433B-B904-09CE9D89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EA5-4AF1-4E54-BCF9-83C30C60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1EE2-1906-439B-A174-A36DAB6B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E6CF-0949-4471-97A3-0F79FBCD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50B-C57D-4395-AB1C-4C49DFE5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180C-67CD-4A36-9C11-F10D6E455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12.jpeg"/><Relationship Id="rId13" Type="http://schemas.openxmlformats.org/officeDocument/2006/relationships/image" Target="../media/image12.jpeg"/><Relationship Id="rId14" Type="http://schemas.openxmlformats.org/officeDocument/2006/relationships/image" Target="../media/image12.jpeg"/><Relationship Id="rId15" Type="http://schemas.openxmlformats.org/officeDocument/2006/relationships/image" Target="../media/image28.pct"/><Relationship Id="rId1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ct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pct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png"/><Relationship Id="rId3" Type="http://schemas.openxmlformats.org/officeDocument/2006/relationships/image" Target="../media/image11.jpe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1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1.png"/><Relationship Id="rId4" Type="http://schemas.openxmlformats.org/officeDocument/2006/relationships/image" Target="../media/image22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1.png"/><Relationship Id="rId10" Type="http://schemas.openxmlformats.org/officeDocument/2006/relationships/image" Target="../media/image22.png"/><Relationship Id="rId11" Type="http://schemas.openxmlformats.org/officeDocument/2006/relationships/image" Target="../media/image40.png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1.png"/><Relationship Id="rId3" Type="http://schemas.openxmlformats.org/officeDocument/2006/relationships/image" Target="../media/image16.png"/><Relationship Id="rId4" Type="http://schemas.openxmlformats.org/officeDocument/2006/relationships/image" Target="../media/image42.png"/><Relationship Id="rId5" Type="http://schemas.openxmlformats.org/officeDocument/2006/relationships/image" Target="../media/image3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7.png"/><Relationship Id="rId3" Type="http://schemas.openxmlformats.org/officeDocument/2006/relationships/image" Target="../media/image56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1.pct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pct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almond.srv.cs.cmu.edu/afs/cs.cmu.edu/project/oz/web/overview2.html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s, Mobile Agents,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nd D’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vid Kot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partment of Computer Scie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rtmouth Colle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fk@cs.dartmouth.ed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4673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RL, Rome 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ptember 7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85040" y="5043600"/>
            <a:ext cx="2658960" cy="18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4600" y="5076720"/>
            <a:ext cx="1579680" cy="1631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41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gram (“software agent”), e.g.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 assistant (mail filter, schedulin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agent (tactical picture agen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-commerce agent (stock trader, bidder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mendation agent (Firefly, Amazon.com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gram that c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act with users, applications, and ag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laborate with the us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ftware agents help with repetitive task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3BBD-0F0D-41BD-9FEE-3B8CF2BA4D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s everything an “agent”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 all programs are ag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s a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iz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onomou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apt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566040" y="1987560"/>
            <a:ext cx="1638000" cy="394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461B-6D19-44E9-BB63-3CCDD51F5F6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bile 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984400" y="1460520"/>
          <a:ext cx="317520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0" y="1460520"/>
                    <a:ext cx="31752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7B39-9CF7-4008-BBCA-80C15A4F3F8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 mobile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9400" y="3267000"/>
            <a:ext cx="1703520" cy="5144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38292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382920" y="30952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67940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0520" y="258120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064040" y="2580840"/>
            <a:ext cx="0" cy="514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8292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82920" y="30952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67940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0520" y="258120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064040" y="2580840"/>
            <a:ext cx="0" cy="514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gentred" descr=""/>
          <p:cNvPicPr/>
          <p:nvPr/>
        </p:nvPicPr>
        <p:blipFill>
          <a:blip r:embed="rId1"/>
          <a:stretch/>
        </p:blipFill>
        <p:spPr>
          <a:xfrm>
            <a:off x="2060640" y="22240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956120" y="3267000"/>
            <a:ext cx="1701720" cy="5144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65784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657840" y="30952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956120" y="258084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7240" y="2581200"/>
            <a:ext cx="1701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338960" y="2580840"/>
            <a:ext cx="0" cy="51444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agentred" descr=""/>
          <p:cNvPicPr/>
          <p:nvPr/>
        </p:nvPicPr>
        <p:blipFill>
          <a:blip r:embed="rId2"/>
          <a:stretch/>
        </p:blipFill>
        <p:spPr>
          <a:xfrm>
            <a:off x="5318280" y="22240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480000" y="19620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39600" y="1886040"/>
            <a:ext cx="9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237360" y="2356920"/>
            <a:ext cx="609480" cy="381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9920" y="211464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89440" y="2724120"/>
            <a:ext cx="22860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51400" y="2876400"/>
            <a:ext cx="18288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2960" y="4376880"/>
            <a:ext cx="74833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obile agent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rates from machine to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heterogeneou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imes of its own choosing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8A7-AFCF-4AB2-AE45-8E117F88E8B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1430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00240" y="2438280"/>
            <a:ext cx="2152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and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57040" y="1457280"/>
            <a:ext cx="4038480" cy="914400"/>
            <a:chOff x="257040" y="1457280"/>
            <a:chExt cx="4038480" cy="914400"/>
          </a:xfrm>
        </p:grpSpPr>
        <p:sp>
          <p:nvSpPr>
            <p:cNvPr id="121" name=""/>
            <p:cNvSpPr/>
            <p:nvPr/>
          </p:nvSpPr>
          <p:spPr>
            <a:xfrm>
              <a:off x="25704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6672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976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4760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66520" y="1990800"/>
              <a:ext cx="2286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592640" y="5326200"/>
            <a:ext cx="136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704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6708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012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4796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66880" y="3865680"/>
            <a:ext cx="2209680" cy="939600"/>
          </a:xfrm>
          <a:custGeom>
            <a:avLst/>
            <a:gdLst/>
            <a:ahLst/>
            <a:rect l="l" t="t" r="r" b="b"/>
            <a:pathLst>
              <a:path w="1392" h="592">
                <a:moveTo>
                  <a:pt x="0" y="584"/>
                </a:moveTo>
                <a:cubicBezTo>
                  <a:pt x="144" y="584"/>
                  <a:pt x="288" y="584"/>
                  <a:pt x="384" y="584"/>
                </a:cubicBezTo>
                <a:cubicBezTo>
                  <a:pt x="480" y="584"/>
                  <a:pt x="504" y="584"/>
                  <a:pt x="576" y="584"/>
                </a:cubicBezTo>
                <a:cubicBezTo>
                  <a:pt x="648" y="584"/>
                  <a:pt x="760" y="592"/>
                  <a:pt x="816" y="584"/>
                </a:cubicBezTo>
                <a:cubicBezTo>
                  <a:pt x="872" y="576"/>
                  <a:pt x="880" y="560"/>
                  <a:pt x="912" y="536"/>
                </a:cubicBezTo>
                <a:cubicBezTo>
                  <a:pt x="944" y="512"/>
                  <a:pt x="984" y="472"/>
                  <a:pt x="1008" y="440"/>
                </a:cubicBezTo>
                <a:cubicBezTo>
                  <a:pt x="1032" y="408"/>
                  <a:pt x="1048" y="384"/>
                  <a:pt x="1056" y="344"/>
                </a:cubicBezTo>
                <a:cubicBezTo>
                  <a:pt x="1064" y="304"/>
                  <a:pt x="1048" y="248"/>
                  <a:pt x="1056" y="200"/>
                </a:cubicBezTo>
                <a:cubicBezTo>
                  <a:pt x="1064" y="152"/>
                  <a:pt x="1080" y="88"/>
                  <a:pt x="1104" y="56"/>
                </a:cubicBezTo>
                <a:cubicBezTo>
                  <a:pt x="1128" y="24"/>
                  <a:pt x="1168" y="16"/>
                  <a:pt x="1200" y="8"/>
                </a:cubicBezTo>
                <a:cubicBezTo>
                  <a:pt x="1232" y="0"/>
                  <a:pt x="1272" y="0"/>
                  <a:pt x="1296" y="8"/>
                </a:cubicBezTo>
                <a:cubicBezTo>
                  <a:pt x="1320" y="16"/>
                  <a:pt x="1328" y="24"/>
                  <a:pt x="1344" y="56"/>
                </a:cubicBezTo>
                <a:cubicBezTo>
                  <a:pt x="1360" y="88"/>
                  <a:pt x="1376" y="144"/>
                  <a:pt x="1392" y="20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6160" y="2819520"/>
            <a:ext cx="2596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emote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1508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2476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0564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5040" y="17859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133720"/>
            <a:ext cx="857520" cy="637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91240" y="190512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720" y="0"/>
                </a:moveTo>
                <a:cubicBezTo>
                  <a:pt x="612" y="116"/>
                  <a:pt x="504" y="232"/>
                  <a:pt x="384" y="288"/>
                </a:cubicBezTo>
                <a:cubicBezTo>
                  <a:pt x="264" y="344"/>
                  <a:pt x="64" y="328"/>
                  <a:pt x="0" y="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91240" y="1752480"/>
            <a:ext cx="1308240" cy="952560"/>
          </a:xfrm>
          <a:custGeom>
            <a:avLst/>
            <a:gdLst/>
            <a:ahLst/>
            <a:rect l="l" t="t" r="r" b="b"/>
            <a:pathLst>
              <a:path w="824" h="600">
                <a:moveTo>
                  <a:pt x="816" y="0"/>
                </a:moveTo>
                <a:cubicBezTo>
                  <a:pt x="820" y="144"/>
                  <a:pt x="824" y="288"/>
                  <a:pt x="768" y="384"/>
                </a:cubicBezTo>
                <a:cubicBezTo>
                  <a:pt x="712" y="480"/>
                  <a:pt x="608" y="552"/>
                  <a:pt x="480" y="576"/>
                </a:cubicBezTo>
                <a:cubicBezTo>
                  <a:pt x="352" y="600"/>
                  <a:pt x="176" y="564"/>
                  <a:pt x="0" y="5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4720" y="5486400"/>
            <a:ext cx="2960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 remote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no 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1508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2476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0564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5040" y="44337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591240" y="4552920"/>
            <a:ext cx="304920" cy="8380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19840" y="4552920"/>
            <a:ext cx="9144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576" y="0"/>
                </a:moveTo>
                <a:cubicBezTo>
                  <a:pt x="528" y="76"/>
                  <a:pt x="480" y="152"/>
                  <a:pt x="384" y="192"/>
                </a:cubicBezTo>
                <a:cubicBezTo>
                  <a:pt x="288" y="232"/>
                  <a:pt x="144" y="236"/>
                  <a:pt x="0" y="24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67360" y="4400640"/>
            <a:ext cx="1067040" cy="863640"/>
          </a:xfrm>
          <a:custGeom>
            <a:avLst/>
            <a:gdLst/>
            <a:ahLst/>
            <a:rect l="l" t="t" r="r" b="b"/>
            <a:pathLst>
              <a:path w="672" h="544">
                <a:moveTo>
                  <a:pt x="624" y="0"/>
                </a:moveTo>
                <a:cubicBezTo>
                  <a:pt x="648" y="148"/>
                  <a:pt x="672" y="296"/>
                  <a:pt x="624" y="384"/>
                </a:cubicBezTo>
                <a:cubicBezTo>
                  <a:pt x="576" y="472"/>
                  <a:pt x="440" y="512"/>
                  <a:pt x="336" y="528"/>
                </a:cubicBezTo>
                <a:cubicBezTo>
                  <a:pt x="232" y="544"/>
                  <a:pt x="116" y="512"/>
                  <a:pt x="0" y="48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95920" y="4724280"/>
            <a:ext cx="857160" cy="6382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4A9B-FB5B-47E3-981C-9D7681FA874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68480" y="1989000"/>
            <a:ext cx="4492800" cy="338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360" y="1965240"/>
            <a:ext cx="14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trong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287640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trong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o 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0360" y="3789360"/>
            <a:ext cx="148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eak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9640" y="470232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eak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o remote re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17640" y="14875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16600" y="1487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52680" y="1486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52760" y="199872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43520" y="200664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2600" y="2852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67040" y="369396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74960" y="4535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8200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9112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82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9112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88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9112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91120" y="4716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33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33120" y="3041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39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39120" y="3884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3440" y="2098800"/>
            <a:ext cx="12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l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55680" y="304164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92200" y="38862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l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40280" y="4716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c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D794-F3B8-4FAC-BF14-933654000F8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pplication: Technical repor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82" name="smart" descr=""/>
          <p:cNvPicPr/>
          <p:nvPr/>
        </p:nvPicPr>
        <p:blipFill>
          <a:blip r:embed="rId1"/>
          <a:stretch/>
        </p:blipFill>
        <p:spPr>
          <a:xfrm>
            <a:off x="1219320" y="1108080"/>
            <a:ext cx="4038480" cy="2320920"/>
          </a:xfrm>
          <a:prstGeom prst="rect">
            <a:avLst/>
          </a:prstGeom>
          <a:ln w="0">
            <a:noFill/>
          </a:ln>
        </p:spPr>
      </p:pic>
      <p:pic>
        <p:nvPicPr>
          <p:cNvPr id="183" name="list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2433600" cy="2438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657600" y="508644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agentred" descr=""/>
          <p:cNvPicPr/>
          <p:nvPr/>
        </p:nvPicPr>
        <p:blipFill>
          <a:blip r:embed="rId3"/>
          <a:stretch/>
        </p:blipFill>
        <p:spPr>
          <a:xfrm>
            <a:off x="3908520" y="485784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89520" y="5603760"/>
            <a:ext cx="246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ynamically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55720" y="29606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5880" y="3440160"/>
            <a:ext cx="772920" cy="1400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80840" y="37656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Send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9960" y="5160960"/>
            <a:ext cx="22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Return merged and filter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49320" y="4638600"/>
            <a:ext cx="2016360" cy="71928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280" y="1297080"/>
            <a:ext cx="110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UI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om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015320" y="1601640"/>
            <a:ext cx="1846080" cy="4586760"/>
            <a:chOff x="7015320" y="1601640"/>
            <a:chExt cx="1846080" cy="4586760"/>
          </a:xfrm>
        </p:grpSpPr>
        <p:sp>
          <p:nvSpPr>
            <p:cNvPr id="194" name=""/>
            <p:cNvSpPr/>
            <p:nvPr/>
          </p:nvSpPr>
          <p:spPr>
            <a:xfrm>
              <a:off x="7270560" y="5789520"/>
              <a:ext cx="13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achine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7015320" y="4791240"/>
              <a:ext cx="1828800" cy="969840"/>
              <a:chOff x="7015320" y="4791240"/>
              <a:chExt cx="1828800" cy="969840"/>
            </a:xfrm>
          </p:grpSpPr>
          <p:sp>
            <p:nvSpPr>
              <p:cNvPr id="196" name=""/>
              <p:cNvSpPr/>
              <p:nvPr/>
            </p:nvSpPr>
            <p:spPr>
              <a:xfrm>
                <a:off x="7015320" y="5227920"/>
                <a:ext cx="1828800" cy="533160"/>
              </a:xfrm>
              <a:prstGeom prst="parallelogram">
                <a:avLst>
                  <a:gd name="adj" fmla="val 10555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974360" y="4791240"/>
                <a:ext cx="684000" cy="59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8" name="agentred" descr=""/>
              <p:cNvPicPr/>
              <p:nvPr/>
            </p:nvPicPr>
            <p:blipFill>
              <a:blip r:embed="rId4"/>
              <a:stretch/>
            </p:blipFill>
            <p:spPr>
              <a:xfrm>
                <a:off x="7216920" y="5267520"/>
                <a:ext cx="430200" cy="44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9" name=""/>
            <p:cNvGrpSpPr/>
            <p:nvPr/>
          </p:nvGrpSpPr>
          <p:grpSpPr>
            <a:xfrm>
              <a:off x="7032600" y="1601640"/>
              <a:ext cx="1828800" cy="1375200"/>
              <a:chOff x="7032600" y="1601640"/>
              <a:chExt cx="1828800" cy="1375200"/>
            </a:xfrm>
          </p:grpSpPr>
          <p:sp>
            <p:nvSpPr>
              <p:cNvPr id="200" name=""/>
              <p:cNvSpPr/>
              <p:nvPr/>
            </p:nvSpPr>
            <p:spPr>
              <a:xfrm>
                <a:off x="7286040" y="2577960"/>
                <a:ext cx="132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Machine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7032600" y="1601640"/>
                <a:ext cx="1828800" cy="960120"/>
                <a:chOff x="7032600" y="1601640"/>
                <a:chExt cx="1828800" cy="9601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7032600" y="2028600"/>
                  <a:ext cx="1828800" cy="533160"/>
                </a:xfrm>
                <a:prstGeom prst="parallelogram">
                  <a:avLst>
                    <a:gd name="adj" fmla="val 105555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011800" y="1601640"/>
                  <a:ext cx="684360" cy="593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4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54720" y="2068200"/>
                  <a:ext cx="430200" cy="44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05" name=""/>
          <p:cNvSpPr/>
          <p:nvPr/>
        </p:nvSpPr>
        <p:spPr>
          <a:xfrm>
            <a:off x="7550640" y="3429000"/>
            <a:ext cx="10947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594320" y="2521080"/>
            <a:ext cx="2644560" cy="2420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83160" y="4997520"/>
            <a:ext cx="2611440" cy="393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49880" y="4254480"/>
            <a:ext cx="24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Send child agents / collect partial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710480" y="200484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664400" y="519876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5DFF-BDEF-440E-8FDC-E1B55BBE3AF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96920" y="1042920"/>
            <a:ext cx="4919760" cy="5214960"/>
          </a:xfrm>
          <a:custGeom>
            <a:avLst/>
            <a:gdLst/>
            <a:ahLst/>
            <a:rect l="l" t="t" r="r" b="b"/>
            <a:pathLst>
              <a:path w="3099" h="3285">
                <a:moveTo>
                  <a:pt x="2277" y="8"/>
                </a:moveTo>
                <a:cubicBezTo>
                  <a:pt x="2068" y="15"/>
                  <a:pt x="1657" y="7"/>
                  <a:pt x="1462" y="121"/>
                </a:cubicBezTo>
                <a:cubicBezTo>
                  <a:pt x="1266" y="234"/>
                  <a:pt x="1243" y="529"/>
                  <a:pt x="1103" y="689"/>
                </a:cubicBezTo>
                <a:cubicBezTo>
                  <a:pt x="962" y="848"/>
                  <a:pt x="772" y="988"/>
                  <a:pt x="617" y="1078"/>
                </a:cubicBezTo>
                <a:cubicBezTo>
                  <a:pt x="461" y="1167"/>
                  <a:pt x="250" y="1061"/>
                  <a:pt x="169" y="1227"/>
                </a:cubicBezTo>
                <a:cubicBezTo>
                  <a:pt x="88" y="1392"/>
                  <a:pt x="0" y="1891"/>
                  <a:pt x="131" y="2072"/>
                </a:cubicBezTo>
                <a:cubicBezTo>
                  <a:pt x="261" y="2252"/>
                  <a:pt x="768" y="2176"/>
                  <a:pt x="954" y="2311"/>
                </a:cubicBezTo>
                <a:cubicBezTo>
                  <a:pt x="1139" y="2445"/>
                  <a:pt x="1110" y="2730"/>
                  <a:pt x="1246" y="2880"/>
                </a:cubicBezTo>
                <a:cubicBezTo>
                  <a:pt x="1381" y="3029"/>
                  <a:pt x="1537" y="3155"/>
                  <a:pt x="1769" y="3209"/>
                </a:cubicBezTo>
                <a:cubicBezTo>
                  <a:pt x="2000" y="3262"/>
                  <a:pt x="2426" y="3285"/>
                  <a:pt x="2636" y="3201"/>
                </a:cubicBezTo>
                <a:cubicBezTo>
                  <a:pt x="2845" y="3116"/>
                  <a:pt x="2950" y="2942"/>
                  <a:pt x="3025" y="2700"/>
                </a:cubicBezTo>
                <a:cubicBezTo>
                  <a:pt x="3099" y="2457"/>
                  <a:pt x="3083" y="2120"/>
                  <a:pt x="3085" y="1743"/>
                </a:cubicBezTo>
                <a:cubicBezTo>
                  <a:pt x="3086" y="1365"/>
                  <a:pt x="3094" y="712"/>
                  <a:pt x="3032" y="435"/>
                </a:cubicBezTo>
                <a:cubicBezTo>
                  <a:pt x="2969" y="157"/>
                  <a:pt x="2836" y="145"/>
                  <a:pt x="2711" y="76"/>
                </a:cubicBezTo>
                <a:cubicBezTo>
                  <a:pt x="2585" y="6"/>
                  <a:pt x="2485" y="0"/>
                  <a:pt x="2277" y="8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RPC vs. Mobil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3040" y="55166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chin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548160" y="4518000"/>
            <a:ext cx="1828800" cy="969840"/>
            <a:chOff x="3548160" y="4518000"/>
            <a:chExt cx="1828800" cy="969840"/>
          </a:xfrm>
        </p:grpSpPr>
        <p:sp>
          <p:nvSpPr>
            <p:cNvPr id="215" name=""/>
            <p:cNvSpPr/>
            <p:nvPr/>
          </p:nvSpPr>
          <p:spPr>
            <a:xfrm>
              <a:off x="3548160" y="495468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07200" y="451800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agentred" descr=""/>
            <p:cNvPicPr/>
            <p:nvPr/>
          </p:nvPicPr>
          <p:blipFill>
            <a:blip r:embed="rId1"/>
            <a:stretch/>
          </p:blipFill>
          <p:spPr>
            <a:xfrm>
              <a:off x="3749760" y="499428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"/>
          <p:cNvGrpSpPr/>
          <p:nvPr/>
        </p:nvGrpSpPr>
        <p:grpSpPr>
          <a:xfrm>
            <a:off x="3565440" y="1328760"/>
            <a:ext cx="1828800" cy="1374840"/>
            <a:chOff x="3565440" y="1328760"/>
            <a:chExt cx="1828800" cy="1374840"/>
          </a:xfrm>
        </p:grpSpPr>
        <p:sp>
          <p:nvSpPr>
            <p:cNvPr id="219" name=""/>
            <p:cNvSpPr/>
            <p:nvPr/>
          </p:nvSpPr>
          <p:spPr>
            <a:xfrm>
              <a:off x="3818880" y="2304720"/>
              <a:ext cx="13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achin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565440" y="1328760"/>
              <a:ext cx="1828800" cy="960120"/>
              <a:chOff x="3565440" y="1328760"/>
              <a:chExt cx="1828800" cy="960120"/>
            </a:xfrm>
          </p:grpSpPr>
          <p:sp>
            <p:nvSpPr>
              <p:cNvPr id="221" name=""/>
              <p:cNvSpPr/>
              <p:nvPr/>
            </p:nvSpPr>
            <p:spPr>
              <a:xfrm>
                <a:off x="3565440" y="1755720"/>
                <a:ext cx="1828800" cy="533160"/>
              </a:xfrm>
              <a:prstGeom prst="parallelogram">
                <a:avLst>
                  <a:gd name="adj" fmla="val 10555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544640" y="1328760"/>
                <a:ext cx="684360" cy="59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3" name="agentred" descr=""/>
              <p:cNvPicPr/>
              <p:nvPr/>
            </p:nvPicPr>
            <p:blipFill>
              <a:blip r:embed="rId2"/>
              <a:stretch/>
            </p:blipFill>
            <p:spPr>
              <a:xfrm>
                <a:off x="3787560" y="1795320"/>
                <a:ext cx="430200" cy="444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4" name=""/>
          <p:cNvSpPr/>
          <p:nvPr/>
        </p:nvSpPr>
        <p:spPr>
          <a:xfrm flipV="1">
            <a:off x="4243320" y="1731960"/>
            <a:ext cx="547920" cy="247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197240" y="4925520"/>
            <a:ext cx="538200" cy="25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93240" y="37940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chin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438360" y="2795760"/>
            <a:ext cx="1828800" cy="969840"/>
            <a:chOff x="3438360" y="2795760"/>
            <a:chExt cx="1828800" cy="969840"/>
          </a:xfrm>
        </p:grpSpPr>
        <p:sp>
          <p:nvSpPr>
            <p:cNvPr id="228" name=""/>
            <p:cNvSpPr/>
            <p:nvPr/>
          </p:nvSpPr>
          <p:spPr>
            <a:xfrm>
              <a:off x="3438360" y="32324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97400" y="279576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0" name="agentred" descr=""/>
            <p:cNvPicPr/>
            <p:nvPr/>
          </p:nvPicPr>
          <p:blipFill>
            <a:blip r:embed="rId3"/>
            <a:stretch/>
          </p:blipFill>
          <p:spPr>
            <a:xfrm>
              <a:off x="3639960" y="32720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 flipV="1">
            <a:off x="4087800" y="3203280"/>
            <a:ext cx="538200" cy="258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58800" y="298944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70200" y="3456000"/>
            <a:ext cx="1057320" cy="414360"/>
          </a:xfrm>
          <a:prstGeom prst="parallelogram">
            <a:avLst>
              <a:gd name="adj" fmla="val 785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agentred" descr=""/>
          <p:cNvPicPr/>
          <p:nvPr/>
        </p:nvPicPr>
        <p:blipFill>
          <a:blip r:embed="rId4"/>
          <a:stretch/>
        </p:blipFill>
        <p:spPr>
          <a:xfrm>
            <a:off x="2201760" y="3389400"/>
            <a:ext cx="430200" cy="444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7459560" y="2784600"/>
            <a:ext cx="1208160" cy="14796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431640" y="4976640"/>
            <a:ext cx="1016280" cy="1243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618080" y="1722600"/>
            <a:ext cx="3073320" cy="1434960"/>
          </a:xfrm>
          <a:custGeom>
            <a:avLst/>
            <a:gdLst/>
            <a:ahLst/>
            <a:rect l="l" t="t" r="r" b="b"/>
            <a:pathLst>
              <a:path w="1936" h="904">
                <a:moveTo>
                  <a:pt x="1936" y="904"/>
                </a:moveTo>
                <a:cubicBezTo>
                  <a:pt x="1744" y="570"/>
                  <a:pt x="1553" y="237"/>
                  <a:pt x="1263" y="119"/>
                </a:cubicBezTo>
                <a:cubicBezTo>
                  <a:pt x="972" y="0"/>
                  <a:pt x="387" y="177"/>
                  <a:pt x="194" y="194"/>
                </a:cubicBezTo>
                <a:cubicBezTo>
                  <a:pt x="0" y="210"/>
                  <a:pt x="52" y="213"/>
                  <a:pt x="104" y="216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2124000"/>
            <a:ext cx="2789280" cy="1152720"/>
          </a:xfrm>
          <a:custGeom>
            <a:avLst/>
            <a:gdLst/>
            <a:ahLst/>
            <a:rect l="l" t="t" r="r" b="b"/>
            <a:pathLst>
              <a:path w="1757" h="726">
                <a:moveTo>
                  <a:pt x="0" y="0"/>
                </a:moveTo>
                <a:cubicBezTo>
                  <a:pt x="302" y="209"/>
                  <a:pt x="604" y="418"/>
                  <a:pt x="897" y="539"/>
                </a:cubicBezTo>
                <a:cubicBezTo>
                  <a:pt x="1189" y="660"/>
                  <a:pt x="1613" y="693"/>
                  <a:pt x="1757" y="726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7080" y="3095640"/>
            <a:ext cx="2754360" cy="477720"/>
          </a:xfrm>
          <a:custGeom>
            <a:avLst/>
            <a:gdLst/>
            <a:ahLst/>
            <a:rect l="l" t="t" r="r" b="b"/>
            <a:pathLst>
              <a:path w="1690" h="324">
                <a:moveTo>
                  <a:pt x="1690" y="324"/>
                </a:moveTo>
                <a:cubicBezTo>
                  <a:pt x="1385" y="178"/>
                  <a:pt x="1081" y="33"/>
                  <a:pt x="800" y="17"/>
                </a:cubicBezTo>
                <a:cubicBezTo>
                  <a:pt x="518" y="0"/>
                  <a:pt x="259" y="113"/>
                  <a:pt x="0" y="227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84760" y="3467160"/>
            <a:ext cx="2705040" cy="736560"/>
          </a:xfrm>
          <a:custGeom>
            <a:avLst/>
            <a:gdLst/>
            <a:ahLst/>
            <a:rect l="l" t="t" r="r" b="b"/>
            <a:pathLst>
              <a:path w="1712" h="367">
                <a:moveTo>
                  <a:pt x="0" y="0"/>
                </a:moveTo>
                <a:cubicBezTo>
                  <a:pt x="309" y="160"/>
                  <a:pt x="618" y="320"/>
                  <a:pt x="904" y="344"/>
                </a:cubicBezTo>
                <a:cubicBezTo>
                  <a:pt x="1189" y="367"/>
                  <a:pt x="1450" y="254"/>
                  <a:pt x="1712" y="142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38640" y="4154400"/>
            <a:ext cx="2766960" cy="1044720"/>
          </a:xfrm>
          <a:custGeom>
            <a:avLst/>
            <a:gdLst/>
            <a:ahLst/>
            <a:rect l="l" t="t" r="r" b="b"/>
            <a:pathLst>
              <a:path w="1743" h="658">
                <a:moveTo>
                  <a:pt x="1743" y="0"/>
                </a:moveTo>
                <a:cubicBezTo>
                  <a:pt x="1480" y="203"/>
                  <a:pt x="1218" y="406"/>
                  <a:pt x="928" y="516"/>
                </a:cubicBezTo>
                <a:cubicBezTo>
                  <a:pt x="637" y="625"/>
                  <a:pt x="318" y="641"/>
                  <a:pt x="0" y="658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56200" y="4154400"/>
            <a:ext cx="3043080" cy="1494000"/>
          </a:xfrm>
          <a:custGeom>
            <a:avLst/>
            <a:gdLst/>
            <a:ahLst/>
            <a:rect l="l" t="t" r="r" b="b"/>
            <a:pathLst>
              <a:path w="1917" h="986">
                <a:moveTo>
                  <a:pt x="0" y="710"/>
                </a:moveTo>
                <a:cubicBezTo>
                  <a:pt x="309" y="848"/>
                  <a:pt x="619" y="986"/>
                  <a:pt x="912" y="965"/>
                </a:cubicBezTo>
                <a:cubicBezTo>
                  <a:pt x="1204" y="943"/>
                  <a:pt x="1596" y="743"/>
                  <a:pt x="1757" y="583"/>
                </a:cubicBezTo>
                <a:cubicBezTo>
                  <a:pt x="1917" y="422"/>
                  <a:pt x="1897" y="211"/>
                  <a:pt x="1877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52920" y="1542960"/>
            <a:ext cx="188316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requ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ts of roundtr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77000" y="1555920"/>
            <a:ext cx="606600" cy="4995720"/>
          </a:xfrm>
          <a:prstGeom prst="ellipse">
            <a:avLst/>
          </a:prstGeom>
          <a:solidFill>
            <a:srgbClr val="ccffff">
              <a:alpha val="50000"/>
            </a:srgbClr>
          </a:solidFill>
          <a:ln cap="rnd" w="3816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6589080" y="57675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ir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9206000">
            <a:off x="1366920" y="3454200"/>
            <a:ext cx="606240" cy="3052440"/>
          </a:xfrm>
          <a:prstGeom prst="ellipse">
            <a:avLst/>
          </a:prstGeom>
          <a:solidFill>
            <a:srgbClr val="ccffff">
              <a:alpha val="50000"/>
            </a:srgbClr>
          </a:solidFill>
          <a:ln cap="rnd" w="3816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700000">
            <a:off x="554760" y="4097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ir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82680" y="3822840"/>
            <a:ext cx="1496880" cy="2028600"/>
          </a:xfrm>
          <a:custGeom>
            <a:avLst/>
            <a:gdLst/>
            <a:ahLst/>
            <a:rect l="l" t="t" r="r" b="b"/>
            <a:pathLst>
              <a:path w="943" h="1278">
                <a:moveTo>
                  <a:pt x="0" y="1278"/>
                </a:moveTo>
                <a:cubicBezTo>
                  <a:pt x="335" y="1130"/>
                  <a:pt x="670" y="982"/>
                  <a:pt x="807" y="770"/>
                </a:cubicBezTo>
                <a:cubicBezTo>
                  <a:pt x="943" y="557"/>
                  <a:pt x="882" y="278"/>
                  <a:pt x="822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28760" y="3833640"/>
            <a:ext cx="1087560" cy="1852920"/>
          </a:xfrm>
          <a:custGeom>
            <a:avLst/>
            <a:gdLst/>
            <a:ahLst/>
            <a:rect l="l" t="t" r="r" b="b"/>
            <a:pathLst>
              <a:path w="685" h="1167">
                <a:moveTo>
                  <a:pt x="658" y="0"/>
                </a:moveTo>
                <a:cubicBezTo>
                  <a:pt x="671" y="250"/>
                  <a:pt x="685" y="501"/>
                  <a:pt x="576" y="696"/>
                </a:cubicBezTo>
                <a:cubicBezTo>
                  <a:pt x="466" y="890"/>
                  <a:pt x="233" y="1028"/>
                  <a:pt x="0" y="1167"/>
                </a:cubicBezTo>
              </a:path>
            </a:pathLst>
          </a:custGeom>
          <a:noFill/>
          <a:ln w="572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76560" y="1900080"/>
            <a:ext cx="1031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720" y="626436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agent moves across wireless only tw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35200" y="2184480"/>
            <a:ext cx="1163520" cy="1328760"/>
          </a:xfrm>
          <a:custGeom>
            <a:avLst/>
            <a:gdLst/>
            <a:ahLst/>
            <a:rect l="l" t="t" r="r" b="b"/>
            <a:pathLst>
              <a:path w="733" h="837">
                <a:moveTo>
                  <a:pt x="0" y="837"/>
                </a:moveTo>
                <a:cubicBezTo>
                  <a:pt x="159" y="802"/>
                  <a:pt x="318" y="767"/>
                  <a:pt x="441" y="628"/>
                </a:cubicBezTo>
                <a:cubicBezTo>
                  <a:pt x="563" y="488"/>
                  <a:pt x="648" y="244"/>
                  <a:pt x="733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98840" y="2089080"/>
            <a:ext cx="1176120" cy="1317600"/>
          </a:xfrm>
          <a:custGeom>
            <a:avLst/>
            <a:gdLst/>
            <a:ahLst/>
            <a:rect l="l" t="t" r="r" b="b"/>
            <a:pathLst>
              <a:path w="741" h="830">
                <a:moveTo>
                  <a:pt x="741" y="0"/>
                </a:moveTo>
                <a:cubicBezTo>
                  <a:pt x="600" y="151"/>
                  <a:pt x="460" y="302"/>
                  <a:pt x="337" y="441"/>
                </a:cubicBezTo>
                <a:cubicBezTo>
                  <a:pt x="213" y="579"/>
                  <a:pt x="106" y="704"/>
                  <a:pt x="0" y="83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22600" y="3475080"/>
            <a:ext cx="1009440" cy="146160"/>
          </a:xfrm>
          <a:custGeom>
            <a:avLst/>
            <a:gdLst/>
            <a:ahLst/>
            <a:rect l="l" t="t" r="r" b="b"/>
            <a:pathLst>
              <a:path w="636" h="92">
                <a:moveTo>
                  <a:pt x="0" y="92"/>
                </a:moveTo>
                <a:cubicBezTo>
                  <a:pt x="168" y="54"/>
                  <a:pt x="336" y="17"/>
                  <a:pt x="442" y="9"/>
                </a:cubicBezTo>
                <a:cubicBezTo>
                  <a:pt x="548" y="0"/>
                  <a:pt x="605" y="30"/>
                  <a:pt x="636" y="39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22600" y="3656160"/>
            <a:ext cx="1009440" cy="180720"/>
          </a:xfrm>
          <a:custGeom>
            <a:avLst/>
            <a:gdLst/>
            <a:ahLst/>
            <a:rect l="l" t="t" r="r" b="b"/>
            <a:pathLst>
              <a:path w="636" h="114">
                <a:moveTo>
                  <a:pt x="636" y="15"/>
                </a:moveTo>
                <a:cubicBezTo>
                  <a:pt x="539" y="64"/>
                  <a:pt x="443" y="114"/>
                  <a:pt x="337" y="112"/>
                </a:cubicBezTo>
                <a:cubicBezTo>
                  <a:pt x="231" y="109"/>
                  <a:pt x="53" y="15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11440" y="3762360"/>
            <a:ext cx="1332000" cy="1211400"/>
          </a:xfrm>
          <a:custGeom>
            <a:avLst/>
            <a:gdLst/>
            <a:ahLst/>
            <a:rect l="l" t="t" r="r" b="b"/>
            <a:pathLst>
              <a:path w="839" h="763">
                <a:moveTo>
                  <a:pt x="0" y="0"/>
                </a:moveTo>
                <a:cubicBezTo>
                  <a:pt x="283" y="142"/>
                  <a:pt x="566" y="284"/>
                  <a:pt x="703" y="412"/>
                </a:cubicBezTo>
                <a:cubicBezTo>
                  <a:pt x="839" y="539"/>
                  <a:pt x="830" y="651"/>
                  <a:pt x="822" y="763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35200" y="3846600"/>
            <a:ext cx="1103400" cy="1317600"/>
          </a:xfrm>
          <a:custGeom>
            <a:avLst/>
            <a:gdLst/>
            <a:ahLst/>
            <a:rect l="l" t="t" r="r" b="b"/>
            <a:pathLst>
              <a:path w="695" h="830">
                <a:moveTo>
                  <a:pt x="695" y="830"/>
                </a:moveTo>
                <a:cubicBezTo>
                  <a:pt x="592" y="723"/>
                  <a:pt x="489" y="616"/>
                  <a:pt x="374" y="478"/>
                </a:cubicBezTo>
                <a:cubicBezTo>
                  <a:pt x="258" y="339"/>
                  <a:pt x="129" y="169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E0A-8FB4-4E7E-96D8-CA787A367854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 flipH="1" flipV="1">
            <a:off x="4495680" y="1323360"/>
            <a:ext cx="1524240" cy="472428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200 h 4724280"/>
              <a:gd name="textAreaBottom" fmla="*/ 342468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1628640"/>
            <a:ext cx="1524240" cy="472464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560 h 4724640"/>
              <a:gd name="textAreaBottom" fmla="*/ 342540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41212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5120" y="27972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" y="4295880"/>
            <a:ext cx="401760" cy="395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57200" y="2695680"/>
            <a:ext cx="401760" cy="388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581280" y="0"/>
            <a:ext cx="546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tmouth (Prime),  ALPHATECH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vard, Lockheed Marti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I, University of Illinois at Urb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ttp://actcomm.dartmouth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905120" y="4981680"/>
            <a:ext cx="858600" cy="1218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228600" y="3533760"/>
            <a:ext cx="477720" cy="4777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10560" y="348444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mm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21320" y="52848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1400040"/>
            <a:ext cx="3276720" cy="15242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atile Network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3124080" y="5686560"/>
            <a:ext cx="1295640" cy="971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5486400" y="2619360"/>
            <a:ext cx="479520" cy="9907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709160" y="3262320"/>
            <a:ext cx="8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7"/>
          <a:stretch/>
        </p:blipFill>
        <p:spPr>
          <a:xfrm>
            <a:off x="5334120" y="4371840"/>
            <a:ext cx="761760" cy="701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266360" y="4100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qu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2880" y="5210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7840" y="52862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9840" y="3305160"/>
            <a:ext cx="2008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Information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ing queri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us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mat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73400" y="5175360"/>
            <a:ext cx="212976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Software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l, Java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eme mobi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 deliver 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monitor data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60680" y="3533760"/>
            <a:ext cx="2666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Hybrid Networ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reless and vola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s must reconfig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relocate servers/prox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robustness and effici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57200" y="1908000"/>
            <a:ext cx="28602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v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nn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 itineraries must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ned dynamically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chastic contr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228600"/>
            <a:ext cx="3962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tComm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 DoD M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5312-8CC9-4794-BEFA-A9C4B9D0991C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 flipH="1">
            <a:off x="2192400" y="1390680"/>
            <a:ext cx="115920" cy="111924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01760" y="136440"/>
            <a:ext cx="3849480" cy="1647360"/>
            <a:chOff x="401760" y="136440"/>
            <a:chExt cx="3849480" cy="1647360"/>
          </a:xfrm>
        </p:grpSpPr>
        <p:sp>
          <p:nvSpPr>
            <p:cNvPr id="284" name=""/>
            <p:cNvSpPr/>
            <p:nvPr/>
          </p:nvSpPr>
          <p:spPr>
            <a:xfrm rot="20580000">
              <a:off x="2048400" y="663480"/>
              <a:ext cx="582840" cy="5824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20580000">
              <a:off x="2867400" y="319320"/>
              <a:ext cx="1333440" cy="542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0580000">
              <a:off x="451800" y="1057680"/>
              <a:ext cx="1333440" cy="542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7" name=""/>
            <p:cNvCxnSpPr>
              <a:stCxn id="284" idx="6"/>
              <a:endCxn id="285" idx="1"/>
            </p:cNvCxnSpPr>
            <p:nvPr/>
          </p:nvCxnSpPr>
          <p:spPr>
            <a:xfrm flipV="1">
              <a:off x="2630880" y="789840"/>
              <a:ext cx="254160" cy="77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>
              <a:stCxn id="284" idx="2"/>
              <a:endCxn id="286" idx="3"/>
            </p:cNvCxnSpPr>
            <p:nvPr/>
          </p:nvCxnSpPr>
          <p:spPr>
            <a:xfrm flipH="1">
              <a:off x="1768320" y="1044360"/>
              <a:ext cx="281160" cy="87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pplication: ActComm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290" name="humvee" descr=""/>
          <p:cNvPicPr/>
          <p:nvPr/>
        </p:nvPicPr>
        <p:blipFill>
          <a:blip r:embed="rId3"/>
          <a:stretch/>
        </p:blipFill>
        <p:spPr>
          <a:xfrm>
            <a:off x="4854600" y="2585880"/>
            <a:ext cx="1380960" cy="698760"/>
          </a:xfrm>
          <a:prstGeom prst="rect">
            <a:avLst/>
          </a:prstGeom>
          <a:ln w="0">
            <a:noFill/>
          </a:ln>
        </p:spPr>
      </p:pic>
      <p:pic>
        <p:nvPicPr>
          <p:cNvPr id="291" name="soldier1" descr=""/>
          <p:cNvPicPr/>
          <p:nvPr/>
        </p:nvPicPr>
        <p:blipFill>
          <a:blip r:embed="rId4"/>
          <a:stretch/>
        </p:blipFill>
        <p:spPr>
          <a:xfrm>
            <a:off x="7797960" y="3127320"/>
            <a:ext cx="542880" cy="995400"/>
          </a:xfrm>
          <a:prstGeom prst="rect">
            <a:avLst/>
          </a:prstGeom>
          <a:ln w="0">
            <a:noFill/>
          </a:ln>
        </p:spPr>
      </p:pic>
      <p:pic>
        <p:nvPicPr>
          <p:cNvPr id="292" name="soldier2" descr=""/>
          <p:cNvPicPr/>
          <p:nvPr/>
        </p:nvPicPr>
        <p:blipFill>
          <a:blip r:embed="rId5"/>
          <a:stretch/>
        </p:blipFill>
        <p:spPr>
          <a:xfrm>
            <a:off x="5780160" y="4168800"/>
            <a:ext cx="466560" cy="984240"/>
          </a:xfrm>
          <a:prstGeom prst="rect">
            <a:avLst/>
          </a:prstGeom>
          <a:ln w="0">
            <a:noFill/>
          </a:ln>
        </p:spPr>
      </p:pic>
      <p:pic>
        <p:nvPicPr>
          <p:cNvPr id="293" name="soldier1" descr=""/>
          <p:cNvPicPr/>
          <p:nvPr/>
        </p:nvPicPr>
        <p:blipFill>
          <a:blip r:embed="rId6"/>
          <a:stretch/>
        </p:blipFill>
        <p:spPr>
          <a:xfrm>
            <a:off x="7491240" y="5513400"/>
            <a:ext cx="543240" cy="995400"/>
          </a:xfrm>
          <a:prstGeom prst="rect">
            <a:avLst/>
          </a:prstGeom>
          <a:ln w="0">
            <a:noFill/>
          </a:ln>
        </p:spPr>
      </p:pic>
      <p:pic>
        <p:nvPicPr>
          <p:cNvPr id="294" name="soldier2" descr=""/>
          <p:cNvPicPr/>
          <p:nvPr/>
        </p:nvPicPr>
        <p:blipFill>
          <a:blip r:embed="rId7"/>
          <a:stretch/>
        </p:blipFill>
        <p:spPr>
          <a:xfrm>
            <a:off x="8542440" y="1374840"/>
            <a:ext cx="466560" cy="984240"/>
          </a:xfrm>
          <a:prstGeom prst="rect">
            <a:avLst/>
          </a:prstGeom>
          <a:ln w="0">
            <a:noFill/>
          </a:ln>
        </p:spPr>
      </p:pic>
      <p:grpSp>
        <p:nvGrpSpPr>
          <p:cNvPr id="295" name=""/>
          <p:cNvGrpSpPr/>
          <p:nvPr/>
        </p:nvGrpSpPr>
        <p:grpSpPr>
          <a:xfrm>
            <a:off x="5219640" y="4092480"/>
            <a:ext cx="492120" cy="942840"/>
            <a:chOff x="5219640" y="4092480"/>
            <a:chExt cx="492120" cy="942840"/>
          </a:xfrm>
        </p:grpSpPr>
        <p:pic>
          <p:nvPicPr>
            <p:cNvPr id="296" name="gateway" descr=""/>
            <p:cNvPicPr/>
            <p:nvPr/>
          </p:nvPicPr>
          <p:blipFill>
            <a:blip r:embed="rId8"/>
            <a:stretch/>
          </p:blipFill>
          <p:spPr>
            <a:xfrm>
              <a:off x="5219640" y="443052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"/>
            <p:cNvGrpSpPr/>
            <p:nvPr/>
          </p:nvGrpSpPr>
          <p:grpSpPr>
            <a:xfrm>
              <a:off x="5254200" y="4092480"/>
              <a:ext cx="319320" cy="374760"/>
              <a:chOff x="5254200" y="4092480"/>
              <a:chExt cx="319320" cy="374760"/>
            </a:xfrm>
          </p:grpSpPr>
          <p:sp>
            <p:nvSpPr>
              <p:cNvPr id="298" name=""/>
              <p:cNvSpPr/>
              <p:nvPr/>
            </p:nvSpPr>
            <p:spPr>
              <a:xfrm flipV="1">
                <a:off x="5406840" y="426708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5460840" y="413532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89640" y="427212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5293800" y="430056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5254200" y="418644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5360760" y="409248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5532120" y="2235240"/>
            <a:ext cx="319320" cy="374760"/>
            <a:chOff x="5532120" y="2235240"/>
            <a:chExt cx="319320" cy="374760"/>
          </a:xfrm>
        </p:grpSpPr>
        <p:sp>
          <p:nvSpPr>
            <p:cNvPr id="305" name=""/>
            <p:cNvSpPr/>
            <p:nvPr/>
          </p:nvSpPr>
          <p:spPr>
            <a:xfrm flipV="1">
              <a:off x="5684760" y="2409840"/>
              <a:ext cx="0" cy="2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738760" y="2278080"/>
              <a:ext cx="85680" cy="69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67560" y="2414880"/>
              <a:ext cx="83880" cy="20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571720" y="2443320"/>
              <a:ext cx="33480" cy="15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5532120" y="2329200"/>
              <a:ext cx="90360" cy="331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638680" y="2235240"/>
              <a:ext cx="37800" cy="100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7962840" y="1306440"/>
            <a:ext cx="492120" cy="942840"/>
            <a:chOff x="7962840" y="1306440"/>
            <a:chExt cx="492120" cy="942840"/>
          </a:xfrm>
        </p:grpSpPr>
        <p:pic>
          <p:nvPicPr>
            <p:cNvPr id="312" name="gateway" descr=""/>
            <p:cNvPicPr/>
            <p:nvPr/>
          </p:nvPicPr>
          <p:blipFill>
            <a:blip r:embed="rId9"/>
            <a:stretch/>
          </p:blipFill>
          <p:spPr>
            <a:xfrm>
              <a:off x="7962840" y="164448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3" name=""/>
            <p:cNvGrpSpPr/>
            <p:nvPr/>
          </p:nvGrpSpPr>
          <p:grpSpPr>
            <a:xfrm>
              <a:off x="7997400" y="1306440"/>
              <a:ext cx="319320" cy="374760"/>
              <a:chOff x="7997400" y="1306440"/>
              <a:chExt cx="319320" cy="374760"/>
            </a:xfrm>
          </p:grpSpPr>
          <p:sp>
            <p:nvSpPr>
              <p:cNvPr id="314" name=""/>
              <p:cNvSpPr/>
              <p:nvPr/>
            </p:nvSpPr>
            <p:spPr>
              <a:xfrm flipV="1">
                <a:off x="8150040" y="148104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8204040" y="134928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232840" y="148608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8037000" y="151452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flipV="1">
                <a:off x="7997400" y="140040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8103960" y="130644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0" name=""/>
          <p:cNvGrpSpPr/>
          <p:nvPr/>
        </p:nvGrpSpPr>
        <p:grpSpPr>
          <a:xfrm>
            <a:off x="7272360" y="2971800"/>
            <a:ext cx="492120" cy="942840"/>
            <a:chOff x="7272360" y="2971800"/>
            <a:chExt cx="492120" cy="942840"/>
          </a:xfrm>
        </p:grpSpPr>
        <p:pic>
          <p:nvPicPr>
            <p:cNvPr id="321" name="gateway" descr=""/>
            <p:cNvPicPr/>
            <p:nvPr/>
          </p:nvPicPr>
          <p:blipFill>
            <a:blip r:embed="rId10"/>
            <a:stretch/>
          </p:blipFill>
          <p:spPr>
            <a:xfrm>
              <a:off x="7272360" y="330984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2" name=""/>
            <p:cNvGrpSpPr/>
            <p:nvPr/>
          </p:nvGrpSpPr>
          <p:grpSpPr>
            <a:xfrm>
              <a:off x="7306920" y="2971800"/>
              <a:ext cx="319320" cy="374760"/>
              <a:chOff x="7306920" y="2971800"/>
              <a:chExt cx="319320" cy="3747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7459560" y="314640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7513560" y="301464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542360" y="315144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7346520" y="317988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7306920" y="306576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flipV="1">
                <a:off x="7413480" y="297180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9" name=""/>
          <p:cNvGrpSpPr/>
          <p:nvPr/>
        </p:nvGrpSpPr>
        <p:grpSpPr>
          <a:xfrm>
            <a:off x="6954840" y="5402160"/>
            <a:ext cx="492120" cy="942840"/>
            <a:chOff x="6954840" y="5402160"/>
            <a:chExt cx="492120" cy="942840"/>
          </a:xfrm>
        </p:grpSpPr>
        <p:pic>
          <p:nvPicPr>
            <p:cNvPr id="330" name="gateway" descr=""/>
            <p:cNvPicPr/>
            <p:nvPr/>
          </p:nvPicPr>
          <p:blipFill>
            <a:blip r:embed="rId11"/>
            <a:stretch/>
          </p:blipFill>
          <p:spPr>
            <a:xfrm>
              <a:off x="6954840" y="574020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6989400" y="5402160"/>
              <a:ext cx="319320" cy="374760"/>
              <a:chOff x="6989400" y="5402160"/>
              <a:chExt cx="319320" cy="3747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7142040" y="557676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7196040" y="544500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224840" y="558180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7029000" y="561024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6989400" y="549612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7095960" y="540216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" name=""/>
          <p:cNvSpPr/>
          <p:nvPr/>
        </p:nvSpPr>
        <p:spPr>
          <a:xfrm>
            <a:off x="5737320" y="3294000"/>
            <a:ext cx="179280" cy="8301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6148080" y="3809880"/>
            <a:ext cx="1098360" cy="5731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67600" y="3038400"/>
            <a:ext cx="1079280" cy="39060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7246440" y="3914640"/>
            <a:ext cx="295560" cy="14385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76880" y="5172120"/>
            <a:ext cx="762120" cy="2937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550280" y="448308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764120" y="2278080"/>
            <a:ext cx="420840" cy="8683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63600" y="1368360"/>
            <a:ext cx="293400" cy="2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12124"/>
                </a:moveTo>
                <a:arcTo wR="10800" hR="10800" stAng="10377395" swAng="11089347"/>
                <a:lnTo>
                  <a:pt x="10800" y="10800"/>
                </a:lnTo>
                <a:close/>
              </a:path>
              <a:path fill="none" w="21600" h="21600">
                <a:moveTo>
                  <a:pt x="82" y="12124"/>
                </a:moveTo>
                <a:arcTo wR="10800" hR="10800" stAng="10377395" swAng="11089347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84520" y="1168560"/>
            <a:ext cx="295200" cy="29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80" y="19833"/>
                </a:moveTo>
                <a:arcTo wR="10800" hR="10800" stAng="7394301" swAng="10659812"/>
                <a:lnTo>
                  <a:pt x="10800" y="10800"/>
                </a:lnTo>
                <a:close/>
              </a:path>
              <a:path fill="none" w="21600" h="21600">
                <a:moveTo>
                  <a:pt x="4880" y="19833"/>
                </a:moveTo>
                <a:arcTo wR="10800" hR="10800" stAng="7394301" swAng="10659812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63240" y="2280600"/>
            <a:ext cx="290880" cy="29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95" y="78"/>
                </a:moveTo>
                <a:arcTo wR="10800" hR="10800" stAng="-4986890" swAng="13143183"/>
                <a:lnTo>
                  <a:pt x="10800" y="10800"/>
                </a:lnTo>
                <a:close/>
              </a:path>
              <a:path fill="none" w="21600" h="21600">
                <a:moveTo>
                  <a:pt x="12095" y="78"/>
                </a:moveTo>
                <a:arcTo wR="10800" hR="10800" stAng="-4986890" swAng="13143183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17640" y="1251000"/>
            <a:ext cx="2403720" cy="123012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21360" y="2521080"/>
            <a:ext cx="2232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65360" y="1131840"/>
            <a:ext cx="12384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307960" y="1231920"/>
            <a:ext cx="2196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0440" y="471168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39880" y="558792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16240" y="471024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620640" y="2260440"/>
            <a:ext cx="2816280" cy="1427400"/>
            <a:chOff x="620640" y="2260440"/>
            <a:chExt cx="2816280" cy="1427400"/>
          </a:xfrm>
        </p:grpSpPr>
        <p:pic>
          <p:nvPicPr>
            <p:cNvPr id="356" name="" descr=""/>
            <p:cNvPicPr/>
            <p:nvPr/>
          </p:nvPicPr>
          <p:blipFill>
            <a:blip r:embed="rId15"/>
            <a:stretch/>
          </p:blipFill>
          <p:spPr>
            <a:xfrm>
              <a:off x="620640" y="2260440"/>
              <a:ext cx="281628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308600" y="2790720"/>
              <a:ext cx="184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Wired 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281320" y="3695760"/>
            <a:ext cx="129960" cy="183492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78240" y="3679920"/>
            <a:ext cx="758520" cy="101736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528560" y="3665520"/>
            <a:ext cx="563400" cy="102888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B38-54B4-4529-A96A-D5569ED64D4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3160" y="3232080"/>
            <a:ext cx="8808840" cy="3071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cknowledgem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51000" y="1762200"/>
            <a:ext cx="66452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orge Cybenko, Thayer School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b Gray, Thayer School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iela Rus, 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4680" y="121428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llabo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darpa" descr=""/>
          <p:cNvPicPr/>
          <p:nvPr/>
        </p:nvPicPr>
        <p:blipFill>
          <a:blip r:embed="rId1"/>
          <a:stretch/>
        </p:blipFill>
        <p:spPr>
          <a:xfrm>
            <a:off x="258840" y="5091120"/>
            <a:ext cx="1828800" cy="1074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05080" y="5372280"/>
            <a:ext cx="22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RPA con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30602-98-2-0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uri-dod" descr=""/>
          <p:cNvPicPr/>
          <p:nvPr/>
        </p:nvPicPr>
        <p:blipFill>
          <a:blip r:embed="rId2"/>
          <a:stretch/>
        </p:blipFill>
        <p:spPr>
          <a:xfrm>
            <a:off x="7304040" y="3305160"/>
            <a:ext cx="1371600" cy="1366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64040" y="3532320"/>
            <a:ext cx="31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D MURI (AFOSR contract F49620-97-1-0382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41240" y="4200480"/>
            <a:ext cx="863640" cy="812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40280" y="4290840"/>
            <a:ext cx="23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FRL/Rome contra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30602-98-C-0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215120" y="4869000"/>
            <a:ext cx="1549440" cy="812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48320" y="487836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R contra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00014-95-1-12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21880" y="337500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und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5E53-80D6-4E18-A8F7-166C8EC6A32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bile node setup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02840" y="1546200"/>
            <a:ext cx="8457840" cy="4041360"/>
            <a:chOff x="402840" y="1546200"/>
            <a:chExt cx="8457840" cy="4041360"/>
          </a:xfrm>
        </p:grpSpPr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1790640" y="1760400"/>
              <a:ext cx="5105520" cy="38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07760" y="3839760"/>
              <a:ext cx="69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GPS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74880" y="2952360"/>
              <a:ext cx="1585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Cabletron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Dig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oamabout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70280" y="4727160"/>
              <a:ext cx="125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etri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icochet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2840" y="1546200"/>
              <a:ext cx="875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inu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ap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85720" y="2141280"/>
              <a:ext cx="10670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1409760" y="4046400"/>
              <a:ext cx="76176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5981760" y="4655880"/>
              <a:ext cx="12952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5981760" y="3132000"/>
              <a:ext cx="1218960" cy="7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4842360" y="5956200"/>
            <a:ext cx="362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 We now use Lucent WaveLAN2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17A-2038-4EE3-BFCB-0914A97C183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DARPA CoABS Projec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324080" y="2782800"/>
            <a:ext cx="3270240" cy="2886120"/>
            <a:chOff x="1324080" y="2782800"/>
            <a:chExt cx="3270240" cy="2886120"/>
          </a:xfrm>
        </p:grpSpPr>
        <p:sp>
          <p:nvSpPr>
            <p:cNvPr id="375" name=""/>
            <p:cNvSpPr/>
            <p:nvPr/>
          </p:nvSpPr>
          <p:spPr>
            <a:xfrm>
              <a:off x="1324080" y="2782800"/>
              <a:ext cx="3270240" cy="2886120"/>
            </a:xfrm>
            <a:custGeom>
              <a:avLst/>
              <a:gdLst/>
              <a:ahLst/>
              <a:rect l="l" t="t" r="r" b="b"/>
              <a:pathLst>
                <a:path w="2381" h="2101">
                  <a:moveTo>
                    <a:pt x="352" y="471"/>
                  </a:moveTo>
                  <a:cubicBezTo>
                    <a:pt x="370" y="340"/>
                    <a:pt x="361" y="199"/>
                    <a:pt x="432" y="86"/>
                  </a:cubicBezTo>
                  <a:cubicBezTo>
                    <a:pt x="456" y="45"/>
                    <a:pt x="508" y="30"/>
                    <a:pt x="549" y="6"/>
                  </a:cubicBezTo>
                  <a:cubicBezTo>
                    <a:pt x="756" y="24"/>
                    <a:pt x="695" y="0"/>
                    <a:pt x="862" y="108"/>
                  </a:cubicBezTo>
                  <a:cubicBezTo>
                    <a:pt x="928" y="208"/>
                    <a:pt x="905" y="178"/>
                    <a:pt x="942" y="268"/>
                  </a:cubicBezTo>
                  <a:cubicBezTo>
                    <a:pt x="949" y="258"/>
                    <a:pt x="954" y="247"/>
                    <a:pt x="963" y="239"/>
                  </a:cubicBezTo>
                  <a:cubicBezTo>
                    <a:pt x="969" y="232"/>
                    <a:pt x="979" y="231"/>
                    <a:pt x="985" y="224"/>
                  </a:cubicBezTo>
                  <a:cubicBezTo>
                    <a:pt x="1024" y="169"/>
                    <a:pt x="959" y="158"/>
                    <a:pt x="1087" y="130"/>
                  </a:cubicBezTo>
                  <a:cubicBezTo>
                    <a:pt x="1126" y="121"/>
                    <a:pt x="1164" y="113"/>
                    <a:pt x="1203" y="101"/>
                  </a:cubicBezTo>
                  <a:cubicBezTo>
                    <a:pt x="1311" y="104"/>
                    <a:pt x="1383" y="103"/>
                    <a:pt x="1480" y="122"/>
                  </a:cubicBezTo>
                  <a:cubicBezTo>
                    <a:pt x="1543" y="165"/>
                    <a:pt x="1611" y="201"/>
                    <a:pt x="1669" y="253"/>
                  </a:cubicBezTo>
                  <a:cubicBezTo>
                    <a:pt x="1773" y="346"/>
                    <a:pt x="1562" y="300"/>
                    <a:pt x="1785" y="319"/>
                  </a:cubicBezTo>
                  <a:cubicBezTo>
                    <a:pt x="1884" y="337"/>
                    <a:pt x="1954" y="394"/>
                    <a:pt x="2040" y="442"/>
                  </a:cubicBezTo>
                  <a:cubicBezTo>
                    <a:pt x="2075" y="461"/>
                    <a:pt x="2113" y="475"/>
                    <a:pt x="2149" y="493"/>
                  </a:cubicBezTo>
                  <a:cubicBezTo>
                    <a:pt x="2158" y="510"/>
                    <a:pt x="2164" y="529"/>
                    <a:pt x="2178" y="544"/>
                  </a:cubicBezTo>
                  <a:cubicBezTo>
                    <a:pt x="2270" y="645"/>
                    <a:pt x="2183" y="505"/>
                    <a:pt x="2243" y="610"/>
                  </a:cubicBezTo>
                  <a:cubicBezTo>
                    <a:pt x="2257" y="702"/>
                    <a:pt x="2279" y="793"/>
                    <a:pt x="2287" y="886"/>
                  </a:cubicBezTo>
                  <a:cubicBezTo>
                    <a:pt x="2289" y="913"/>
                    <a:pt x="2277" y="939"/>
                    <a:pt x="2272" y="966"/>
                  </a:cubicBezTo>
                  <a:cubicBezTo>
                    <a:pt x="2270" y="973"/>
                    <a:pt x="2272" y="985"/>
                    <a:pt x="2265" y="988"/>
                  </a:cubicBezTo>
                  <a:cubicBezTo>
                    <a:pt x="2234" y="996"/>
                    <a:pt x="2202" y="992"/>
                    <a:pt x="2171" y="995"/>
                  </a:cubicBezTo>
                  <a:cubicBezTo>
                    <a:pt x="2264" y="1093"/>
                    <a:pt x="2329" y="1119"/>
                    <a:pt x="2345" y="1235"/>
                  </a:cubicBezTo>
                  <a:cubicBezTo>
                    <a:pt x="2323" y="1472"/>
                    <a:pt x="2381" y="1463"/>
                    <a:pt x="2236" y="1526"/>
                  </a:cubicBezTo>
                  <a:cubicBezTo>
                    <a:pt x="2055" y="1516"/>
                    <a:pt x="2090" y="1486"/>
                    <a:pt x="2149" y="1570"/>
                  </a:cubicBezTo>
                  <a:cubicBezTo>
                    <a:pt x="2158" y="1583"/>
                    <a:pt x="2163" y="1598"/>
                    <a:pt x="2171" y="1613"/>
                  </a:cubicBezTo>
                  <a:cubicBezTo>
                    <a:pt x="2188" y="1761"/>
                    <a:pt x="2146" y="1920"/>
                    <a:pt x="1974" y="1948"/>
                  </a:cubicBezTo>
                  <a:cubicBezTo>
                    <a:pt x="1947" y="1946"/>
                    <a:pt x="1802" y="1968"/>
                    <a:pt x="1851" y="1897"/>
                  </a:cubicBezTo>
                  <a:cubicBezTo>
                    <a:pt x="1815" y="2062"/>
                    <a:pt x="1835" y="2010"/>
                    <a:pt x="1647" y="2101"/>
                  </a:cubicBezTo>
                  <a:cubicBezTo>
                    <a:pt x="1457" y="2088"/>
                    <a:pt x="1452" y="2093"/>
                    <a:pt x="1320" y="2050"/>
                  </a:cubicBezTo>
                  <a:cubicBezTo>
                    <a:pt x="1255" y="2002"/>
                    <a:pt x="1208" y="1976"/>
                    <a:pt x="1160" y="1919"/>
                  </a:cubicBezTo>
                  <a:cubicBezTo>
                    <a:pt x="1123" y="1875"/>
                    <a:pt x="1129" y="1849"/>
                    <a:pt x="1072" y="1839"/>
                  </a:cubicBezTo>
                  <a:cubicBezTo>
                    <a:pt x="1048" y="1863"/>
                    <a:pt x="1030" y="1867"/>
                    <a:pt x="1000" y="1882"/>
                  </a:cubicBezTo>
                  <a:cubicBezTo>
                    <a:pt x="871" y="1877"/>
                    <a:pt x="754" y="1880"/>
                    <a:pt x="636" y="1831"/>
                  </a:cubicBezTo>
                  <a:cubicBezTo>
                    <a:pt x="628" y="1821"/>
                    <a:pt x="614" y="1814"/>
                    <a:pt x="614" y="1802"/>
                  </a:cubicBezTo>
                  <a:cubicBezTo>
                    <a:pt x="609" y="1712"/>
                    <a:pt x="685" y="1469"/>
                    <a:pt x="622" y="1533"/>
                  </a:cubicBezTo>
                  <a:cubicBezTo>
                    <a:pt x="614" y="1540"/>
                    <a:pt x="608" y="1549"/>
                    <a:pt x="600" y="1555"/>
                  </a:cubicBezTo>
                  <a:cubicBezTo>
                    <a:pt x="586" y="1564"/>
                    <a:pt x="571" y="1571"/>
                    <a:pt x="556" y="1577"/>
                  </a:cubicBezTo>
                  <a:cubicBezTo>
                    <a:pt x="541" y="1581"/>
                    <a:pt x="526" y="1581"/>
                    <a:pt x="512" y="1584"/>
                  </a:cubicBezTo>
                  <a:cubicBezTo>
                    <a:pt x="459" y="1601"/>
                    <a:pt x="410" y="1559"/>
                    <a:pt x="367" y="1533"/>
                  </a:cubicBezTo>
                  <a:cubicBezTo>
                    <a:pt x="282" y="1481"/>
                    <a:pt x="212" y="1416"/>
                    <a:pt x="163" y="1330"/>
                  </a:cubicBezTo>
                  <a:cubicBezTo>
                    <a:pt x="151" y="1267"/>
                    <a:pt x="124" y="1205"/>
                    <a:pt x="127" y="1141"/>
                  </a:cubicBezTo>
                  <a:cubicBezTo>
                    <a:pt x="127" y="1125"/>
                    <a:pt x="157" y="1133"/>
                    <a:pt x="171" y="1126"/>
                  </a:cubicBezTo>
                  <a:cubicBezTo>
                    <a:pt x="294" y="1063"/>
                    <a:pt x="99" y="1142"/>
                    <a:pt x="236" y="1090"/>
                  </a:cubicBezTo>
                  <a:cubicBezTo>
                    <a:pt x="243" y="1080"/>
                    <a:pt x="262" y="1072"/>
                    <a:pt x="258" y="1061"/>
                  </a:cubicBezTo>
                  <a:cubicBezTo>
                    <a:pt x="245" y="1026"/>
                    <a:pt x="213" y="1003"/>
                    <a:pt x="192" y="973"/>
                  </a:cubicBezTo>
                  <a:cubicBezTo>
                    <a:pt x="147" y="909"/>
                    <a:pt x="130" y="831"/>
                    <a:pt x="83" y="770"/>
                  </a:cubicBezTo>
                  <a:cubicBezTo>
                    <a:pt x="56" y="695"/>
                    <a:pt x="0" y="612"/>
                    <a:pt x="54" y="530"/>
                  </a:cubicBezTo>
                  <a:cubicBezTo>
                    <a:pt x="68" y="507"/>
                    <a:pt x="107" y="520"/>
                    <a:pt x="134" y="515"/>
                  </a:cubicBezTo>
                  <a:cubicBezTo>
                    <a:pt x="214" y="530"/>
                    <a:pt x="146" y="520"/>
                    <a:pt x="127" y="501"/>
                  </a:cubicBezTo>
                  <a:cubicBezTo>
                    <a:pt x="119" y="493"/>
                    <a:pt x="122" y="481"/>
                    <a:pt x="120" y="471"/>
                  </a:cubicBezTo>
                  <a:cubicBezTo>
                    <a:pt x="148" y="428"/>
                    <a:pt x="161" y="386"/>
                    <a:pt x="214" y="370"/>
                  </a:cubicBezTo>
                  <a:cubicBezTo>
                    <a:pt x="257" y="374"/>
                    <a:pt x="345" y="384"/>
                    <a:pt x="345" y="384"/>
                  </a:cubicBezTo>
                </a:path>
              </a:pathLst>
            </a:custGeom>
            <a:solidFill>
              <a:srgbClr val="99cc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37880" y="3101400"/>
              <a:ext cx="519120" cy="509400"/>
            </a:xfrm>
            <a:custGeom>
              <a:avLst/>
              <a:gdLst/>
              <a:ahLst/>
              <a:rect l="l" t="t" r="r" b="b"/>
              <a:pathLst>
                <a:path w="407" h="218">
                  <a:moveTo>
                    <a:pt x="0" y="218"/>
                  </a:moveTo>
                  <a:cubicBezTo>
                    <a:pt x="24" y="176"/>
                    <a:pt x="45" y="133"/>
                    <a:pt x="73" y="94"/>
                  </a:cubicBezTo>
                  <a:cubicBezTo>
                    <a:pt x="119" y="26"/>
                    <a:pt x="233" y="20"/>
                    <a:pt x="298" y="0"/>
                  </a:cubicBezTo>
                  <a:cubicBezTo>
                    <a:pt x="339" y="6"/>
                    <a:pt x="368" y="29"/>
                    <a:pt x="407" y="29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016080" y="5130360"/>
              <a:ext cx="784080" cy="358200"/>
            </a:xfrm>
            <a:custGeom>
              <a:avLst/>
              <a:gdLst/>
              <a:ahLst/>
              <a:rect l="l" t="t" r="r" b="b"/>
              <a:pathLst>
                <a:path w="644" h="211">
                  <a:moveTo>
                    <a:pt x="0" y="0"/>
                  </a:moveTo>
                  <a:cubicBezTo>
                    <a:pt x="0" y="0"/>
                    <a:pt x="67" y="148"/>
                    <a:pt x="102" y="167"/>
                  </a:cubicBezTo>
                  <a:cubicBezTo>
                    <a:pt x="115" y="174"/>
                    <a:pt x="131" y="171"/>
                    <a:pt x="146" y="174"/>
                  </a:cubicBezTo>
                  <a:cubicBezTo>
                    <a:pt x="210" y="206"/>
                    <a:pt x="183" y="195"/>
                    <a:pt x="226" y="211"/>
                  </a:cubicBezTo>
                  <a:cubicBezTo>
                    <a:pt x="330" y="208"/>
                    <a:pt x="434" y="209"/>
                    <a:pt x="539" y="203"/>
                  </a:cubicBezTo>
                  <a:cubicBezTo>
                    <a:pt x="575" y="200"/>
                    <a:pt x="587" y="134"/>
                    <a:pt x="611" y="123"/>
                  </a:cubicBezTo>
                  <a:cubicBezTo>
                    <a:pt x="644" y="106"/>
                    <a:pt x="640" y="119"/>
                    <a:pt x="640" y="94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97840" y="4378680"/>
              <a:ext cx="628560" cy="441000"/>
            </a:xfrm>
            <a:custGeom>
              <a:avLst/>
              <a:gdLst/>
              <a:ahLst/>
              <a:rect l="l" t="t" r="r" b="b"/>
              <a:pathLst>
                <a:path w="458" h="321">
                  <a:moveTo>
                    <a:pt x="0" y="0"/>
                  </a:moveTo>
                  <a:cubicBezTo>
                    <a:pt x="31" y="114"/>
                    <a:pt x="46" y="247"/>
                    <a:pt x="175" y="291"/>
                  </a:cubicBezTo>
                  <a:cubicBezTo>
                    <a:pt x="264" y="321"/>
                    <a:pt x="458" y="313"/>
                    <a:pt x="458" y="313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87120" y="3689280"/>
              <a:ext cx="220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The “Grid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178680" y="1015920"/>
            <a:ext cx="1760400" cy="21560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121280" y="2008080"/>
            <a:ext cx="2401920" cy="1258920"/>
          </a:xfrm>
          <a:custGeom>
            <a:avLst/>
            <a:gdLst/>
            <a:ahLst/>
            <a:rect l="l" t="t" r="r" b="b"/>
            <a:pathLst>
              <a:path w="1513" h="793">
                <a:moveTo>
                  <a:pt x="1513" y="0"/>
                </a:moveTo>
                <a:cubicBezTo>
                  <a:pt x="1239" y="10"/>
                  <a:pt x="965" y="20"/>
                  <a:pt x="713" y="153"/>
                </a:cubicBezTo>
                <a:cubicBezTo>
                  <a:pt x="460" y="285"/>
                  <a:pt x="230" y="539"/>
                  <a:pt x="0" y="793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4120" y="1709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02160" y="4352760"/>
            <a:ext cx="1374840" cy="611280"/>
          </a:xfrm>
          <a:custGeom>
            <a:avLst/>
            <a:gdLst/>
            <a:ahLst/>
            <a:rect l="l" t="t" r="r" b="b"/>
            <a:pathLst>
              <a:path w="866" h="385">
                <a:moveTo>
                  <a:pt x="866" y="385"/>
                </a:moveTo>
                <a:cubicBezTo>
                  <a:pt x="781" y="257"/>
                  <a:pt x="697" y="129"/>
                  <a:pt x="553" y="65"/>
                </a:cubicBezTo>
                <a:cubicBezTo>
                  <a:pt x="408" y="0"/>
                  <a:pt x="92" y="9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7240" y="41673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35400" y="113364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8880" y="473544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00160" y="5537160"/>
            <a:ext cx="2050920" cy="12067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212840" y="5124600"/>
            <a:ext cx="959040" cy="406080"/>
          </a:xfrm>
          <a:custGeom>
            <a:avLst/>
            <a:gdLst/>
            <a:ahLst/>
            <a:rect l="l" t="t" r="r" b="b"/>
            <a:pathLst>
              <a:path w="596" h="176">
                <a:moveTo>
                  <a:pt x="0" y="176"/>
                </a:moveTo>
                <a:cubicBezTo>
                  <a:pt x="22" y="117"/>
                  <a:pt x="45" y="59"/>
                  <a:pt x="145" y="30"/>
                </a:cubicBezTo>
                <a:cubicBezTo>
                  <a:pt x="244" y="0"/>
                  <a:pt x="420" y="0"/>
                  <a:pt x="596" y="1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0720" y="1847880"/>
            <a:ext cx="1062000" cy="554040"/>
            <a:chOff x="450720" y="1847880"/>
            <a:chExt cx="1062000" cy="554040"/>
          </a:xfrm>
        </p:grpSpPr>
        <p:sp>
          <p:nvSpPr>
            <p:cNvPr id="390" name=""/>
            <p:cNvSpPr/>
            <p:nvPr/>
          </p:nvSpPr>
          <p:spPr>
            <a:xfrm>
              <a:off x="450720" y="1847880"/>
              <a:ext cx="1062000" cy="554040"/>
            </a:xfrm>
            <a:prstGeom prst="ellipse">
              <a:avLst/>
            </a:prstGeom>
            <a:solidFill>
              <a:srgbClr val="ffccff"/>
            </a:solidFill>
            <a:ln w="3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8240" y="1941480"/>
              <a:ext cx="96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rok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362240" y="1592280"/>
            <a:ext cx="1120680" cy="473040"/>
          </a:xfrm>
          <a:prstGeom prst="ellipse">
            <a:avLst/>
          </a:prstGeom>
          <a:solidFill>
            <a:srgbClr val="ffcc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24120" y="2033640"/>
            <a:ext cx="1501560" cy="426960"/>
          </a:xfrm>
          <a:prstGeom prst="ellipse">
            <a:avLst/>
          </a:prstGeom>
          <a:solidFill>
            <a:srgbClr val="00cc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du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46320" y="2367000"/>
            <a:ext cx="623880" cy="623880"/>
          </a:xfrm>
          <a:custGeom>
            <a:avLst/>
            <a:gdLst/>
            <a:ahLst/>
            <a:rect l="l" t="t" r="r" b="b"/>
            <a:pathLst>
              <a:path w="393" h="393">
                <a:moveTo>
                  <a:pt x="0" y="0"/>
                </a:moveTo>
                <a:cubicBezTo>
                  <a:pt x="11" y="105"/>
                  <a:pt x="22" y="210"/>
                  <a:pt x="88" y="276"/>
                </a:cubicBezTo>
                <a:cubicBezTo>
                  <a:pt x="153" y="341"/>
                  <a:pt x="341" y="373"/>
                  <a:pt x="393" y="393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13080" y="2470320"/>
            <a:ext cx="204840" cy="380880"/>
          </a:xfrm>
          <a:custGeom>
            <a:avLst/>
            <a:gdLst/>
            <a:ahLst/>
            <a:rect l="l" t="t" r="r" b="b"/>
            <a:pathLst>
              <a:path w="129" h="240">
                <a:moveTo>
                  <a:pt x="80" y="0"/>
                </a:moveTo>
                <a:cubicBezTo>
                  <a:pt x="104" y="42"/>
                  <a:pt x="129" y="84"/>
                  <a:pt x="116" y="124"/>
                </a:cubicBezTo>
                <a:cubicBezTo>
                  <a:pt x="102" y="163"/>
                  <a:pt x="51" y="201"/>
                  <a:pt x="0" y="24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04880" y="2055960"/>
            <a:ext cx="403200" cy="772920"/>
          </a:xfrm>
          <a:custGeom>
            <a:avLst/>
            <a:gdLst/>
            <a:ahLst/>
            <a:rect l="l" t="t" r="r" b="b"/>
            <a:pathLst>
              <a:path w="254" h="487">
                <a:moveTo>
                  <a:pt x="80" y="0"/>
                </a:moveTo>
                <a:cubicBezTo>
                  <a:pt x="40" y="97"/>
                  <a:pt x="0" y="194"/>
                  <a:pt x="29" y="276"/>
                </a:cubicBezTo>
                <a:cubicBezTo>
                  <a:pt x="57" y="357"/>
                  <a:pt x="155" y="422"/>
                  <a:pt x="254" y="487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5857920" y="463248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6B5-75F7-497C-82AD-296C912F89A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CoABS Grid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207800"/>
            <a:ext cx="77724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dynamic mix of resour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ources come and g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 infrastructure for communication and directory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id-ready agents provide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lp to find info and servic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pid construction of new ap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emble unexpected apps in days or week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existing components (agent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E51-1DD2-4489-B64A-6452CA10905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pplication: NEO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12716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combatant Evacuation Oper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uwait C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ynamic route plann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ffic and weather monitor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icopter schedul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image1-new" descr=""/>
          <p:cNvPicPr/>
          <p:nvPr/>
        </p:nvPicPr>
        <p:blipFill>
          <a:blip r:embed="rId1"/>
          <a:stretch/>
        </p:blipFill>
        <p:spPr>
          <a:xfrm>
            <a:off x="316080" y="3814920"/>
            <a:ext cx="6765840" cy="302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1B66-05FC-4649-BAEE-E613851062E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s for Mobile 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46000" y="2962440"/>
            <a:ext cx="11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51000" y="1892160"/>
            <a:ext cx="2566800" cy="1004760"/>
            <a:chOff x="351000" y="1892160"/>
            <a:chExt cx="2566800" cy="1004760"/>
          </a:xfrm>
        </p:grpSpPr>
        <p:sp>
          <p:nvSpPr>
            <p:cNvPr id="407" name=""/>
            <p:cNvSpPr/>
            <p:nvPr/>
          </p:nvSpPr>
          <p:spPr>
            <a:xfrm>
              <a:off x="351000" y="229536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28520" y="1892160"/>
              <a:ext cx="108720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297480" y="1892160"/>
            <a:ext cx="2567160" cy="898560"/>
            <a:chOff x="6297480" y="1892160"/>
            <a:chExt cx="2567160" cy="898560"/>
          </a:xfrm>
        </p:grpSpPr>
        <p:sp>
          <p:nvSpPr>
            <p:cNvPr id="410" name=""/>
            <p:cNvSpPr/>
            <p:nvPr/>
          </p:nvSpPr>
          <p:spPr>
            <a:xfrm>
              <a:off x="6297480" y="21891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70680" y="18921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63600" y="1130400"/>
            <a:ext cx="233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 docum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erical dat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35880" y="288432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36960" y="191628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036960" y="21351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36960" y="23763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36960" y="261792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36960" y="2960640"/>
            <a:ext cx="3103560" cy="0"/>
          </a:xfrm>
          <a:prstGeom prst="line">
            <a:avLst/>
          </a:prstGeom>
          <a:ln w="2030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6215040" y="4441680"/>
            <a:ext cx="2567160" cy="898560"/>
            <a:chOff x="6215040" y="4441680"/>
            <a:chExt cx="2567160" cy="898560"/>
          </a:xfrm>
        </p:grpSpPr>
        <p:sp>
          <p:nvSpPr>
            <p:cNvPr id="420" name=""/>
            <p:cNvSpPr/>
            <p:nvPr/>
          </p:nvSpPr>
          <p:spPr>
            <a:xfrm>
              <a:off x="6215040" y="473868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88240" y="4441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597720" y="5433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36680" y="5580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9720" y="4924440"/>
            <a:ext cx="3934080" cy="601560"/>
          </a:xfrm>
          <a:prstGeom prst="parallelogram">
            <a:avLst>
              <a:gd name="adj" fmla="val 1929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93600" y="4519440"/>
            <a:ext cx="104004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agentred" descr=""/>
          <p:cNvPicPr/>
          <p:nvPr/>
        </p:nvPicPr>
        <p:blipFill>
          <a:blip r:embed="rId1"/>
          <a:stretch/>
        </p:blipFill>
        <p:spPr>
          <a:xfrm>
            <a:off x="2674800" y="4622760"/>
            <a:ext cx="663840" cy="685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127240" y="4757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7240" y="4865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27240" y="496260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27240" y="5059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7240" y="5167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73280" y="47750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73280" y="50846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FE8A-C9DD-41CE-9F1F-1B9E1B0F002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96520" y="76320"/>
            <a:ext cx="8040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095960" y="340668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gateway" descr=""/>
          <p:cNvPicPr/>
          <p:nvPr/>
        </p:nvPicPr>
        <p:blipFill>
          <a:blip r:embed="rId1"/>
          <a:stretch/>
        </p:blipFill>
        <p:spPr>
          <a:xfrm>
            <a:off x="633240" y="1573200"/>
            <a:ext cx="828720" cy="10191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642000" y="13622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167520" y="53006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78520" y="3268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99320" y="51814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02240" y="2017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63800" y="22478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97480" y="24876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70480" y="40514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449440" y="32068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301400" y="2522160"/>
            <a:ext cx="1413000" cy="950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2730600" y="3446640"/>
            <a:ext cx="2006640" cy="88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4710240" y="4293720"/>
            <a:ext cx="1457280" cy="11746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4795560" y="2282760"/>
            <a:ext cx="1847880" cy="451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806720" y="3583080"/>
            <a:ext cx="229860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4733640" y="2771280"/>
            <a:ext cx="11160" cy="1567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agentred" descr=""/>
          <p:cNvPicPr/>
          <p:nvPr/>
        </p:nvPicPr>
        <p:blipFill>
          <a:blip r:embed="rId2"/>
          <a:stretch/>
        </p:blipFill>
        <p:spPr>
          <a:xfrm>
            <a:off x="4181400" y="3751200"/>
            <a:ext cx="636840" cy="6588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 flipH="1">
            <a:off x="4928760" y="3537000"/>
            <a:ext cx="18464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5092560" y="4336920"/>
            <a:ext cx="151128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1456920" y="2046240"/>
            <a:ext cx="2621160" cy="164952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98880" y="2475000"/>
            <a:ext cx="1468440" cy="1187280"/>
          </a:xfrm>
          <a:custGeom>
            <a:avLst/>
            <a:gdLst/>
            <a:ahLst/>
            <a:rect l="l" t="t" r="r" b="b"/>
            <a:pathLst>
              <a:path w="925" h="748">
                <a:moveTo>
                  <a:pt x="925" y="0"/>
                </a:moveTo>
                <a:cubicBezTo>
                  <a:pt x="659" y="57"/>
                  <a:pt x="394" y="115"/>
                  <a:pt x="240" y="240"/>
                </a:cubicBezTo>
                <a:cubicBezTo>
                  <a:pt x="86" y="365"/>
                  <a:pt x="43" y="556"/>
                  <a:pt x="0" y="74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362320" y="4627440"/>
            <a:ext cx="253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ynamically selected proxy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5F51-6233-4CA5-98EF-662D913D1BF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Bandwidth usag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459" name="bandwidth-documents" descr=""/>
          <p:cNvPicPr/>
          <p:nvPr/>
        </p:nvPicPr>
        <p:blipFill>
          <a:blip r:embed="rId1"/>
          <a:stretch/>
        </p:blipFill>
        <p:spPr>
          <a:xfrm>
            <a:off x="1157400" y="1135080"/>
            <a:ext cx="68292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A3E-197B-4254-B8FA-226553844FC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gentred" descr=""/>
          <p:cNvPicPr/>
          <p:nvPr/>
        </p:nvPicPr>
        <p:blipFill>
          <a:blip r:embed="rId1"/>
          <a:stretch/>
        </p:blipFill>
        <p:spPr>
          <a:xfrm>
            <a:off x="6269040" y="392760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6175440" y="1825560"/>
            <a:ext cx="493560" cy="5032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1765440" y="2336400"/>
            <a:ext cx="56016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851120" y="3463560"/>
            <a:ext cx="49356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1847520" y="4446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874880" y="4206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332080" y="3462480"/>
            <a:ext cx="75888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3050640" y="4227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739800" y="4458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2: Reduce latenc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470" name="gateway" descr=""/>
          <p:cNvPicPr/>
          <p:nvPr/>
        </p:nvPicPr>
        <p:blipFill>
          <a:blip r:embed="rId2"/>
          <a:stretch/>
        </p:blipFill>
        <p:spPr>
          <a:xfrm>
            <a:off x="250920" y="4983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584280" y="50022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16120" y="4300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agentred" descr=""/>
          <p:cNvPicPr/>
          <p:nvPr/>
        </p:nvPicPr>
        <p:blipFill>
          <a:blip r:embed="rId3"/>
          <a:stretch/>
        </p:blipFill>
        <p:spPr>
          <a:xfrm>
            <a:off x="1300320" y="1825560"/>
            <a:ext cx="495000" cy="5130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625760" y="2198520"/>
            <a:ext cx="291960" cy="292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08440" y="407052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197080" y="3322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gateway" descr=""/>
          <p:cNvPicPr/>
          <p:nvPr/>
        </p:nvPicPr>
        <p:blipFill>
          <a:blip r:embed="rId4"/>
          <a:stretch/>
        </p:blipFill>
        <p:spPr>
          <a:xfrm>
            <a:off x="3565440" y="4573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521160" y="44704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gateway" descr=""/>
          <p:cNvPicPr/>
          <p:nvPr/>
        </p:nvPicPr>
        <p:blipFill>
          <a:blip r:embed="rId5"/>
          <a:stretch/>
        </p:blipFill>
        <p:spPr>
          <a:xfrm>
            <a:off x="1636560" y="5513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959120" y="54658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3280" y="1092240"/>
            <a:ext cx="26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matra cha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a “reflecto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93640" y="2443320"/>
            <a:ext cx="1492200" cy="2531880"/>
          </a:xfrm>
          <a:custGeom>
            <a:avLst/>
            <a:gdLst/>
            <a:ahLst/>
            <a:rect l="l" t="t" r="r" b="b"/>
            <a:pathLst>
              <a:path w="940" h="1595">
                <a:moveTo>
                  <a:pt x="0" y="1595"/>
                </a:moveTo>
                <a:cubicBezTo>
                  <a:pt x="251" y="1482"/>
                  <a:pt x="502" y="1369"/>
                  <a:pt x="657" y="1207"/>
                </a:cubicBezTo>
                <a:cubicBezTo>
                  <a:pt x="812" y="1045"/>
                  <a:pt x="940" y="822"/>
                  <a:pt x="932" y="621"/>
                </a:cubicBezTo>
                <a:cubicBezTo>
                  <a:pt x="924" y="420"/>
                  <a:pt x="765" y="210"/>
                  <a:pt x="60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71640" y="2128680"/>
            <a:ext cx="2005200" cy="2432160"/>
          </a:xfrm>
          <a:custGeom>
            <a:avLst/>
            <a:gdLst/>
            <a:ahLst/>
            <a:rect l="l" t="t" r="r" b="b"/>
            <a:pathLst>
              <a:path w="1263" h="1532">
                <a:moveTo>
                  <a:pt x="0" y="0"/>
                </a:moveTo>
                <a:cubicBezTo>
                  <a:pt x="81" y="56"/>
                  <a:pt x="163" y="112"/>
                  <a:pt x="219" y="163"/>
                </a:cubicBezTo>
                <a:cubicBezTo>
                  <a:pt x="275" y="214"/>
                  <a:pt x="299" y="221"/>
                  <a:pt x="339" y="304"/>
                </a:cubicBezTo>
                <a:cubicBezTo>
                  <a:pt x="379" y="387"/>
                  <a:pt x="435" y="584"/>
                  <a:pt x="459" y="664"/>
                </a:cubicBezTo>
                <a:cubicBezTo>
                  <a:pt x="483" y="744"/>
                  <a:pt x="455" y="718"/>
                  <a:pt x="480" y="784"/>
                </a:cubicBezTo>
                <a:cubicBezTo>
                  <a:pt x="505" y="850"/>
                  <a:pt x="546" y="985"/>
                  <a:pt x="607" y="1059"/>
                </a:cubicBezTo>
                <a:cubicBezTo>
                  <a:pt x="668" y="1133"/>
                  <a:pt x="776" y="1184"/>
                  <a:pt x="847" y="1228"/>
                </a:cubicBezTo>
                <a:cubicBezTo>
                  <a:pt x="918" y="1272"/>
                  <a:pt x="980" y="1298"/>
                  <a:pt x="1030" y="1320"/>
                </a:cubicBezTo>
                <a:cubicBezTo>
                  <a:pt x="1080" y="1342"/>
                  <a:pt x="1117" y="1346"/>
                  <a:pt x="1150" y="1363"/>
                </a:cubicBezTo>
                <a:cubicBezTo>
                  <a:pt x="1183" y="1380"/>
                  <a:pt x="1209" y="1391"/>
                  <a:pt x="1228" y="1419"/>
                </a:cubicBezTo>
                <a:cubicBezTo>
                  <a:pt x="1247" y="1447"/>
                  <a:pt x="1255" y="1489"/>
                  <a:pt x="1263" y="15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6633720" y="2309400"/>
            <a:ext cx="56052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6719760" y="3436560"/>
            <a:ext cx="49392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6716520" y="4419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6743880" y="4179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7200720" y="3435480"/>
            <a:ext cx="75852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7919640" y="4200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608800" y="4431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gateway" descr=""/>
          <p:cNvPicPr/>
          <p:nvPr/>
        </p:nvPicPr>
        <p:blipFill>
          <a:blip r:embed="rId6"/>
          <a:stretch/>
        </p:blipFill>
        <p:spPr>
          <a:xfrm>
            <a:off x="5119560" y="4956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5452920" y="497520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585120" y="4273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494400" y="2171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777080" y="404352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66080" y="3295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gateway" descr=""/>
          <p:cNvPicPr/>
          <p:nvPr/>
        </p:nvPicPr>
        <p:blipFill>
          <a:blip r:embed="rId7"/>
          <a:stretch/>
        </p:blipFill>
        <p:spPr>
          <a:xfrm>
            <a:off x="8434440" y="4546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8389800" y="44434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gateway" descr=""/>
          <p:cNvPicPr/>
          <p:nvPr/>
        </p:nvPicPr>
        <p:blipFill>
          <a:blip r:embed="rId8"/>
          <a:stretch/>
        </p:blipFill>
        <p:spPr>
          <a:xfrm>
            <a:off x="6505560" y="5486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6827760" y="5438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408720" y="2376360"/>
            <a:ext cx="579600" cy="1500480"/>
          </a:xfrm>
          <a:custGeom>
            <a:avLst/>
            <a:gdLst/>
            <a:ahLst/>
            <a:rect l="l" t="t" r="r" b="b"/>
            <a:pathLst>
              <a:path w="365" h="945">
                <a:moveTo>
                  <a:pt x="0" y="0"/>
                </a:moveTo>
                <a:cubicBezTo>
                  <a:pt x="142" y="214"/>
                  <a:pt x="285" y="428"/>
                  <a:pt x="325" y="585"/>
                </a:cubicBezTo>
                <a:cubicBezTo>
                  <a:pt x="365" y="742"/>
                  <a:pt x="302" y="843"/>
                  <a:pt x="240" y="94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8520" y="2736720"/>
            <a:ext cx="16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Observe high average latency to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53160" y="2800440"/>
            <a:ext cx="19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ove to better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93960" y="2139840"/>
            <a:ext cx="738000" cy="3765600"/>
          </a:xfrm>
          <a:custGeom>
            <a:avLst/>
            <a:gdLst/>
            <a:ahLst/>
            <a:rect l="l" t="t" r="r" b="b"/>
            <a:pathLst>
              <a:path w="465" h="2372">
                <a:moveTo>
                  <a:pt x="0" y="0"/>
                </a:moveTo>
                <a:cubicBezTo>
                  <a:pt x="110" y="52"/>
                  <a:pt x="221" y="104"/>
                  <a:pt x="296" y="233"/>
                </a:cubicBezTo>
                <a:cubicBezTo>
                  <a:pt x="371" y="362"/>
                  <a:pt x="465" y="565"/>
                  <a:pt x="452" y="777"/>
                </a:cubicBezTo>
                <a:cubicBezTo>
                  <a:pt x="439" y="989"/>
                  <a:pt x="252" y="1296"/>
                  <a:pt x="219" y="1504"/>
                </a:cubicBezTo>
                <a:cubicBezTo>
                  <a:pt x="186" y="1712"/>
                  <a:pt x="216" y="1904"/>
                  <a:pt x="254" y="2026"/>
                </a:cubicBezTo>
                <a:cubicBezTo>
                  <a:pt x="292" y="2148"/>
                  <a:pt x="463" y="2180"/>
                  <a:pt x="445" y="2238"/>
                </a:cubicBezTo>
                <a:cubicBezTo>
                  <a:pt x="427" y="2296"/>
                  <a:pt x="287" y="2334"/>
                  <a:pt x="148" y="23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524560" y="4471920"/>
            <a:ext cx="717480" cy="425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88280" y="4516560"/>
            <a:ext cx="257040" cy="90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91400" y="4087800"/>
            <a:ext cx="1623960" cy="719280"/>
          </a:xfrm>
          <a:custGeom>
            <a:avLst/>
            <a:gdLst/>
            <a:ahLst/>
            <a:rect l="l" t="t" r="r" b="b"/>
            <a:pathLst>
              <a:path w="1023" h="453">
                <a:moveTo>
                  <a:pt x="0" y="23"/>
                </a:moveTo>
                <a:cubicBezTo>
                  <a:pt x="151" y="11"/>
                  <a:pt x="302" y="0"/>
                  <a:pt x="472" y="72"/>
                </a:cubicBezTo>
                <a:cubicBezTo>
                  <a:pt x="642" y="144"/>
                  <a:pt x="832" y="298"/>
                  <a:pt x="1023" y="45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91A-4E4E-4E80-815D-27F72DF8F99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3: Reduce Completion Ti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6920" y="154944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7480" y="400536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251400" y="36352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251400" y="18064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3813120" y="4778280"/>
            <a:ext cx="1103400" cy="12193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612720" y="272088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289240" y="3483000"/>
            <a:ext cx="3886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17840" y="25686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41880" y="220356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Send code with unique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6404040" y="2187720"/>
            <a:ext cx="1724040" cy="66672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6327720" y="4245120"/>
            <a:ext cx="1905120" cy="4777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5869080" y="5084640"/>
            <a:ext cx="26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Perform multi-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ries on large, remo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terogeneous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2517480" y="47023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06920" y="43369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 Return requeste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5"/>
          <a:stretch/>
        </p:blipFill>
        <p:spPr>
          <a:xfrm>
            <a:off x="3584520" y="1501920"/>
            <a:ext cx="1143000" cy="7794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7165800" y="30258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94600" y="305928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bandwidth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8DF8-BED1-4003-A87E-B265104D548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d more about i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720" y="1190520"/>
            <a:ext cx="63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 and the DARPA CoABS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220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824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12040" y="1743120"/>
            <a:ext cx="520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CoAB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1024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0916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6080" y="259560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8800" y="31478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88DA-D75D-4D12-B420-E7F0465615D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Total completion ti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527" name="documents-roamabout" descr=""/>
          <p:cNvPicPr/>
          <p:nvPr/>
        </p:nvPicPr>
        <p:blipFill>
          <a:blip r:embed="rId1"/>
          <a:stretch/>
        </p:blipFill>
        <p:spPr>
          <a:xfrm>
            <a:off x="1066680" y="1112760"/>
            <a:ext cx="701064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C3C-C856-4434-AB77-AA87A7BEF97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444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4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68160" y="878040"/>
            <a:ext cx="78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connected communication and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542880" y="205740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 flipV="1">
            <a:off x="2295360" y="22093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19400" y="27432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3514680" y="2895480"/>
            <a:ext cx="1905120" cy="8668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3133800" y="167652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248600" y="1905120"/>
            <a:ext cx="1295280" cy="11905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5"/>
          <a:stretch/>
        </p:blipFill>
        <p:spPr>
          <a:xfrm>
            <a:off x="2371680" y="1981080"/>
            <a:ext cx="426960" cy="2556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6"/>
          <a:stretch/>
        </p:blipFill>
        <p:spPr>
          <a:xfrm>
            <a:off x="2752560" y="3124080"/>
            <a:ext cx="427320" cy="2556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314280" y="152388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7"/>
          <a:stretch/>
        </p:blipFill>
        <p:spPr>
          <a:xfrm>
            <a:off x="542880" y="4419720"/>
            <a:ext cx="1600200" cy="7999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 flipV="1">
            <a:off x="2295360" y="449532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8"/>
          <a:stretch/>
        </p:blipFill>
        <p:spPr>
          <a:xfrm>
            <a:off x="4734000" y="5257800"/>
            <a:ext cx="1904760" cy="8668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9"/>
          <a:stretch/>
        </p:blipFill>
        <p:spPr>
          <a:xfrm>
            <a:off x="3971880" y="403848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10"/>
          <a:stretch/>
        </p:blipFill>
        <p:spPr>
          <a:xfrm>
            <a:off x="7248600" y="4267080"/>
            <a:ext cx="1295280" cy="119088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11"/>
          <a:stretch/>
        </p:blipFill>
        <p:spPr>
          <a:xfrm>
            <a:off x="3438360" y="4191120"/>
            <a:ext cx="427320" cy="2556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12"/>
          <a:stretch/>
        </p:blipFill>
        <p:spPr>
          <a:xfrm>
            <a:off x="6791400" y="5486400"/>
            <a:ext cx="426960" cy="2556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314280" y="388620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334200" y="525744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19800" y="2819520"/>
            <a:ext cx="175248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106680" y="26701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66760" y="5105520"/>
            <a:ext cx="281952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11200" y="50324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92280" y="19080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52760" y="2209680"/>
            <a:ext cx="289584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649480" y="41180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38560" y="4419720"/>
            <a:ext cx="236232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5480" y="3317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9360" y="5715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503-55CC-46FA-B990-19EC57F6D6C7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5: Load balanc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022640" y="1924200"/>
            <a:ext cx="811440" cy="6872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28920" y="1300320"/>
            <a:ext cx="811080" cy="68724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80240" y="1436760"/>
            <a:ext cx="811080" cy="68724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28840" y="1677960"/>
            <a:ext cx="1693800" cy="4399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34080" y="1817280"/>
            <a:ext cx="193968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76280" y="3529080"/>
            <a:ext cx="8362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86280" y="282420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16400" y="251784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890960" y="2371680"/>
            <a:ext cx="478080" cy="42408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61240" y="225900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03440" y="204624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36760" y="20764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91160" y="282240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83640" y="27655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930480" y="4367160"/>
            <a:ext cx="811440" cy="6876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436760" y="3743280"/>
            <a:ext cx="811080" cy="6876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688080" y="3879720"/>
            <a:ext cx="811440" cy="68760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36680" y="4121280"/>
            <a:ext cx="1693800" cy="4395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741920" y="4260600"/>
            <a:ext cx="194004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95320" y="43498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324240" y="496080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33960" y="449748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69080" y="470232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511280" y="448956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92400" y="506556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616280" y="501984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3840" y="5508720"/>
            <a:ext cx="79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 migrate in a heterogeneous network of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42AC-20FD-4B76-9F35-4B66F1B2CEF7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269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son 6: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9800" y="12240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ynamic De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304920" y="1143000"/>
            <a:ext cx="8534160" cy="5018040"/>
            <a:chOff x="304920" y="1143000"/>
            <a:chExt cx="8534160" cy="5018040"/>
          </a:xfrm>
        </p:grpSpPr>
        <p:pic>
          <p:nvPicPr>
            <p:cNvPr id="589" name="" descr=""/>
            <p:cNvPicPr/>
            <p:nvPr/>
          </p:nvPicPr>
          <p:blipFill>
            <a:blip r:embed="rId1"/>
            <a:stretch/>
          </p:blipFill>
          <p:spPr>
            <a:xfrm>
              <a:off x="6477120" y="2438280"/>
              <a:ext cx="1371600" cy="12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6788160" y="3735360"/>
              <a:ext cx="1890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ique need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p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eather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ctical updates.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1" name="" descr=""/>
            <p:cNvPicPr/>
            <p:nvPr/>
          </p:nvPicPr>
          <p:blipFill>
            <a:blip r:embed="rId2"/>
            <a:stretch/>
          </p:blipFill>
          <p:spPr>
            <a:xfrm>
              <a:off x="2971800" y="1143000"/>
              <a:ext cx="144792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3"/>
            <a:stretch/>
          </p:blipFill>
          <p:spPr>
            <a:xfrm>
              <a:off x="3124080" y="4800600"/>
              <a:ext cx="121932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4"/>
            <a:stretch/>
          </p:blipFill>
          <p:spPr>
            <a:xfrm>
              <a:off x="380880" y="1828800"/>
              <a:ext cx="182880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" descr=""/>
            <p:cNvPicPr/>
            <p:nvPr/>
          </p:nvPicPr>
          <p:blipFill>
            <a:blip r:embed="rId5"/>
            <a:stretch/>
          </p:blipFill>
          <p:spPr>
            <a:xfrm>
              <a:off x="304920" y="3886200"/>
              <a:ext cx="17254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477120" y="2438280"/>
              <a:ext cx="236196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905120" y="2971800"/>
              <a:ext cx="114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33920" y="2514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1981080" y="3962160"/>
              <a:ext cx="11430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3733920" y="4114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0" name="" descr=""/>
            <p:cNvPicPr/>
            <p:nvPr/>
          </p:nvPicPr>
          <p:blipFill>
            <a:blip r:embed="rId6"/>
            <a:stretch/>
          </p:blipFill>
          <p:spPr>
            <a:xfrm>
              <a:off x="3124080" y="2971800"/>
              <a:ext cx="1905120" cy="13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367560" y="300996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and p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6000" y="5792760"/>
              <a:ext cx="178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actical upd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420080" y="114444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p, terrain 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44480" y="533556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a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952880" y="3657600"/>
              <a:ext cx="1371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52880" y="403848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4952880" y="274320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93DA-25AB-4AAC-905E-8AB8E8635F9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ther techniques work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25400" y="1509840"/>
            <a:ext cx="740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2B39-017F-495E-8736-E542679BD59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ut takes several techniqu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184400" y="1635120"/>
            <a:ext cx="69530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 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ar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based on strong code mobility, to solve many 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A5BA-B4F8-4A5D-83E2-4A3B87283C7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058840" y="1905120"/>
            <a:ext cx="49021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Introduction to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42840" y="317988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6ACC-63C4-4E2F-8768-873BC570488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presentative system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34720" y="183204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52440" y="2633760"/>
            <a:ext cx="24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ngle-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67840" y="4146480"/>
            <a:ext cx="26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ultiple-langu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311000" y="181296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lets, Voy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310640" y="297972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ssen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12080" y="431172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acoma, D’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661400" y="5599080"/>
            <a:ext cx="52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There are many others; too many to describe tod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9FD-D1AB-45CC-BC48-CD39A744436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ifferences and similariti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50680" y="1084320"/>
            <a:ext cx="3815280" cy="64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569960" y="2835360"/>
            <a:ext cx="5978160" cy="64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mper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unction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Decla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73240" y="1959120"/>
            <a:ext cx="4970520" cy="64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 mo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8960" y="3714840"/>
            <a:ext cx="7760880" cy="640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erpre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Just-in-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oftwar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820880" y="4586400"/>
            <a:ext cx="5476320" cy="640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tand-alo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ght Web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83560" y="5457960"/>
            <a:ext cx="615312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MG/FIPA standard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que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30FF-C803-4A6A-8AE5-3271B7065FA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le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41440" y="2478240"/>
            <a:ext cx="6264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-driven programming model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Dispatch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Arri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ies” for location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1630440" y="1252440"/>
            <a:ext cx="5888520" cy="815400"/>
            <a:chOff x="1630440" y="1252440"/>
            <a:chExt cx="5888520" cy="815400"/>
          </a:xfrm>
        </p:grpSpPr>
        <p:pic>
          <p:nvPicPr>
            <p:cNvPr id="633" name="aglets" descr=""/>
            <p:cNvPicPr/>
            <p:nvPr/>
          </p:nvPicPr>
          <p:blipFill>
            <a:blip r:embed="rId1"/>
            <a:stretch/>
          </p:blipFill>
          <p:spPr>
            <a:xfrm>
              <a:off x="1712880" y="1252440"/>
              <a:ext cx="57150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3250800" y="1608120"/>
              <a:ext cx="42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http://www.trl.ibm.co.jp/aglets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30440" y="16063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IB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262-9637-4793-B904-5289DCADA9D6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utline (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97360" y="1233360"/>
            <a:ext cx="5177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roduction to softwar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an “agent”, anyw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tivating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asons for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mpeting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577-2D3F-4F86-83A6-E6FF9CA5B59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Voyager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01720" y="2544840"/>
            <a:ext cx="7542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uilt on top of 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ted directory service and group communication (multic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60800" y="206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206960" y="20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649440" y="1192320"/>
            <a:ext cx="7851240" cy="1082520"/>
            <a:chOff x="649440" y="1192320"/>
            <a:chExt cx="7851240" cy="1082520"/>
          </a:xfrm>
        </p:grpSpPr>
        <p:pic>
          <p:nvPicPr>
            <p:cNvPr id="641" name="voyager" descr=""/>
            <p:cNvPicPr/>
            <p:nvPr/>
          </p:nvPicPr>
          <p:blipFill>
            <a:blip r:embed="rId1"/>
            <a:stretch/>
          </p:blipFill>
          <p:spPr>
            <a:xfrm>
              <a:off x="649440" y="1192320"/>
              <a:ext cx="2396880" cy="108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2" name=""/>
            <p:cNvGrpSpPr/>
            <p:nvPr/>
          </p:nvGrpSpPr>
          <p:grpSpPr>
            <a:xfrm>
              <a:off x="3206880" y="1274760"/>
              <a:ext cx="5293800" cy="919440"/>
              <a:chOff x="3206880" y="1274760"/>
              <a:chExt cx="5293800" cy="919440"/>
            </a:xfrm>
          </p:grpSpPr>
          <p:sp>
            <p:nvSpPr>
              <p:cNvPr id="643" name=""/>
              <p:cNvSpPr/>
              <p:nvPr/>
            </p:nvSpPr>
            <p:spPr>
              <a:xfrm>
                <a:off x="3217680" y="1274760"/>
                <a:ext cx="182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ObjectSp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206880" y="1795320"/>
                <a:ext cx="529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objectspace.com/products/voyager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207-B2EE-43CE-A9DD-DD6ADA125CD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y not Java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60600" y="1968480"/>
            <a:ext cx="602460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mited per-thread resource accounting (or enforce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strong mobility, in standard J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pport for multiple language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efficient on top of 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FE5F-10BC-4F66-A31F-D9D83ABC2BD9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essenger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985680" y="1324080"/>
            <a:ext cx="7170840" cy="820800"/>
            <a:chOff x="985680" y="1324080"/>
            <a:chExt cx="7170840" cy="820800"/>
          </a:xfrm>
        </p:grpSpPr>
        <p:pic>
          <p:nvPicPr>
            <p:cNvPr id="649" name="messengers" descr=""/>
            <p:cNvPicPr/>
            <p:nvPr/>
          </p:nvPicPr>
          <p:blipFill>
            <a:blip r:embed="rId1"/>
            <a:stretch/>
          </p:blipFill>
          <p:spPr>
            <a:xfrm>
              <a:off x="985680" y="1365120"/>
              <a:ext cx="1890720" cy="73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0" name=""/>
            <p:cNvGrpSpPr/>
            <p:nvPr/>
          </p:nvGrpSpPr>
          <p:grpSpPr>
            <a:xfrm>
              <a:off x="3129480" y="1324080"/>
              <a:ext cx="5027040" cy="820800"/>
              <a:chOff x="3129480" y="1324080"/>
              <a:chExt cx="5027040" cy="820800"/>
            </a:xfrm>
          </p:grpSpPr>
          <p:sp>
            <p:nvSpPr>
              <p:cNvPr id="651" name=""/>
              <p:cNvSpPr/>
              <p:nvPr/>
            </p:nvSpPr>
            <p:spPr>
              <a:xfrm>
                <a:off x="3134160" y="1324080"/>
                <a:ext cx="247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Genev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129480" y="1746000"/>
                <a:ext cx="502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cuiwww.unige.ch/tios/msgr/home.ht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3" name=""/>
          <p:cNvSpPr/>
          <p:nvPr/>
        </p:nvSpPr>
        <p:spPr>
          <a:xfrm>
            <a:off x="446040" y="2533680"/>
            <a:ext cx="8258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Ø (similar to Postscr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nded fo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low-level serv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e.g., in the Messenger Operating System (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lletin boards for data exchange and service lis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5D0-6251-4C1B-B149-42C00160B3A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y not a single language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24120" y="2556000"/>
            <a:ext cx="5816520" cy="155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bile agents hav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any applic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no one langua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good for all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E09-C3DB-46DA-B9AC-BF491048947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acoma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39760" y="2773440"/>
            <a:ext cx="68691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, Tcl/Tk, Scheme, Python, Perl (public release), several more inter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, simple abstraction: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y to add a new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ss opportunity for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03760" y="1177920"/>
            <a:ext cx="5141520" cy="1430280"/>
            <a:chOff x="2003760" y="1177920"/>
            <a:chExt cx="5141520" cy="1430280"/>
          </a:xfrm>
        </p:grpSpPr>
        <p:grpSp>
          <p:nvGrpSpPr>
            <p:cNvPr id="659" name=""/>
            <p:cNvGrpSpPr/>
            <p:nvPr/>
          </p:nvGrpSpPr>
          <p:grpSpPr>
            <a:xfrm>
              <a:off x="2003760" y="1863720"/>
              <a:ext cx="5141520" cy="744480"/>
              <a:chOff x="2003760" y="1863720"/>
              <a:chExt cx="5141520" cy="744480"/>
            </a:xfrm>
          </p:grpSpPr>
          <p:sp>
            <p:nvSpPr>
              <p:cNvPr id="660" name=""/>
              <p:cNvSpPr/>
              <p:nvPr/>
            </p:nvSpPr>
            <p:spPr>
              <a:xfrm>
                <a:off x="2005920" y="1863720"/>
                <a:ext cx="471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Tromsø / Cornell Univers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03760" y="2209320"/>
                <a:ext cx="514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tacoma.cs.uit.no:8080/TACOMA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62" name="tacoma" descr=""/>
            <p:cNvPicPr/>
            <p:nvPr/>
          </p:nvPicPr>
          <p:blipFill>
            <a:blip r:embed="rId1"/>
            <a:stretch/>
          </p:blipFill>
          <p:spPr>
            <a:xfrm>
              <a:off x="2014560" y="1177920"/>
              <a:ext cx="500040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75B9-95F6-4315-9F63-DE59924FA83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94120" y="1981080"/>
            <a:ext cx="4748040" cy="27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30320" y="1992240"/>
            <a:ext cx="990720" cy="609840"/>
          </a:xfrm>
          <a:prstGeom prst="rightArrow">
            <a:avLst>
              <a:gd name="adj1" fmla="val 50000"/>
              <a:gd name="adj2" fmla="val 4061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EE2-587A-4E0A-BE81-EE8765953C7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dagents" descr=""/>
          <p:cNvPicPr/>
          <p:nvPr/>
        </p:nvPicPr>
        <p:blipFill>
          <a:blip r:embed="rId1"/>
          <a:stretch/>
        </p:blipFill>
        <p:spPr>
          <a:xfrm>
            <a:off x="357120" y="-3240"/>
            <a:ext cx="3113280" cy="212400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4267080" y="60948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ttp://agent.cs.dartmouth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382640" y="111456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ject started Spring,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4294080" y="2352600"/>
            <a:ext cx="4570560" cy="3767040"/>
            <a:chOff x="4294080" y="2352600"/>
            <a:chExt cx="4570560" cy="3767040"/>
          </a:xfrm>
        </p:grpSpPr>
        <p:sp>
          <p:nvSpPr>
            <p:cNvPr id="670" name=""/>
            <p:cNvSpPr/>
            <p:nvPr/>
          </p:nvSpPr>
          <p:spPr>
            <a:xfrm>
              <a:off x="4294080" y="2352600"/>
              <a:ext cx="457056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alfway t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munication and migration overhead not as low as poss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94080" y="4167000"/>
              <a:ext cx="4570560" cy="19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prot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in trans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 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on a mach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709200" y="2352600"/>
            <a:ext cx="3105720" cy="3839040"/>
            <a:chOff x="709200" y="2352600"/>
            <a:chExt cx="3105720" cy="3839040"/>
          </a:xfrm>
        </p:grpSpPr>
        <p:sp>
          <p:nvSpPr>
            <p:cNvPr id="673" name=""/>
            <p:cNvSpPr/>
            <p:nvPr/>
          </p:nvSpPr>
          <p:spPr>
            <a:xfrm>
              <a:off x="709200" y="2352600"/>
              <a:ext cx="2664720" cy="16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Multiple langu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che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9560" y="4130640"/>
              <a:ext cx="3105360" cy="20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upport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rectory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bugger (Tc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2E9C-6224-481A-A0F2-A6F0F7479D79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’Agents: Mobility Model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40480" y="1138320"/>
            <a:ext cx="52419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mobility / No remote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71440" y="4595760"/>
            <a:ext cx="4427640" cy="1143000"/>
          </a:xfrm>
          <a:prstGeom prst="parallelogram">
            <a:avLst>
              <a:gd name="adj" fmla="val 968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346040" y="57564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079640" y="3630600"/>
            <a:ext cx="2859120" cy="1668600"/>
          </a:xfrm>
          <a:prstGeom prst="cube">
            <a:avLst>
              <a:gd name="adj" fmla="val 9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pture agen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Sign/encryp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end state 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-2520" y="42908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76400" y="2116080"/>
            <a:ext cx="2859120" cy="1668600"/>
          </a:xfrm>
          <a:prstGeom prst="cube">
            <a:avLst>
              <a:gd name="adj" fmla="val 963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arched = searched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mp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et with search-engi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1360" y="22845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96880" y="2859120"/>
            <a:ext cx="538200" cy="380880"/>
          </a:xfrm>
          <a:prstGeom prst="rightArrow">
            <a:avLst>
              <a:gd name="adj1" fmla="val 38333"/>
              <a:gd name="adj2" fmla="val 4710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08200" y="3182760"/>
            <a:ext cx="336240" cy="884520"/>
          </a:xfrm>
          <a:custGeom>
            <a:avLst/>
            <a:gdLst/>
            <a:ahLst/>
            <a:rect l="l" t="t" r="r" b="b"/>
            <a:pathLst>
              <a:path w="212" h="557">
                <a:moveTo>
                  <a:pt x="212" y="0"/>
                </a:moveTo>
                <a:cubicBezTo>
                  <a:pt x="106" y="115"/>
                  <a:pt x="0" y="231"/>
                  <a:pt x="0" y="324"/>
                </a:cubicBezTo>
                <a:cubicBezTo>
                  <a:pt x="0" y="417"/>
                  <a:pt x="106" y="487"/>
                  <a:pt x="212" y="557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4602240" y="2116080"/>
            <a:ext cx="4427640" cy="4088520"/>
            <a:chOff x="4602240" y="2116080"/>
            <a:chExt cx="4427640" cy="4088520"/>
          </a:xfrm>
        </p:grpSpPr>
        <p:grpSp>
          <p:nvGrpSpPr>
            <p:cNvPr id="686" name=""/>
            <p:cNvGrpSpPr/>
            <p:nvPr/>
          </p:nvGrpSpPr>
          <p:grpSpPr>
            <a:xfrm>
              <a:off x="4602240" y="2116080"/>
              <a:ext cx="4427640" cy="4088520"/>
              <a:chOff x="4602240" y="2116080"/>
              <a:chExt cx="4427640" cy="4088520"/>
            </a:xfrm>
          </p:grpSpPr>
          <p:sp>
            <p:nvSpPr>
              <p:cNvPr id="687" name=""/>
              <p:cNvSpPr/>
              <p:nvPr/>
            </p:nvSpPr>
            <p:spPr>
              <a:xfrm>
                <a:off x="4602240" y="4584600"/>
                <a:ext cx="4427640" cy="1143000"/>
              </a:xfrm>
              <a:prstGeom prst="parallelogram">
                <a:avLst>
                  <a:gd name="adj" fmla="val 9684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676480" y="5744880"/>
                <a:ext cx="159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418360" y="361944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. Resume ag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. Restore st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. Authentic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18360" y="211608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arched = searched + 1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jump B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et with search-engine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4929120" y="3135240"/>
              <a:ext cx="538200" cy="380880"/>
            </a:xfrm>
            <a:prstGeom prst="rightArrow">
              <a:avLst>
                <a:gd name="adj1" fmla="val 38333"/>
                <a:gd name="adj2" fmla="val 47101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327480" y="4908600"/>
            <a:ext cx="21636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253120" y="3462480"/>
            <a:ext cx="237960" cy="69516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136" y="438"/>
                </a:moveTo>
                <a:cubicBezTo>
                  <a:pt x="68" y="407"/>
                  <a:pt x="0" y="377"/>
                  <a:pt x="2" y="304"/>
                </a:cubicBezTo>
                <a:cubicBezTo>
                  <a:pt x="4" y="231"/>
                  <a:pt x="77" y="115"/>
                  <a:pt x="150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91DE-B7AE-4C80-8420-C19B042F7E13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’Agents: Architectur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2240" y="4606920"/>
            <a:ext cx="4651200" cy="1143000"/>
          </a:xfrm>
          <a:prstGeom prst="parallelogram">
            <a:avLst>
              <a:gd name="adj" fmla="val 909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446120" y="5813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50760" y="4538520"/>
            <a:ext cx="2992680" cy="795600"/>
          </a:xfrm>
          <a:prstGeom prst="cube">
            <a:avLst>
              <a:gd name="adj" fmla="val 25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 (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50760" y="3875040"/>
            <a:ext cx="299268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950760" y="2995560"/>
            <a:ext cx="112896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78120" y="2995560"/>
            <a:ext cx="11509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16280" y="2995560"/>
            <a:ext cx="112860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950760" y="2327400"/>
            <a:ext cx="2989440" cy="86184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agentred" descr=""/>
          <p:cNvPicPr/>
          <p:nvPr/>
        </p:nvPicPr>
        <p:blipFill>
          <a:blip r:embed="rId1"/>
          <a:stretch/>
        </p:blipFill>
        <p:spPr>
          <a:xfrm>
            <a:off x="1228680" y="187812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704" name="agentred" descr=""/>
          <p:cNvPicPr/>
          <p:nvPr/>
        </p:nvPicPr>
        <p:blipFill>
          <a:blip r:embed="rId2"/>
          <a:stretch/>
        </p:blipFill>
        <p:spPr>
          <a:xfrm>
            <a:off x="1890720" y="1947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705" name="agentred" descr=""/>
          <p:cNvPicPr/>
          <p:nvPr/>
        </p:nvPicPr>
        <p:blipFill>
          <a:blip r:embed="rId3"/>
          <a:stretch/>
        </p:blipFill>
        <p:spPr>
          <a:xfrm>
            <a:off x="2538360" y="1876320"/>
            <a:ext cx="495360" cy="513000"/>
          </a:xfrm>
          <a:prstGeom prst="rect">
            <a:avLst/>
          </a:prstGeom>
          <a:ln w="0">
            <a:noFill/>
          </a:ln>
        </p:spPr>
      </p:pic>
      <p:pic>
        <p:nvPicPr>
          <p:cNvPr id="706" name="agentred" descr=""/>
          <p:cNvPicPr/>
          <p:nvPr/>
        </p:nvPicPr>
        <p:blipFill>
          <a:blip r:embed="rId4"/>
          <a:stretch/>
        </p:blipFill>
        <p:spPr>
          <a:xfrm>
            <a:off x="3170160" y="192888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5245200" y="1511280"/>
            <a:ext cx="3638520" cy="3137040"/>
          </a:xfrm>
          <a:prstGeom prst="cube">
            <a:avLst>
              <a:gd name="adj" fmla="val 60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887440" y="1128600"/>
            <a:ext cx="2401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M /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348680" y="2789280"/>
            <a:ext cx="1276200" cy="784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48160" y="2789280"/>
            <a:ext cx="1276560" cy="784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348240" y="1882800"/>
            <a:ext cx="1276560" cy="784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346800" y="3695760"/>
            <a:ext cx="1276200" cy="784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385040" y="2589120"/>
            <a:ext cx="25704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370560" y="3503520"/>
            <a:ext cx="25740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6972480" y="2658960"/>
            <a:ext cx="1440" cy="103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6332400" y="2557440"/>
            <a:ext cx="21456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3741840" y="1703160"/>
            <a:ext cx="151272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741840" y="4067280"/>
            <a:ext cx="1501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43440" y="3865680"/>
            <a:ext cx="12999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3943440" y="1512360"/>
            <a:ext cx="1490400" cy="14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1CF1-CE78-48B9-90E4-85051D501A3F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cl/Tk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277920" y="992160"/>
            <a:ext cx="4070160" cy="5159520"/>
            <a:chOff x="277920" y="992160"/>
            <a:chExt cx="4070160" cy="5159520"/>
          </a:xfrm>
        </p:grpSpPr>
        <p:sp>
          <p:nvSpPr>
            <p:cNvPr id="723" name=""/>
            <p:cNvSpPr/>
            <p:nvPr/>
          </p:nvSpPr>
          <p:spPr>
            <a:xfrm>
              <a:off x="277920" y="2663640"/>
              <a:ext cx="4070160" cy="348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preted scripting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rything is a string.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t object-oriented, but has namesp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deal for “glue” 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00000"/>
                </a:lnSpc>
                <a:spcBef>
                  <a:spcPts val="675"/>
                </a:spcBef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all high-level operation 1, modest processing to decide next operation, call high-level operation 2, 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k provides GUI capabiliti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312840" y="992160"/>
              <a:ext cx="4003560" cy="1471680"/>
              <a:chOff x="312840" y="992160"/>
              <a:chExt cx="4003560" cy="1471680"/>
            </a:xfrm>
          </p:grpSpPr>
          <p:sp>
            <p:nvSpPr>
              <p:cNvPr id="725" name=""/>
              <p:cNvSpPr/>
              <p:nvPr/>
            </p:nvSpPr>
            <p:spPr>
              <a:xfrm>
                <a:off x="1348200" y="1530360"/>
                <a:ext cx="296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scriptics.com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26" name="tcl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840" y="992160"/>
                <a:ext cx="981000" cy="1471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27" name=""/>
          <p:cNvSpPr/>
          <p:nvPr/>
        </p:nvSpPr>
        <p:spPr>
          <a:xfrm>
            <a:off x="4493160" y="968400"/>
            <a:ext cx="4388400" cy="520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{filenam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 open the file and read in 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fd [open $filename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ntents [read $fd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 $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split the file contents into a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and process each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splitContents [split $contents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line $splitContents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MAIN SCRIPT - call our only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de [catch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agent.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errorMessa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{$cod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ts $error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B73F-06A1-4952-871A-0FD8745B5F43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utline (I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30760" y="1074600"/>
            <a:ext cx="506664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4C07-D9EE-4D8C-9E95-4DDD557CAB2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 Tcl primitives (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48320" y="1411200"/>
            <a:ext cx="42343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ster with the local agen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name &lt;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tain a name in the name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register and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73960" y="1162080"/>
            <a:ext cx="1233360" cy="66024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agentred" descr=""/>
          <p:cNvPicPr/>
          <p:nvPr/>
        </p:nvPicPr>
        <p:blipFill>
          <a:blip r:embed="rId1"/>
          <a:stretch/>
        </p:blipFill>
        <p:spPr>
          <a:xfrm>
            <a:off x="6872400" y="2292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4356720" y="12222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425920" y="2813040"/>
            <a:ext cx="3470400" cy="111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402160" y="2630520"/>
            <a:ext cx="0" cy="404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921880" y="2631960"/>
            <a:ext cx="0" cy="405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5400720" y="176184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5630760" y="176328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465000" y="310824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name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 flipV="1">
            <a:off x="7521480" y="1779120"/>
            <a:ext cx="1378080" cy="1033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986160" y="31068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3096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53588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759280" y="1546200"/>
            <a:ext cx="460440" cy="62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6028920" y="2308320"/>
            <a:ext cx="25740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8008920" y="2360520"/>
            <a:ext cx="257040" cy="784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5520" y="4249800"/>
            <a:ext cx="4256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agent&gt; &lt;code&gt; &lt;strin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a message to an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gent_rece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varname&gt; &lt;varname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e a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79280" y="380376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7147080" y="4449600"/>
            <a:ext cx="1780920" cy="716040"/>
            <a:chOff x="7147080" y="4449600"/>
            <a:chExt cx="1780920" cy="716040"/>
          </a:xfrm>
        </p:grpSpPr>
        <p:sp>
          <p:nvSpPr>
            <p:cNvPr id="749" name=""/>
            <p:cNvSpPr/>
            <p:nvPr/>
          </p:nvSpPr>
          <p:spPr>
            <a:xfrm>
              <a:off x="7147080" y="4751280"/>
              <a:ext cx="1780920" cy="414360"/>
            </a:xfrm>
            <a:prstGeom prst="parallelogram">
              <a:avLst>
                <a:gd name="adj" fmla="val 1476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0" name="agentred" descr=""/>
            <p:cNvPicPr/>
            <p:nvPr/>
          </p:nvPicPr>
          <p:blipFill>
            <a:blip r:embed="rId2"/>
            <a:stretch/>
          </p:blipFill>
          <p:spPr>
            <a:xfrm>
              <a:off x="7803720" y="4449600"/>
              <a:ext cx="50940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1" name=""/>
          <p:cNvSpPr/>
          <p:nvPr/>
        </p:nvSpPr>
        <p:spPr>
          <a:xfrm>
            <a:off x="7311960" y="58356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4505400" y="5127480"/>
            <a:ext cx="1781280" cy="716040"/>
            <a:chOff x="4505400" y="5127480"/>
            <a:chExt cx="1781280" cy="716040"/>
          </a:xfrm>
        </p:grpSpPr>
        <p:sp>
          <p:nvSpPr>
            <p:cNvPr id="753" name=""/>
            <p:cNvSpPr/>
            <p:nvPr/>
          </p:nvSpPr>
          <p:spPr>
            <a:xfrm>
              <a:off x="4505400" y="5429160"/>
              <a:ext cx="1781280" cy="414360"/>
            </a:xfrm>
            <a:prstGeom prst="parallelogram">
              <a:avLst>
                <a:gd name="adj" fmla="val 14765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agentred" descr=""/>
            <p:cNvPicPr/>
            <p:nvPr/>
          </p:nvPicPr>
          <p:blipFill>
            <a:blip r:embed="rId3"/>
            <a:stretch/>
          </p:blipFill>
          <p:spPr>
            <a:xfrm>
              <a:off x="5162400" y="5127480"/>
              <a:ext cx="50976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5" name=""/>
          <p:cNvSpPr/>
          <p:nvPr/>
        </p:nvSpPr>
        <p:spPr>
          <a:xfrm>
            <a:off x="4682880" y="58374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5703840" y="4617720"/>
            <a:ext cx="209556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163040" y="401148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send {B database} 0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388200" y="4370400"/>
            <a:ext cx="25704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867080" y="114444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6989760" y="4492800"/>
            <a:ext cx="383760" cy="183960"/>
            <a:chOff x="6989760" y="4492800"/>
            <a:chExt cx="383760" cy="183960"/>
          </a:xfrm>
        </p:grpSpPr>
        <p:sp>
          <p:nvSpPr>
            <p:cNvPr id="761" name=""/>
            <p:cNvSpPr/>
            <p:nvPr/>
          </p:nvSpPr>
          <p:spPr>
            <a:xfrm>
              <a:off x="6992640" y="4492800"/>
              <a:ext cx="380880" cy="183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2" name=""/>
            <p:cNvGrpSpPr/>
            <p:nvPr/>
          </p:nvGrpSpPr>
          <p:grpSpPr>
            <a:xfrm>
              <a:off x="6989760" y="4494960"/>
              <a:ext cx="383400" cy="82440"/>
              <a:chOff x="6989760" y="4494960"/>
              <a:chExt cx="383400" cy="82440"/>
            </a:xfrm>
          </p:grpSpPr>
          <p:sp>
            <p:nvSpPr>
              <p:cNvPr id="763" name=""/>
              <p:cNvSpPr/>
              <p:nvPr/>
            </p:nvSpPr>
            <p:spPr>
              <a:xfrm>
                <a:off x="6989760" y="4500360"/>
                <a:ext cx="191880" cy="7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181280" y="4494960"/>
                <a:ext cx="19188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5" name=""/>
          <p:cNvSpPr/>
          <p:nvPr/>
        </p:nvSpPr>
        <p:spPr>
          <a:xfrm>
            <a:off x="6314040" y="53514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receive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7989840" y="4964040"/>
            <a:ext cx="77760" cy="43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6D1-E414-4BE1-A2A0-A9FD1978F864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 Tcl primitives (I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79280" y="331488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27080" y="1344600"/>
            <a:ext cx="42559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grate to a new machine and continue from the point of the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63536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4540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000760" y="158904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699160" y="2057400"/>
            <a:ext cx="1563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agentred" descr=""/>
          <p:cNvPicPr/>
          <p:nvPr/>
        </p:nvPicPr>
        <p:blipFill>
          <a:blip r:embed="rId1"/>
          <a:stretch/>
        </p:blipFill>
        <p:spPr>
          <a:xfrm>
            <a:off x="7277040" y="16002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6951600" y="24750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29040" y="2476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571720" y="11127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78640" y="1469880"/>
            <a:ext cx="245880" cy="58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27080" y="4184640"/>
            <a:ext cx="4255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&lt;procedur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&lt;variabl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&lt;scri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a new (child)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277160" y="3440160"/>
            <a:ext cx="4757040" cy="3005640"/>
            <a:chOff x="4277160" y="3440160"/>
            <a:chExt cx="4757040" cy="3005640"/>
          </a:xfrm>
        </p:grpSpPr>
        <p:sp>
          <p:nvSpPr>
            <p:cNvPr id="781" name=""/>
            <p:cNvSpPr/>
            <p:nvPr/>
          </p:nvSpPr>
          <p:spPr>
            <a:xfrm>
              <a:off x="4538880" y="40053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93040" y="554184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3" name="agentred" descr=""/>
            <p:cNvPicPr/>
            <p:nvPr/>
          </p:nvPicPr>
          <p:blipFill>
            <a:blip r:embed="rId2"/>
            <a:stretch/>
          </p:blipFill>
          <p:spPr>
            <a:xfrm>
              <a:off x="7024680" y="517212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"/>
            <p:cNvSpPr/>
            <p:nvPr/>
          </p:nvSpPr>
          <p:spPr>
            <a:xfrm>
              <a:off x="6699240" y="604692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732200" y="4511520"/>
              <a:ext cx="137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6" name="agentred" descr=""/>
            <p:cNvPicPr/>
            <p:nvPr/>
          </p:nvPicPr>
          <p:blipFill>
            <a:blip r:embed="rId3"/>
            <a:stretch/>
          </p:blipFill>
          <p:spPr>
            <a:xfrm>
              <a:off x="5069160" y="360828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5748480" y="4124160"/>
              <a:ext cx="1266840" cy="104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47440" y="3440160"/>
              <a:ext cx="2786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1. agent_submit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procs sea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vars 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scri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{search $query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6656040" y="4627440"/>
              <a:ext cx="157320" cy="258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77160" y="529740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2.search $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510240" y="5378400"/>
              <a:ext cx="51588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5C1-B09E-4C9F-AD5B-A5D848DA42A2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gent Tcl primitives (III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26880" y="3166920"/>
            <a:ext cx="4256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ne an agent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or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 chil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30920" y="24829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985080" y="401940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agentred" descr=""/>
          <p:cNvPicPr/>
          <p:nvPr/>
        </p:nvPicPr>
        <p:blipFill>
          <a:blip r:embed="rId1"/>
          <a:stretch/>
        </p:blipFill>
        <p:spPr>
          <a:xfrm>
            <a:off x="7416720" y="364968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7091280" y="452448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124240" y="2989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agentred" descr=""/>
          <p:cNvPicPr/>
          <p:nvPr/>
        </p:nvPicPr>
        <p:blipFill>
          <a:blip r:embed="rId2"/>
          <a:stretch/>
        </p:blipFill>
        <p:spPr>
          <a:xfrm>
            <a:off x="5460840" y="208584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6140520" y="2602080"/>
            <a:ext cx="1266840" cy="1041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932160" y="2712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7048080" y="3105000"/>
            <a:ext cx="157320" cy="25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334120" y="3486240"/>
            <a:ext cx="16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xact copy that continues from fork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902280" y="3855960"/>
            <a:ext cx="516240" cy="10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3F6-E977-4A4E-8DFB-6461B642264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Other feature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951840" y="1289160"/>
            <a:ext cx="7237800" cy="4435560"/>
            <a:chOff x="951840" y="1289160"/>
            <a:chExt cx="7237800" cy="4435560"/>
          </a:xfrm>
        </p:grpSpPr>
        <p:sp>
          <p:nvSpPr>
            <p:cNvPr id="807" name=""/>
            <p:cNvSpPr/>
            <p:nvPr/>
          </p:nvSpPr>
          <p:spPr>
            <a:xfrm>
              <a:off x="1278000" y="141156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eet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488960" y="238788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951840" y="3357720"/>
              <a:ext cx="202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tus repo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039680" y="4210200"/>
              <a:ext cx="184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tif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965520" y="4899240"/>
              <a:ext cx="199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vent-dri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gram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54320" y="12891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ond communication mechanism (direct connection between agen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54320" y="22654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it for a message, meeting request, data arriving over a meeting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54320" y="32356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hich agents are running on machine A?  Who owns agent X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54320" y="4240440"/>
              <a:ext cx="503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ssage from server on agent birth or de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54320" y="49593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nt handlers for all types of incoming commun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2FCF-18D0-427E-8D83-3DFA36A18BAD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Naming schem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225720" y="1224000"/>
            <a:ext cx="8675280" cy="3539880"/>
            <a:chOff x="225720" y="1224000"/>
            <a:chExt cx="8675280" cy="3539880"/>
          </a:xfrm>
        </p:grpSpPr>
        <p:grpSp>
          <p:nvGrpSpPr>
            <p:cNvPr id="819" name=""/>
            <p:cNvGrpSpPr/>
            <p:nvPr/>
          </p:nvGrpSpPr>
          <p:grpSpPr>
            <a:xfrm>
              <a:off x="5054400" y="3630600"/>
              <a:ext cx="1781280" cy="1133280"/>
              <a:chOff x="5054400" y="3630600"/>
              <a:chExt cx="1781280" cy="1133280"/>
            </a:xfrm>
          </p:grpSpPr>
          <p:grpSp>
            <p:nvGrpSpPr>
              <p:cNvPr id="820" name=""/>
              <p:cNvGrpSpPr/>
              <p:nvPr/>
            </p:nvGrpSpPr>
            <p:grpSpPr>
              <a:xfrm>
                <a:off x="5054400" y="3630600"/>
                <a:ext cx="1781280" cy="715320"/>
                <a:chOff x="5054400" y="3630600"/>
                <a:chExt cx="1781280" cy="7153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054400" y="3931920"/>
                  <a:ext cx="1781280" cy="414000"/>
                </a:xfrm>
                <a:prstGeom prst="parallelogram">
                  <a:avLst>
                    <a:gd name="adj" fmla="val 147782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22" name="agentred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11400" y="3630600"/>
                  <a:ext cx="509760" cy="526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23" name=""/>
              <p:cNvSpPr/>
              <p:nvPr/>
            </p:nvSpPr>
            <p:spPr>
              <a:xfrm>
                <a:off x="5221080" y="4365000"/>
                <a:ext cx="136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919080" y="3625560"/>
              <a:ext cx="1780920" cy="1108440"/>
              <a:chOff x="919080" y="3625560"/>
              <a:chExt cx="1780920" cy="1108440"/>
            </a:xfrm>
          </p:grpSpPr>
          <p:grpSp>
            <p:nvGrpSpPr>
              <p:cNvPr id="825" name=""/>
              <p:cNvGrpSpPr/>
              <p:nvPr/>
            </p:nvGrpSpPr>
            <p:grpSpPr>
              <a:xfrm>
                <a:off x="919080" y="3625560"/>
                <a:ext cx="1780920" cy="716040"/>
                <a:chOff x="919080" y="3625560"/>
                <a:chExt cx="1780920" cy="71604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919080" y="3927240"/>
                  <a:ext cx="1780920" cy="414360"/>
                </a:xfrm>
                <a:prstGeom prst="parallelogram">
                  <a:avLst>
                    <a:gd name="adj" fmla="val 147624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27" name="agentred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75720" y="3625560"/>
                  <a:ext cx="509400" cy="52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28" name=""/>
              <p:cNvSpPr/>
              <p:nvPr/>
            </p:nvSpPr>
            <p:spPr>
              <a:xfrm>
                <a:off x="1096560" y="4335120"/>
                <a:ext cx="137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 flipV="1">
              <a:off x="2118960" y="3774960"/>
              <a:ext cx="3584880" cy="66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25720" y="2665440"/>
              <a:ext cx="278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TR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17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3740040" y="3560760"/>
              <a:ext cx="383760" cy="183600"/>
              <a:chOff x="3740040" y="3560760"/>
              <a:chExt cx="383760" cy="183600"/>
            </a:xfrm>
          </p:grpSpPr>
          <p:sp>
            <p:nvSpPr>
              <p:cNvPr id="832" name=""/>
              <p:cNvSpPr/>
              <p:nvPr/>
            </p:nvSpPr>
            <p:spPr>
              <a:xfrm>
                <a:off x="3742920" y="3560760"/>
                <a:ext cx="380880" cy="183600"/>
              </a:xfrm>
              <a:prstGeom prst="rect">
                <a:avLst/>
              </a:prstGeom>
              <a:noFill/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3" name=""/>
              <p:cNvGrpSpPr/>
              <p:nvPr/>
            </p:nvGrpSpPr>
            <p:grpSpPr>
              <a:xfrm>
                <a:off x="3740040" y="3562920"/>
                <a:ext cx="383400" cy="82080"/>
                <a:chOff x="3740040" y="3562920"/>
                <a:chExt cx="383400" cy="8208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3740040" y="3568320"/>
                  <a:ext cx="191880" cy="766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>
                  <a:off x="3931560" y="3562920"/>
                  <a:ext cx="191880" cy="820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6" name=""/>
            <p:cNvSpPr/>
            <p:nvPr/>
          </p:nvSpPr>
          <p:spPr>
            <a:xfrm>
              <a:off x="5029560" y="3236760"/>
              <a:ext cx="176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&lt;B, “TR”, 17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689280" y="2112840"/>
              <a:ext cx="1212840" cy="70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028840" y="1224000"/>
              <a:ext cx="187344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mbolic name (chosen by agen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27560" y="1503360"/>
              <a:ext cx="1873440" cy="1313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eric id (chosen by system, unique per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673520" y="2855880"/>
              <a:ext cx="54900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940360" y="2273040"/>
              <a:ext cx="55440" cy="10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6578280" y="2855880"/>
              <a:ext cx="72864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551880" y="5284800"/>
            <a:ext cx="803340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ddressing through the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yellow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34AE-2CF1-416B-8951-5EDBBEFE63F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 skeleton ag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76120" y="1054080"/>
            <a:ext cx="4248360" cy="48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child {machine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 task, updat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 and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518120" y="60357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151600" y="113832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submit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machines {A B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$agent(local-server)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child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machines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{child $machine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ge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receive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de results -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36920" y="603720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ent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4527720" y="4202280"/>
            <a:ext cx="660240" cy="178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 flipV="1">
            <a:off x="4527360" y="1053720"/>
            <a:ext cx="671400" cy="179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8EA-9BF9-43C8-B08D-38A718356893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he “who” agent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400760" y="55897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43000" y="1349280"/>
            <a:ext cx="4079880" cy="416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end results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ec who &lt;&lt; {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11680" y="4041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840200" y="45673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126120" y="17636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385040" y="13273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8" name="agentred" descr=""/>
          <p:cNvPicPr/>
          <p:nvPr/>
        </p:nvPicPr>
        <p:blipFill>
          <a:blip r:embed="rId2"/>
          <a:stretch/>
        </p:blipFill>
        <p:spPr>
          <a:xfrm>
            <a:off x="6656400" y="136692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7093080" y="405288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221240" y="4576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481880" y="367992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441560" y="3348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agentred" descr=""/>
          <p:cNvPicPr/>
          <p:nvPr/>
        </p:nvPicPr>
        <p:blipFill>
          <a:blip r:embed="rId3"/>
          <a:stretch/>
        </p:blipFill>
        <p:spPr>
          <a:xfrm>
            <a:off x="5151600" y="36720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5108040" y="3349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51560" y="2151000"/>
            <a:ext cx="436680" cy="1211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639200" y="228132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Submit 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194600" y="4975200"/>
            <a:ext cx="673200" cy="897120"/>
          </a:xfrm>
          <a:custGeom>
            <a:avLst/>
            <a:gdLst/>
            <a:ahLst/>
            <a:rect l="l" t="t" r="r" b="b"/>
            <a:pathLst>
              <a:path w="375" h="593">
                <a:moveTo>
                  <a:pt x="375" y="0"/>
                </a:moveTo>
                <a:cubicBezTo>
                  <a:pt x="374" y="141"/>
                  <a:pt x="373" y="282"/>
                  <a:pt x="311" y="381"/>
                </a:cubicBezTo>
                <a:cubicBezTo>
                  <a:pt x="249" y="480"/>
                  <a:pt x="124" y="536"/>
                  <a:pt x="0" y="59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622920" y="54500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535720" y="4986360"/>
            <a:ext cx="1009440" cy="896760"/>
          </a:xfrm>
          <a:custGeom>
            <a:avLst/>
            <a:gdLst/>
            <a:ahLst/>
            <a:rect l="l" t="t" r="r" b="b"/>
            <a:pathLst>
              <a:path w="636" h="565">
                <a:moveTo>
                  <a:pt x="636" y="565"/>
                </a:moveTo>
                <a:cubicBezTo>
                  <a:pt x="466" y="527"/>
                  <a:pt x="297" y="489"/>
                  <a:pt x="191" y="395"/>
                </a:cubicBezTo>
                <a:cubicBezTo>
                  <a:pt x="85" y="301"/>
                  <a:pt x="42" y="15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273720" y="52848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502240" y="2139840"/>
            <a:ext cx="1120680" cy="122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67320" y="2209680"/>
            <a:ext cx="14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end list of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62FC-7523-4137-8918-5B06BEB9092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 application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74" name="smart" descr=""/>
          <p:cNvPicPr/>
          <p:nvPr/>
        </p:nvPicPr>
        <p:blipFill>
          <a:blip r:embed="rId1"/>
          <a:stretch/>
        </p:blipFill>
        <p:spPr>
          <a:xfrm>
            <a:off x="1030320" y="10270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875" name="list" descr=""/>
          <p:cNvPicPr/>
          <p:nvPr/>
        </p:nvPicPr>
        <p:blipFill>
          <a:blip r:embed="rId2"/>
          <a:stretch/>
        </p:blipFill>
        <p:spPr>
          <a:xfrm>
            <a:off x="216000" y="22478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365760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7" name="agentred" descr=""/>
          <p:cNvPicPr/>
          <p:nvPr/>
        </p:nvPicPr>
        <p:blipFill>
          <a:blip r:embed="rId3"/>
          <a:stretch/>
        </p:blipFill>
        <p:spPr>
          <a:xfrm>
            <a:off x="390852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095560" y="24098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554200" y="29462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153680" y="1601640"/>
            <a:ext cx="195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Ask for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663560" y="5373720"/>
            <a:ext cx="203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. Send merg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17800" y="40766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16000" y="582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7015320" y="4835520"/>
            <a:ext cx="1828800" cy="969840"/>
            <a:chOff x="7015320" y="4835520"/>
            <a:chExt cx="1828800" cy="969840"/>
          </a:xfrm>
        </p:grpSpPr>
        <p:sp>
          <p:nvSpPr>
            <p:cNvPr id="885" name=""/>
            <p:cNvSpPr/>
            <p:nvPr/>
          </p:nvSpPr>
          <p:spPr>
            <a:xfrm>
              <a:off x="7015320" y="52722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974360" y="48355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7" name="agentred" descr=""/>
            <p:cNvPicPr/>
            <p:nvPr/>
          </p:nvPicPr>
          <p:blipFill>
            <a:blip r:embed="rId4"/>
            <a:stretch/>
          </p:blipFill>
          <p:spPr>
            <a:xfrm>
              <a:off x="7216920" y="53118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8" name=""/>
          <p:cNvSpPr/>
          <p:nvPr/>
        </p:nvSpPr>
        <p:spPr>
          <a:xfrm>
            <a:off x="7463880" y="26114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i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7032600" y="1646280"/>
            <a:ext cx="1828800" cy="960120"/>
            <a:chOff x="7032600" y="1646280"/>
            <a:chExt cx="1828800" cy="960120"/>
          </a:xfrm>
        </p:grpSpPr>
        <p:sp>
          <p:nvSpPr>
            <p:cNvPr id="890" name=""/>
            <p:cNvSpPr/>
            <p:nvPr/>
          </p:nvSpPr>
          <p:spPr>
            <a:xfrm>
              <a:off x="7032600" y="20732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011800" y="16462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2" name="agentred" descr=""/>
            <p:cNvPicPr/>
            <p:nvPr/>
          </p:nvPicPr>
          <p:blipFill>
            <a:blip r:embed="rId5"/>
            <a:stretch/>
          </p:blipFill>
          <p:spPr>
            <a:xfrm>
              <a:off x="7254720" y="21128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3" name=""/>
          <p:cNvSpPr/>
          <p:nvPr/>
        </p:nvSpPr>
        <p:spPr>
          <a:xfrm flipV="1">
            <a:off x="4594320" y="25650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83160" y="50418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373720" y="414036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. Submit search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 Collect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7710480" y="20494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7664400" y="52430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046320" y="3198960"/>
            <a:ext cx="197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ubmit proxy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31200" y="57103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28520" y="4062240"/>
            <a:ext cx="163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9. Displa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0.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913440" y="90000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. Query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. Return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81800" y="3189240"/>
            <a:ext cx="17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rdcod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and document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288-AB76-4A21-B7E4-1B3D1FC9133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530080" y="76320"/>
            <a:ext cx="602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Talking to the user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084400" y="1025640"/>
            <a:ext cx="683892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gister with the agen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-nonewline “Enter a query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 stdin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roxy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bald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collections {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muir tiog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m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proxy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the proxy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proclist {proxyAgent searchAgent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varlist {me query collections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proxyAgent $me $query $collections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ceive the query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“Query results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80720" y="320184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-e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71360" y="5383080"/>
            <a:ext cx="187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7F84-8DE7-4944-93E6-4A974CF4685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085840" y="75960"/>
            <a:ext cx="66852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Sitting in the middle  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984320" y="925560"/>
            <a:ext cx="6883560" cy="56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proxyAgent {parent query collection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numCollections [llength $collec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m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collections {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searc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machine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proclist searchAgent -varlist {me query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searchAgent $me $que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{set i 0} {i &lt; $numCollections} {incr i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collect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partialResults -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erge into results so f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35080" y="276696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front-en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6680" y="5505480"/>
            <a:ext cx="18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1B79-4582-40F4-9206-8A4AF358F5AE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Introduction to Agent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30032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” is an old concept in A.I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sky’s book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ociety of Mind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1980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ahn and Cerf “Knobots” at CN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 “agent” is a system that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s long-lived (persistent),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as goals, sensors, and effectors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cides autonomously what actions to take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o maximize progress toward its time-varying goal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40B-E3BF-46C5-97E9-6DED83DCCE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019240" y="7632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TR: Searching the collection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984320" y="1014480"/>
            <a:ext cx="688356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searchAgent {parent query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the query to the database interfac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nd receive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“$agent(local-server) TR”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 “keyword-query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in a more complex version of the TR, u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bstract of the most relevant document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new query, compare the two result list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the results and 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35080" y="273384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proxy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C74-037E-4099-B47A-03AA6A2E78A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: Step by step (redux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15" name="smart" descr=""/>
          <p:cNvPicPr/>
          <p:nvPr/>
        </p:nvPicPr>
        <p:blipFill>
          <a:blip r:embed="rId1"/>
          <a:stretch/>
        </p:blipFill>
        <p:spPr>
          <a:xfrm>
            <a:off x="1041480" y="12826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916" name="list" descr=""/>
          <p:cNvPicPr/>
          <p:nvPr/>
        </p:nvPicPr>
        <p:blipFill>
          <a:blip r:embed="rId2"/>
          <a:stretch/>
        </p:blipFill>
        <p:spPr>
          <a:xfrm>
            <a:off x="227160" y="25034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3668760" y="5386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agentred" descr=""/>
          <p:cNvPicPr/>
          <p:nvPr/>
        </p:nvPicPr>
        <p:blipFill>
          <a:blip r:embed="rId3"/>
          <a:stretch/>
        </p:blipFill>
        <p:spPr>
          <a:xfrm>
            <a:off x="3919680" y="51577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2106720" y="2665440"/>
            <a:ext cx="53316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65360" y="32018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178160" y="1738440"/>
            <a:ext cx="24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2. gets stdin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181160" y="56498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8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028960" y="43322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7026120" y="5091120"/>
            <a:ext cx="1828800" cy="969840"/>
            <a:chOff x="7026120" y="5091120"/>
            <a:chExt cx="1828800" cy="969840"/>
          </a:xfrm>
        </p:grpSpPr>
        <p:sp>
          <p:nvSpPr>
            <p:cNvPr id="925" name=""/>
            <p:cNvSpPr/>
            <p:nvPr/>
          </p:nvSpPr>
          <p:spPr>
            <a:xfrm>
              <a:off x="7026120" y="55278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985160" y="50911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7" name="agentred" descr=""/>
            <p:cNvPicPr/>
            <p:nvPr/>
          </p:nvPicPr>
          <p:blipFill>
            <a:blip r:embed="rId4"/>
            <a:stretch/>
          </p:blipFill>
          <p:spPr>
            <a:xfrm>
              <a:off x="7227720" y="55674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8" name=""/>
          <p:cNvGrpSpPr/>
          <p:nvPr/>
        </p:nvGrpSpPr>
        <p:grpSpPr>
          <a:xfrm>
            <a:off x="7043760" y="1901880"/>
            <a:ext cx="1828800" cy="960120"/>
            <a:chOff x="7043760" y="1901880"/>
            <a:chExt cx="1828800" cy="960120"/>
          </a:xfrm>
        </p:grpSpPr>
        <p:sp>
          <p:nvSpPr>
            <p:cNvPr id="929" name=""/>
            <p:cNvSpPr/>
            <p:nvPr/>
          </p:nvSpPr>
          <p:spPr>
            <a:xfrm>
              <a:off x="7043760" y="23288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022960" y="19018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1" name="agentred" descr=""/>
            <p:cNvPicPr/>
            <p:nvPr/>
          </p:nvPicPr>
          <p:blipFill>
            <a:blip r:embed="rId5"/>
            <a:stretch/>
          </p:blipFill>
          <p:spPr>
            <a:xfrm>
              <a:off x="7265880" y="23684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2" name=""/>
          <p:cNvSpPr/>
          <p:nvPr/>
        </p:nvSpPr>
        <p:spPr>
          <a:xfrm flipV="1">
            <a:off x="4605480" y="28206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594320" y="52974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7721640" y="23050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7675560" y="54986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790720" y="313848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submit proxy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654960" y="968400"/>
            <a:ext cx="248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 agent_sen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6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84880" y="4398840"/>
            <a:ext cx="24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4. agent_submit search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7. 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11240" y="4311720"/>
            <a:ext cx="21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9. 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0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10F4-55BA-49F5-BD7E-FE7F7FB6D41F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Application: e-commer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6737400" y="3543480"/>
            <a:ext cx="1915920" cy="234612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5708520" y="3181320"/>
            <a:ext cx="2719440" cy="7351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5638680" y="4700520"/>
            <a:ext cx="2814840" cy="1271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5721480" y="4546440"/>
            <a:ext cx="1388880" cy="3445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 flipV="1">
            <a:off x="5697000" y="3596760"/>
            <a:ext cx="1460520" cy="11772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930240" y="3152880"/>
            <a:ext cx="4778280" cy="287496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1352520" y="3370320"/>
            <a:ext cx="488880" cy="488880"/>
          </a:xfrm>
          <a:prstGeom prst="ellipse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1649520" y="2633760"/>
            <a:ext cx="2351160" cy="73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53920" y="1293840"/>
            <a:ext cx="997200" cy="45072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243160" y="1009800"/>
            <a:ext cx="961920" cy="4618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b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26040" y="1008000"/>
            <a:ext cx="1103040" cy="53496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d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386400" y="2379600"/>
            <a:ext cx="1779840" cy="43992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ellow 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047000" y="1076400"/>
            <a:ext cx="1103400" cy="53496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d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257800" y="2600280"/>
            <a:ext cx="1093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4629240" y="1542600"/>
            <a:ext cx="129960" cy="808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5116680" y="1436760"/>
            <a:ext cx="194436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887400" y="3379680"/>
            <a:ext cx="488880" cy="488880"/>
          </a:xfrm>
          <a:prstGeom prst="ellipse">
            <a:avLst/>
          </a:prstGeom>
          <a:noFill/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>
            <a:off x="961920" y="2825640"/>
            <a:ext cx="177840" cy="5572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890640" y="1744200"/>
            <a:ext cx="272880" cy="652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914400" y="1436400"/>
            <a:ext cx="1530360" cy="973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901800" y="1375920"/>
            <a:ext cx="3348000" cy="10335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215880" y="1222200"/>
            <a:ext cx="99684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000680" y="2351160"/>
            <a:ext cx="1234800" cy="498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97000" y="2421000"/>
            <a:ext cx="1257120" cy="41580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A6B3-31DB-4858-A441-E9D884E3382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030760" y="2057400"/>
            <a:ext cx="5066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1749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000080" y="267336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F8B2-C830-4072-9B47-23509E8C4DC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74480" y="76320"/>
            <a:ext cx="8219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ultiple queries:  10 Mb/s Ethernet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69" name="queries-ethernet" descr=""/>
          <p:cNvPicPr/>
          <p:nvPr/>
        </p:nvPicPr>
        <p:blipFill>
          <a:blip r:embed="rId1"/>
          <a:stretch/>
        </p:blipFill>
        <p:spPr>
          <a:xfrm>
            <a:off x="1157400" y="113364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7F9F-50CD-41DB-9F1D-672FDF3D8B82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ultiple queries: 1 Mb/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1" name="queries-roamabout" descr=""/>
          <p:cNvPicPr/>
          <p:nvPr/>
        </p:nvPicPr>
        <p:blipFill>
          <a:blip r:embed="rId1"/>
          <a:stretch/>
        </p:blipFill>
        <p:spPr>
          <a:xfrm>
            <a:off x="1157400" y="110016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172-9424-4A37-B629-6EB4168D9D61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Multiple queries: 0.1 Mb/s modem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3" name="queries-modem" descr=""/>
          <p:cNvPicPr/>
          <p:nvPr/>
        </p:nvPicPr>
        <p:blipFill>
          <a:blip r:embed="rId1"/>
          <a:stretch/>
        </p:blipFill>
        <p:spPr>
          <a:xfrm>
            <a:off x="1157400" y="112248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798F-9367-432C-A036-ECB3C9FF6827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Base performan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5" name="base-roamabout" descr=""/>
          <p:cNvPicPr/>
          <p:nvPr/>
        </p:nvPicPr>
        <p:blipFill>
          <a:blip r:embed="rId1"/>
          <a:stretch/>
        </p:blipFill>
        <p:spPr>
          <a:xfrm>
            <a:off x="1122480" y="1112760"/>
            <a:ext cx="689616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01A-FCC4-4D17-B36D-76168B2663AF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What lowers performance?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291760" y="3306600"/>
            <a:ext cx="50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All messages through server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24180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714240" y="2152800"/>
            <a:ext cx="1781280" cy="715320"/>
            <a:chOff x="714240" y="2152800"/>
            <a:chExt cx="1781280" cy="715320"/>
          </a:xfrm>
        </p:grpSpPr>
        <p:sp>
          <p:nvSpPr>
            <p:cNvPr id="980" name=""/>
            <p:cNvSpPr/>
            <p:nvPr/>
          </p:nvSpPr>
          <p:spPr>
            <a:xfrm>
              <a:off x="714240" y="2454120"/>
              <a:ext cx="1781280" cy="414000"/>
            </a:xfrm>
            <a:prstGeom prst="parallelogram">
              <a:avLst>
                <a:gd name="adj" fmla="val 14778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1" name="agentred" descr=""/>
            <p:cNvPicPr/>
            <p:nvPr/>
          </p:nvPicPr>
          <p:blipFill>
            <a:blip r:embed="rId1"/>
            <a:stretch/>
          </p:blipFill>
          <p:spPr>
            <a:xfrm>
              <a:off x="1371240" y="2152800"/>
              <a:ext cx="509760" cy="52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2" name=""/>
          <p:cNvGrpSpPr/>
          <p:nvPr/>
        </p:nvGrpSpPr>
        <p:grpSpPr>
          <a:xfrm>
            <a:off x="2730600" y="1401840"/>
            <a:ext cx="383760" cy="183960"/>
            <a:chOff x="2730600" y="1401840"/>
            <a:chExt cx="383760" cy="183960"/>
          </a:xfrm>
        </p:grpSpPr>
        <p:sp>
          <p:nvSpPr>
            <p:cNvPr id="983" name=""/>
            <p:cNvSpPr/>
            <p:nvPr/>
          </p:nvSpPr>
          <p:spPr>
            <a:xfrm>
              <a:off x="2733480" y="140184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2730600" y="1404000"/>
              <a:ext cx="383400" cy="82440"/>
              <a:chOff x="2730600" y="1404000"/>
              <a:chExt cx="383400" cy="82440"/>
            </a:xfrm>
          </p:grpSpPr>
          <p:sp>
            <p:nvSpPr>
              <p:cNvPr id="985" name=""/>
              <p:cNvSpPr/>
              <p:nvPr/>
            </p:nvSpPr>
            <p:spPr>
              <a:xfrm>
                <a:off x="2730600" y="140940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2922120" y="140400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7" name=""/>
          <p:cNvGrpSpPr/>
          <p:nvPr/>
        </p:nvGrpSpPr>
        <p:grpSpPr>
          <a:xfrm>
            <a:off x="2870280" y="2152800"/>
            <a:ext cx="1780920" cy="715320"/>
            <a:chOff x="2870280" y="2152800"/>
            <a:chExt cx="1780920" cy="715320"/>
          </a:xfrm>
        </p:grpSpPr>
        <p:sp>
          <p:nvSpPr>
            <p:cNvPr id="988" name=""/>
            <p:cNvSpPr/>
            <p:nvPr/>
          </p:nvSpPr>
          <p:spPr>
            <a:xfrm>
              <a:off x="2870280" y="2454120"/>
              <a:ext cx="1780920" cy="414000"/>
            </a:xfrm>
            <a:prstGeom prst="parallelogram">
              <a:avLst>
                <a:gd name="adj" fmla="val 14775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9" name="agentred" descr=""/>
            <p:cNvPicPr/>
            <p:nvPr/>
          </p:nvPicPr>
          <p:blipFill>
            <a:blip r:embed="rId2"/>
            <a:stretch/>
          </p:blipFill>
          <p:spPr>
            <a:xfrm>
              <a:off x="3526920" y="2152800"/>
              <a:ext cx="509400" cy="52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0" name=""/>
          <p:cNvSpPr/>
          <p:nvPr/>
        </p:nvSpPr>
        <p:spPr>
          <a:xfrm flipV="1">
            <a:off x="1900080" y="1669680"/>
            <a:ext cx="1289160" cy="53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782880" y="1771560"/>
            <a:ext cx="0" cy="346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84600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81160" y="28274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27080" y="111132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214720" y="1703520"/>
            <a:ext cx="223560" cy="280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911920" y="2454120"/>
            <a:ext cx="3036960" cy="414360"/>
          </a:xfrm>
          <a:prstGeom prst="parallelogram">
            <a:avLst>
              <a:gd name="adj" fmla="val 14634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agentred" descr=""/>
          <p:cNvPicPr/>
          <p:nvPr/>
        </p:nvPicPr>
        <p:blipFill>
          <a:blip r:embed="rId3"/>
          <a:stretch/>
        </p:blipFill>
        <p:spPr>
          <a:xfrm>
            <a:off x="6540480" y="2239920"/>
            <a:ext cx="509760" cy="527040"/>
          </a:xfrm>
          <a:prstGeom prst="rect">
            <a:avLst/>
          </a:prstGeom>
          <a:ln w="0">
            <a:noFill/>
          </a:ln>
        </p:spPr>
      </p:pic>
      <p:pic>
        <p:nvPicPr>
          <p:cNvPr id="998" name="agentred" descr=""/>
          <p:cNvPicPr/>
          <p:nvPr/>
        </p:nvPicPr>
        <p:blipFill>
          <a:blip r:embed="rId4"/>
          <a:stretch/>
        </p:blipFill>
        <p:spPr>
          <a:xfrm>
            <a:off x="7658280" y="2238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684684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62436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6810480" y="1782360"/>
            <a:ext cx="336600" cy="43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634160" y="1789200"/>
            <a:ext cx="236520" cy="414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6446880" y="1835280"/>
            <a:ext cx="383760" cy="183960"/>
            <a:chOff x="6446880" y="1835280"/>
            <a:chExt cx="383760" cy="183960"/>
          </a:xfrm>
        </p:grpSpPr>
        <p:sp>
          <p:nvSpPr>
            <p:cNvPr id="1004" name=""/>
            <p:cNvSpPr/>
            <p:nvPr/>
          </p:nvSpPr>
          <p:spPr>
            <a:xfrm>
              <a:off x="6449760" y="183528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6446880" y="1837440"/>
              <a:ext cx="383400" cy="82440"/>
              <a:chOff x="6446880" y="1837440"/>
              <a:chExt cx="383400" cy="82440"/>
            </a:xfrm>
          </p:grpSpPr>
          <p:sp>
            <p:nvSpPr>
              <p:cNvPr id="1006" name=""/>
              <p:cNvSpPr/>
              <p:nvPr/>
            </p:nvSpPr>
            <p:spPr>
              <a:xfrm>
                <a:off x="6446880" y="184284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6638400" y="183744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"/>
          <p:cNvGrpSpPr/>
          <p:nvPr/>
        </p:nvGrpSpPr>
        <p:grpSpPr>
          <a:xfrm>
            <a:off x="1687680" y="4119480"/>
            <a:ext cx="6292800" cy="1655640"/>
            <a:chOff x="1687680" y="4119480"/>
            <a:chExt cx="6292800" cy="1655640"/>
          </a:xfrm>
        </p:grpSpPr>
        <p:grpSp>
          <p:nvGrpSpPr>
            <p:cNvPr id="1009" name=""/>
            <p:cNvGrpSpPr/>
            <p:nvPr/>
          </p:nvGrpSpPr>
          <p:grpSpPr>
            <a:xfrm>
              <a:off x="4943880" y="4701960"/>
              <a:ext cx="3036600" cy="1073160"/>
              <a:chOff x="4943880" y="4701960"/>
              <a:chExt cx="3036600" cy="1073160"/>
            </a:xfrm>
          </p:grpSpPr>
          <p:sp>
            <p:nvSpPr>
              <p:cNvPr id="1010" name=""/>
              <p:cNvSpPr/>
              <p:nvPr/>
            </p:nvSpPr>
            <p:spPr>
              <a:xfrm>
                <a:off x="4943880" y="5360760"/>
                <a:ext cx="3036600" cy="414360"/>
              </a:xfrm>
              <a:prstGeom prst="parallelogram">
                <a:avLst>
                  <a:gd name="adj" fmla="val 100766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362920" y="4707000"/>
                <a:ext cx="1233360" cy="963360"/>
              </a:xfrm>
              <a:prstGeom prst="cube">
                <a:avLst>
                  <a:gd name="adj" fmla="val 2301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378840" y="4701960"/>
                <a:ext cx="1233360" cy="963720"/>
              </a:xfrm>
              <a:prstGeom prst="cube">
                <a:avLst>
                  <a:gd name="adj" fmla="val 23018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687680" y="4890960"/>
              <a:ext cx="1781280" cy="695160"/>
              <a:chOff x="1687680" y="4890960"/>
              <a:chExt cx="1781280" cy="695160"/>
            </a:xfrm>
          </p:grpSpPr>
          <p:sp>
            <p:nvSpPr>
              <p:cNvPr id="1014" name=""/>
              <p:cNvSpPr/>
              <p:nvPr/>
            </p:nvSpPr>
            <p:spPr>
              <a:xfrm>
                <a:off x="1687680" y="5171760"/>
                <a:ext cx="1781280" cy="414360"/>
              </a:xfrm>
              <a:prstGeom prst="parallelogram">
                <a:avLst>
                  <a:gd name="adj" fmla="val 14765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5" name="agentred" descr=""/>
              <p:cNvPicPr/>
              <p:nvPr/>
            </p:nvPicPr>
            <p:blipFill>
              <a:blip r:embed="rId5"/>
              <a:stretch/>
            </p:blipFill>
            <p:spPr>
              <a:xfrm>
                <a:off x="2332440" y="489096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6" name=""/>
            <p:cNvSpPr/>
            <p:nvPr/>
          </p:nvSpPr>
          <p:spPr>
            <a:xfrm>
              <a:off x="2876760" y="5076720"/>
              <a:ext cx="24544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319560" y="4221000"/>
              <a:ext cx="12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942000" y="4840200"/>
              <a:ext cx="133200" cy="223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727800" y="506556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02560" y="4119480"/>
              <a:ext cx="1054080" cy="709560"/>
            </a:xfrm>
            <a:custGeom>
              <a:avLst/>
              <a:gdLst/>
              <a:ahLst/>
              <a:rect l="l" t="t" r="r" b="b"/>
              <a:pathLst>
                <a:path w="657" h="447">
                  <a:moveTo>
                    <a:pt x="0" y="447"/>
                  </a:moveTo>
                  <a:cubicBezTo>
                    <a:pt x="164" y="225"/>
                    <a:pt x="329" y="4"/>
                    <a:pt x="438" y="2"/>
                  </a:cubicBezTo>
                  <a:cubicBezTo>
                    <a:pt x="547" y="0"/>
                    <a:pt x="602" y="216"/>
                    <a:pt x="657" y="433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2496960" y="585612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Interpreter initialization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20320" y="3665520"/>
            <a:ext cx="1198800" cy="100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362-3C31-476D-BD57-5EA33598F10B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’Agents: Hot Interpreter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103560" y="5386320"/>
            <a:ext cx="299232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401760" y="2459160"/>
            <a:ext cx="2384280" cy="1321920"/>
            <a:chOff x="401760" y="2459160"/>
            <a:chExt cx="2384280" cy="1321920"/>
          </a:xfrm>
        </p:grpSpPr>
        <p:sp>
          <p:nvSpPr>
            <p:cNvPr id="1026" name=""/>
            <p:cNvSpPr/>
            <p:nvPr/>
          </p:nvSpPr>
          <p:spPr>
            <a:xfrm>
              <a:off x="401760" y="2863800"/>
              <a:ext cx="2384280" cy="917280"/>
            </a:xfrm>
            <a:prstGeom prst="cube">
              <a:avLst>
                <a:gd name="adj" fmla="val 18569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23920" indent="-22392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7" name="agentred" descr=""/>
            <p:cNvPicPr/>
            <p:nvPr/>
          </p:nvPicPr>
          <p:blipFill>
            <a:blip r:embed="rId1"/>
            <a:stretch/>
          </p:blipFill>
          <p:spPr>
            <a:xfrm>
              <a:off x="202248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agentred" descr=""/>
            <p:cNvPicPr/>
            <p:nvPr/>
          </p:nvPicPr>
          <p:blipFill>
            <a:blip r:embed="rId2"/>
            <a:stretch/>
          </p:blipFill>
          <p:spPr>
            <a:xfrm>
              <a:off x="1568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agentred" descr=""/>
            <p:cNvPicPr/>
            <p:nvPr/>
          </p:nvPicPr>
          <p:blipFill>
            <a:blip r:embed="rId3"/>
            <a:stretch/>
          </p:blipFill>
          <p:spPr>
            <a:xfrm>
              <a:off x="110484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agentred" descr=""/>
            <p:cNvPicPr/>
            <p:nvPr/>
          </p:nvPicPr>
          <p:blipFill>
            <a:blip r:embed="rId4"/>
            <a:stretch/>
          </p:blipFill>
          <p:spPr>
            <a:xfrm>
              <a:off x="641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1" name=""/>
            <p:cNvGrpSpPr/>
            <p:nvPr/>
          </p:nvGrpSpPr>
          <p:grpSpPr>
            <a:xfrm>
              <a:off x="807840" y="3163680"/>
              <a:ext cx="101880" cy="493560"/>
              <a:chOff x="807840" y="3163680"/>
              <a:chExt cx="101880" cy="493560"/>
            </a:xfrm>
          </p:grpSpPr>
          <p:sp>
            <p:nvSpPr>
              <p:cNvPr id="1032" name=""/>
              <p:cNvSpPr/>
              <p:nvPr/>
            </p:nvSpPr>
            <p:spPr>
              <a:xfrm flipH="1">
                <a:off x="808200" y="316368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08200" y="325404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808200" y="334296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08200" y="345564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807840" y="354456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590400" y="3214440"/>
              <a:ext cx="101880" cy="493560"/>
              <a:chOff x="590400" y="3214440"/>
              <a:chExt cx="101880" cy="493560"/>
            </a:xfrm>
          </p:grpSpPr>
          <p:sp>
            <p:nvSpPr>
              <p:cNvPr id="1038" name=""/>
              <p:cNvSpPr/>
              <p:nvPr/>
            </p:nvSpPr>
            <p:spPr>
              <a:xfrm flipH="1">
                <a:off x="590760" y="321444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90760" y="330480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590760" y="339372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90760" y="350640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590400" y="359532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1068120" y="3222360"/>
              <a:ext cx="101880" cy="493560"/>
              <a:chOff x="1068120" y="3222360"/>
              <a:chExt cx="101880" cy="493560"/>
            </a:xfrm>
          </p:grpSpPr>
          <p:sp>
            <p:nvSpPr>
              <p:cNvPr id="1044" name=""/>
              <p:cNvSpPr/>
              <p:nvPr/>
            </p:nvSpPr>
            <p:spPr>
              <a:xfrm flipH="1">
                <a:off x="1068480" y="322236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068480" y="331272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>
                <a:off x="1068480" y="340164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068480" y="351432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>
                <a:off x="1068120" y="360324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1387080" y="3138480"/>
              <a:ext cx="101880" cy="492840"/>
              <a:chOff x="1387080" y="3138480"/>
              <a:chExt cx="101880" cy="492840"/>
            </a:xfrm>
          </p:grpSpPr>
          <p:sp>
            <p:nvSpPr>
              <p:cNvPr id="1050" name=""/>
              <p:cNvSpPr/>
              <p:nvPr/>
            </p:nvSpPr>
            <p:spPr>
              <a:xfrm flipH="1">
                <a:off x="1387440" y="313848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387440" y="322848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1387440" y="331740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387440" y="343008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>
                <a:off x="1387080" y="351900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1653840" y="3235320"/>
              <a:ext cx="101880" cy="492840"/>
              <a:chOff x="1653840" y="3235320"/>
              <a:chExt cx="101880" cy="492840"/>
            </a:xfrm>
          </p:grpSpPr>
          <p:sp>
            <p:nvSpPr>
              <p:cNvPr id="1056" name=""/>
              <p:cNvSpPr/>
              <p:nvPr/>
            </p:nvSpPr>
            <p:spPr>
              <a:xfrm flipH="1">
                <a:off x="1654200" y="3235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654200" y="3325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1654200" y="3414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654200" y="3526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H="1">
                <a:off x="1653840" y="3615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1895040" y="3119400"/>
              <a:ext cx="101880" cy="492840"/>
              <a:chOff x="1895040" y="3119400"/>
              <a:chExt cx="101880" cy="492840"/>
            </a:xfrm>
          </p:grpSpPr>
          <p:sp>
            <p:nvSpPr>
              <p:cNvPr id="1062" name=""/>
              <p:cNvSpPr/>
              <p:nvPr/>
            </p:nvSpPr>
            <p:spPr>
              <a:xfrm flipH="1">
                <a:off x="1895400" y="311940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895400" y="320940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1895400" y="329832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895400" y="341100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1895040" y="349992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2158560" y="3181320"/>
              <a:ext cx="101880" cy="492840"/>
              <a:chOff x="2158560" y="3181320"/>
              <a:chExt cx="101880" cy="492840"/>
            </a:xfrm>
          </p:grpSpPr>
          <p:sp>
            <p:nvSpPr>
              <p:cNvPr id="1068" name=""/>
              <p:cNvSpPr/>
              <p:nvPr/>
            </p:nvSpPr>
            <p:spPr>
              <a:xfrm flipH="1">
                <a:off x="2158920" y="3181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158920" y="3271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2158920" y="3360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158920" y="3472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2158560" y="3561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3" name=""/>
          <p:cNvSpPr/>
          <p:nvPr/>
        </p:nvSpPr>
        <p:spPr>
          <a:xfrm>
            <a:off x="1014840" y="206064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3392640" y="950760"/>
            <a:ext cx="2330280" cy="3620880"/>
            <a:chOff x="3392640" y="950760"/>
            <a:chExt cx="2330280" cy="3620880"/>
          </a:xfrm>
        </p:grpSpPr>
        <p:grpSp>
          <p:nvGrpSpPr>
            <p:cNvPr id="1075" name=""/>
            <p:cNvGrpSpPr/>
            <p:nvPr/>
          </p:nvGrpSpPr>
          <p:grpSpPr>
            <a:xfrm>
              <a:off x="3392640" y="1669680"/>
              <a:ext cx="2330280" cy="2901960"/>
              <a:chOff x="3392640" y="1669680"/>
              <a:chExt cx="2330280" cy="2901960"/>
            </a:xfrm>
          </p:grpSpPr>
          <p:grpSp>
            <p:nvGrpSpPr>
              <p:cNvPr id="1076" name=""/>
              <p:cNvGrpSpPr/>
              <p:nvPr/>
            </p:nvGrpSpPr>
            <p:grpSpPr>
              <a:xfrm>
                <a:off x="3620880" y="1798200"/>
                <a:ext cx="1907640" cy="2630160"/>
                <a:chOff x="3620880" y="1798200"/>
                <a:chExt cx="1907640" cy="263016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46684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8" name=""/>
                <p:cNvGrpSpPr/>
                <p:nvPr/>
              </p:nvGrpSpPr>
              <p:grpSpPr>
                <a:xfrm>
                  <a:off x="3620880" y="3546000"/>
                  <a:ext cx="1907640" cy="882360"/>
                  <a:chOff x="3620880" y="3546000"/>
                  <a:chExt cx="1907640" cy="88236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>
                    <a:off x="46684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6208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1" name=""/>
                <p:cNvSpPr/>
                <p:nvPr/>
              </p:nvSpPr>
              <p:spPr>
                <a:xfrm>
                  <a:off x="36208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82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833280" y="18126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3" name="agentred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871520" y="31413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agentred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12760" y="315864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agentred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872960" y="17982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86" name=""/>
                <p:cNvGrpSpPr/>
                <p:nvPr/>
              </p:nvGrpSpPr>
              <p:grpSpPr>
                <a:xfrm>
                  <a:off x="3947400" y="2482560"/>
                  <a:ext cx="101160" cy="493560"/>
                  <a:chOff x="3947400" y="2482560"/>
                  <a:chExt cx="101160" cy="493560"/>
                </a:xfrm>
              </p:grpSpPr>
              <p:sp>
                <p:nvSpPr>
                  <p:cNvPr id="1087" name=""/>
                  <p:cNvSpPr/>
                  <p:nvPr/>
                </p:nvSpPr>
                <p:spPr>
                  <a:xfrm flipH="1">
                    <a:off x="3947400" y="24825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947760" y="25729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 flipH="1">
                    <a:off x="3947400" y="26618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947760" y="27745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 flipH="1">
                    <a:off x="3947760" y="28634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2" name=""/>
                <p:cNvGrpSpPr/>
                <p:nvPr/>
              </p:nvGrpSpPr>
              <p:grpSpPr>
                <a:xfrm>
                  <a:off x="4996440" y="2477880"/>
                  <a:ext cx="101880" cy="493560"/>
                  <a:chOff x="4996440" y="2477880"/>
                  <a:chExt cx="101880" cy="493560"/>
                </a:xfrm>
              </p:grpSpPr>
              <p:sp>
                <p:nvSpPr>
                  <p:cNvPr id="1093" name=""/>
                  <p:cNvSpPr/>
                  <p:nvPr/>
                </p:nvSpPr>
                <p:spPr>
                  <a:xfrm flipH="1">
                    <a:off x="4996800" y="247788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996800" y="256824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 flipH="1">
                    <a:off x="4996800" y="265716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4996800" y="276984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 flipH="1">
                    <a:off x="4996440" y="285876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8" name=""/>
                <p:cNvGrpSpPr/>
                <p:nvPr/>
              </p:nvGrpSpPr>
              <p:grpSpPr>
                <a:xfrm>
                  <a:off x="5009400" y="3790440"/>
                  <a:ext cx="101160" cy="493560"/>
                  <a:chOff x="5009400" y="3790440"/>
                  <a:chExt cx="101160" cy="493560"/>
                </a:xfrm>
              </p:grpSpPr>
              <p:sp>
                <p:nvSpPr>
                  <p:cNvPr id="1099" name=""/>
                  <p:cNvSpPr/>
                  <p:nvPr/>
                </p:nvSpPr>
                <p:spPr>
                  <a:xfrm flipH="1">
                    <a:off x="5009400" y="379044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5009760" y="388080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 flipH="1">
                    <a:off x="5009400" y="396972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5009760" y="408240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 flipH="1">
                    <a:off x="5009760" y="417132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3940920" y="3843000"/>
                  <a:ext cx="101160" cy="493560"/>
                  <a:chOff x="3940920" y="3843000"/>
                  <a:chExt cx="101160" cy="493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 flipH="1">
                    <a:off x="3940920" y="38430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3941280" y="39333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flipH="1">
                    <a:off x="3940920" y="40222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3941280" y="41349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flipH="1">
                    <a:off x="3941280" y="42238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10" name=""/>
              <p:cNvSpPr/>
              <p:nvPr/>
            </p:nvSpPr>
            <p:spPr>
              <a:xfrm>
                <a:off x="3392640" y="166968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1" name=""/>
            <p:cNvSpPr/>
            <p:nvPr/>
          </p:nvSpPr>
          <p:spPr>
            <a:xfrm>
              <a:off x="3749760" y="950760"/>
              <a:ext cx="161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Tcl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2" name=""/>
          <p:cNvGrpSpPr/>
          <p:nvPr/>
        </p:nvGrpSpPr>
        <p:grpSpPr>
          <a:xfrm>
            <a:off x="6418440" y="922320"/>
            <a:ext cx="2330280" cy="3649680"/>
            <a:chOff x="6418440" y="922320"/>
            <a:chExt cx="2330280" cy="3649680"/>
          </a:xfrm>
        </p:grpSpPr>
        <p:grpSp>
          <p:nvGrpSpPr>
            <p:cNvPr id="1113" name=""/>
            <p:cNvGrpSpPr/>
            <p:nvPr/>
          </p:nvGrpSpPr>
          <p:grpSpPr>
            <a:xfrm>
              <a:off x="6418440" y="1670040"/>
              <a:ext cx="2330280" cy="2901960"/>
              <a:chOff x="6418440" y="1670040"/>
              <a:chExt cx="2330280" cy="2901960"/>
            </a:xfrm>
          </p:grpSpPr>
          <p:grpSp>
            <p:nvGrpSpPr>
              <p:cNvPr id="1114" name=""/>
              <p:cNvGrpSpPr/>
              <p:nvPr/>
            </p:nvGrpSpPr>
            <p:grpSpPr>
              <a:xfrm>
                <a:off x="6646680" y="1798560"/>
                <a:ext cx="1907640" cy="2630160"/>
                <a:chOff x="6646680" y="1798560"/>
                <a:chExt cx="1907640" cy="2630160"/>
              </a:xfrm>
            </p:grpSpPr>
            <p:sp>
              <p:nvSpPr>
                <p:cNvPr id="1115" name=""/>
                <p:cNvSpPr/>
                <p:nvPr/>
              </p:nvSpPr>
              <p:spPr>
                <a:xfrm>
                  <a:off x="76942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6" name=""/>
                <p:cNvGrpSpPr/>
                <p:nvPr/>
              </p:nvGrpSpPr>
              <p:grpSpPr>
                <a:xfrm>
                  <a:off x="6646680" y="3546360"/>
                  <a:ext cx="1907640" cy="882360"/>
                  <a:chOff x="6646680" y="3546360"/>
                  <a:chExt cx="1907640" cy="88236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>
                    <a:off x="76942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66466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9" name=""/>
                <p:cNvSpPr/>
                <p:nvPr/>
              </p:nvSpPr>
              <p:spPr>
                <a:xfrm>
                  <a:off x="66466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120" name="agentred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59080" y="18129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1" name="agentred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97320" y="314172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2" name="agentred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38560" y="315900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3" name="agentred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898760" y="17985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24" name=""/>
                <p:cNvGrpSpPr/>
                <p:nvPr/>
              </p:nvGrpSpPr>
              <p:grpSpPr>
                <a:xfrm>
                  <a:off x="6973200" y="2482920"/>
                  <a:ext cx="101160" cy="493560"/>
                  <a:chOff x="6973200" y="2482920"/>
                  <a:chExt cx="101160" cy="493560"/>
                </a:xfrm>
              </p:grpSpPr>
              <p:sp>
                <p:nvSpPr>
                  <p:cNvPr id="1125" name=""/>
                  <p:cNvSpPr/>
                  <p:nvPr/>
                </p:nvSpPr>
                <p:spPr>
                  <a:xfrm flipH="1">
                    <a:off x="6973200" y="248292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6973560" y="257328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 flipH="1">
                    <a:off x="6973200" y="266220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6973560" y="277488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 flipH="1">
                    <a:off x="6973560" y="286380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0" name=""/>
                <p:cNvGrpSpPr/>
                <p:nvPr/>
              </p:nvGrpSpPr>
              <p:grpSpPr>
                <a:xfrm>
                  <a:off x="8022240" y="2478240"/>
                  <a:ext cx="101880" cy="493560"/>
                  <a:chOff x="8022240" y="2478240"/>
                  <a:chExt cx="101880" cy="493560"/>
                </a:xfrm>
              </p:grpSpPr>
              <p:sp>
                <p:nvSpPr>
                  <p:cNvPr id="1131" name=""/>
                  <p:cNvSpPr/>
                  <p:nvPr/>
                </p:nvSpPr>
                <p:spPr>
                  <a:xfrm flipH="1">
                    <a:off x="8022600" y="247824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8022600" y="256860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 flipH="1">
                    <a:off x="8022600" y="265752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8022600" y="277020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 flipH="1">
                    <a:off x="8022240" y="285912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6" name=""/>
                <p:cNvGrpSpPr/>
                <p:nvPr/>
              </p:nvGrpSpPr>
              <p:grpSpPr>
                <a:xfrm>
                  <a:off x="8035200" y="3790800"/>
                  <a:ext cx="101160" cy="493560"/>
                  <a:chOff x="8035200" y="3790800"/>
                  <a:chExt cx="101160" cy="493560"/>
                </a:xfrm>
              </p:grpSpPr>
              <p:sp>
                <p:nvSpPr>
                  <p:cNvPr id="1137" name=""/>
                  <p:cNvSpPr/>
                  <p:nvPr/>
                </p:nvSpPr>
                <p:spPr>
                  <a:xfrm flipH="1">
                    <a:off x="8035200" y="37908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8035560" y="38811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 flipH="1">
                    <a:off x="8035200" y="39700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8035560" y="40827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 flipH="1">
                    <a:off x="8035560" y="41716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2" name=""/>
                <p:cNvGrpSpPr/>
                <p:nvPr/>
              </p:nvGrpSpPr>
              <p:grpSpPr>
                <a:xfrm>
                  <a:off x="6966720" y="3843360"/>
                  <a:ext cx="101160" cy="493560"/>
                  <a:chOff x="6966720" y="3843360"/>
                  <a:chExt cx="101160" cy="493560"/>
                </a:xfrm>
              </p:grpSpPr>
              <p:sp>
                <p:nvSpPr>
                  <p:cNvPr id="1143" name=""/>
                  <p:cNvSpPr/>
                  <p:nvPr/>
                </p:nvSpPr>
                <p:spPr>
                  <a:xfrm flipH="1">
                    <a:off x="6966720" y="38433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6967080" y="39337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 flipH="1">
                    <a:off x="6966720" y="40226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6967080" y="41353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 flipH="1">
                    <a:off x="6967080" y="42242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48" name=""/>
              <p:cNvSpPr/>
              <p:nvPr/>
            </p:nvSpPr>
            <p:spPr>
              <a:xfrm>
                <a:off x="6418440" y="167004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9" name=""/>
            <p:cNvSpPr/>
            <p:nvPr/>
          </p:nvSpPr>
          <p:spPr>
            <a:xfrm>
              <a:off x="6634080" y="922320"/>
              <a:ext cx="189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Scheme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0" name=""/>
          <p:cNvSpPr/>
          <p:nvPr/>
        </p:nvSpPr>
        <p:spPr>
          <a:xfrm>
            <a:off x="3962520" y="4451400"/>
            <a:ext cx="304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4495680" y="4451400"/>
            <a:ext cx="4572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600200" y="3809880"/>
            <a:ext cx="1905120" cy="16002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5562360" y="4451400"/>
            <a:ext cx="1447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5791320" y="4451400"/>
            <a:ext cx="22860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20640" y="4419720"/>
            <a:ext cx="210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ipes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VM / interpr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o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981840" y="5692680"/>
            <a:ext cx="1866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his optimization is already reflected in the preceding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3047-4DBB-49E9-837E-291A78D5B2C2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search in AI community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4764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gle-agent system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on selection (planning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ledge representation and infere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ent learning and adapt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-agent system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unication and collabor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ergent properties of group behavi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2615-6611-4150-8342-AA29D3EA39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69640" y="212760"/>
            <a:ext cx="69404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caling to large platforms:</a:t>
            </a:r>
            <a:br>
              <a:rPr sz="44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rv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alable Document Server</a:t>
            </a:r>
            <a:endParaRPr b="1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1"/>
          <a:stretch/>
        </p:blipFill>
        <p:spPr>
          <a:xfrm>
            <a:off x="6772320" y="0"/>
            <a:ext cx="2371680" cy="300348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272880" y="1506600"/>
            <a:ext cx="4475160" cy="46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24720" y="158760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-node Linux clust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 internal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2"/>
          <a:stretch/>
        </p:blipFill>
        <p:spPr>
          <a:xfrm>
            <a:off x="6726240" y="3792600"/>
            <a:ext cx="1916280" cy="2346120"/>
          </a:xfrm>
          <a:prstGeom prst="rect">
            <a:avLst/>
          </a:prstGeom>
          <a:ln w="0">
            <a:noFill/>
          </a:ln>
        </p:spPr>
      </p:pic>
      <p:sp>
        <p:nvSpPr>
          <p:cNvPr id="1162" name=""/>
          <p:cNvSpPr/>
          <p:nvPr/>
        </p:nvSpPr>
        <p:spPr>
          <a:xfrm>
            <a:off x="7304760" y="42260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4902120" y="2954160"/>
            <a:ext cx="2051280" cy="1579680"/>
            <a:chOff x="4902120" y="2954160"/>
            <a:chExt cx="2051280" cy="1579680"/>
          </a:xfrm>
        </p:grpSpPr>
        <p:sp>
          <p:nvSpPr>
            <p:cNvPr id="1164" name=""/>
            <p:cNvSpPr/>
            <p:nvPr/>
          </p:nvSpPr>
          <p:spPr>
            <a:xfrm>
              <a:off x="4902120" y="2954160"/>
              <a:ext cx="2051280" cy="1579680"/>
            </a:xfrm>
            <a:custGeom>
              <a:avLst/>
              <a:gdLst/>
              <a:ahLst/>
              <a:rect l="l" t="t" r="r" b="b"/>
              <a:pathLst>
                <a:path w="1088" h="838">
                  <a:moveTo>
                    <a:pt x="120" y="112"/>
                  </a:moveTo>
                  <a:cubicBezTo>
                    <a:pt x="188" y="43"/>
                    <a:pt x="260" y="9"/>
                    <a:pt x="352" y="0"/>
                  </a:cubicBezTo>
                  <a:cubicBezTo>
                    <a:pt x="371" y="6"/>
                    <a:pt x="393" y="4"/>
                    <a:pt x="411" y="15"/>
                  </a:cubicBezTo>
                  <a:cubicBezTo>
                    <a:pt x="421" y="21"/>
                    <a:pt x="438" y="69"/>
                    <a:pt x="441" y="75"/>
                  </a:cubicBezTo>
                  <a:cubicBezTo>
                    <a:pt x="479" y="63"/>
                    <a:pt x="503" y="58"/>
                    <a:pt x="546" y="53"/>
                  </a:cubicBezTo>
                  <a:cubicBezTo>
                    <a:pt x="623" y="65"/>
                    <a:pt x="632" y="79"/>
                    <a:pt x="673" y="150"/>
                  </a:cubicBezTo>
                  <a:cubicBezTo>
                    <a:pt x="655" y="223"/>
                    <a:pt x="578" y="190"/>
                    <a:pt x="748" y="202"/>
                  </a:cubicBezTo>
                  <a:cubicBezTo>
                    <a:pt x="793" y="218"/>
                    <a:pt x="842" y="216"/>
                    <a:pt x="890" y="225"/>
                  </a:cubicBezTo>
                  <a:cubicBezTo>
                    <a:pt x="900" y="239"/>
                    <a:pt x="918" y="251"/>
                    <a:pt x="920" y="269"/>
                  </a:cubicBezTo>
                  <a:cubicBezTo>
                    <a:pt x="921" y="295"/>
                    <a:pt x="888" y="319"/>
                    <a:pt x="897" y="344"/>
                  </a:cubicBezTo>
                  <a:cubicBezTo>
                    <a:pt x="906" y="370"/>
                    <a:pt x="963" y="372"/>
                    <a:pt x="987" y="382"/>
                  </a:cubicBezTo>
                  <a:cubicBezTo>
                    <a:pt x="1007" y="390"/>
                    <a:pt x="1047" y="411"/>
                    <a:pt x="1047" y="411"/>
                  </a:cubicBezTo>
                  <a:cubicBezTo>
                    <a:pt x="1063" y="482"/>
                    <a:pt x="1033" y="523"/>
                    <a:pt x="972" y="554"/>
                  </a:cubicBezTo>
                  <a:cubicBezTo>
                    <a:pt x="1011" y="568"/>
                    <a:pt x="1055" y="577"/>
                    <a:pt x="1069" y="621"/>
                  </a:cubicBezTo>
                  <a:cubicBezTo>
                    <a:pt x="1071" y="643"/>
                    <a:pt x="1088" y="668"/>
                    <a:pt x="1077" y="688"/>
                  </a:cubicBezTo>
                  <a:cubicBezTo>
                    <a:pt x="1033" y="762"/>
                    <a:pt x="931" y="766"/>
                    <a:pt x="860" y="778"/>
                  </a:cubicBezTo>
                  <a:cubicBezTo>
                    <a:pt x="835" y="775"/>
                    <a:pt x="809" y="773"/>
                    <a:pt x="785" y="770"/>
                  </a:cubicBezTo>
                  <a:cubicBezTo>
                    <a:pt x="772" y="768"/>
                    <a:pt x="759" y="757"/>
                    <a:pt x="748" y="763"/>
                  </a:cubicBezTo>
                  <a:cubicBezTo>
                    <a:pt x="735" y="769"/>
                    <a:pt x="736" y="790"/>
                    <a:pt x="725" y="800"/>
                  </a:cubicBezTo>
                  <a:cubicBezTo>
                    <a:pt x="705" y="816"/>
                    <a:pt x="680" y="825"/>
                    <a:pt x="658" y="838"/>
                  </a:cubicBezTo>
                  <a:cubicBezTo>
                    <a:pt x="635" y="835"/>
                    <a:pt x="613" y="834"/>
                    <a:pt x="591" y="830"/>
                  </a:cubicBezTo>
                  <a:cubicBezTo>
                    <a:pt x="558" y="824"/>
                    <a:pt x="494" y="808"/>
                    <a:pt x="494" y="808"/>
                  </a:cubicBezTo>
                  <a:cubicBezTo>
                    <a:pt x="452" y="766"/>
                    <a:pt x="457" y="773"/>
                    <a:pt x="404" y="793"/>
                  </a:cubicBezTo>
                  <a:cubicBezTo>
                    <a:pt x="371" y="788"/>
                    <a:pt x="337" y="788"/>
                    <a:pt x="307" y="778"/>
                  </a:cubicBezTo>
                  <a:cubicBezTo>
                    <a:pt x="251" y="759"/>
                    <a:pt x="332" y="750"/>
                    <a:pt x="284" y="726"/>
                  </a:cubicBezTo>
                  <a:cubicBezTo>
                    <a:pt x="263" y="716"/>
                    <a:pt x="239" y="720"/>
                    <a:pt x="217" y="718"/>
                  </a:cubicBezTo>
                  <a:cubicBezTo>
                    <a:pt x="172" y="692"/>
                    <a:pt x="130" y="671"/>
                    <a:pt x="112" y="621"/>
                  </a:cubicBezTo>
                  <a:cubicBezTo>
                    <a:pt x="119" y="593"/>
                    <a:pt x="143" y="566"/>
                    <a:pt x="135" y="539"/>
                  </a:cubicBezTo>
                  <a:cubicBezTo>
                    <a:pt x="129" y="521"/>
                    <a:pt x="98" y="531"/>
                    <a:pt x="82" y="524"/>
                  </a:cubicBezTo>
                  <a:cubicBezTo>
                    <a:pt x="53" y="511"/>
                    <a:pt x="21" y="477"/>
                    <a:pt x="0" y="456"/>
                  </a:cubicBezTo>
                  <a:cubicBezTo>
                    <a:pt x="7" y="415"/>
                    <a:pt x="8" y="380"/>
                    <a:pt x="52" y="367"/>
                  </a:cubicBezTo>
                  <a:cubicBezTo>
                    <a:pt x="73" y="305"/>
                    <a:pt x="50" y="390"/>
                    <a:pt x="45" y="314"/>
                  </a:cubicBezTo>
                  <a:cubicBezTo>
                    <a:pt x="39" y="235"/>
                    <a:pt x="48" y="191"/>
                    <a:pt x="120" y="172"/>
                  </a:cubicBezTo>
                  <a:cubicBezTo>
                    <a:pt x="158" y="145"/>
                    <a:pt x="132" y="152"/>
                    <a:pt x="120" y="112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61760" y="356040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6018120" y="4071960"/>
            <a:ext cx="936720" cy="1147680"/>
          </a:xfrm>
          <a:custGeom>
            <a:avLst/>
            <a:gdLst/>
            <a:ahLst/>
            <a:rect l="l" t="t" r="r" b="b"/>
            <a:pathLst>
              <a:path w="590" h="723">
                <a:moveTo>
                  <a:pt x="590" y="710"/>
                </a:moveTo>
                <a:cubicBezTo>
                  <a:pt x="426" y="716"/>
                  <a:pt x="262" y="723"/>
                  <a:pt x="164" y="605"/>
                </a:cubicBezTo>
                <a:cubicBezTo>
                  <a:pt x="65" y="486"/>
                  <a:pt x="28" y="102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144960" y="1957320"/>
            <a:ext cx="1330200" cy="110484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173760" y="203832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y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189320" y="2671920"/>
            <a:ext cx="1685880" cy="888840"/>
          </a:xfrm>
          <a:custGeom>
            <a:avLst/>
            <a:gdLst/>
            <a:ahLst/>
            <a:rect l="l" t="t" r="r" b="b"/>
            <a:pathLst>
              <a:path w="972" h="553">
                <a:moveTo>
                  <a:pt x="972" y="553"/>
                </a:moveTo>
                <a:cubicBezTo>
                  <a:pt x="933" y="382"/>
                  <a:pt x="894" y="212"/>
                  <a:pt x="733" y="120"/>
                </a:cubicBezTo>
                <a:cubicBezTo>
                  <a:pt x="571" y="27"/>
                  <a:pt x="285" y="13"/>
                  <a:pt x="0" y="0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52320" y="2357280"/>
            <a:ext cx="1449360" cy="110520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47800" y="2987640"/>
            <a:ext cx="1057320" cy="355680"/>
          </a:xfrm>
          <a:prstGeom prst="roundRect">
            <a:avLst>
              <a:gd name="adj" fmla="val 33481"/>
            </a:avLst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741240" y="2552760"/>
            <a:ext cx="1270080" cy="3315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066680" y="3424320"/>
            <a:ext cx="1449360" cy="110484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262160" y="4054320"/>
            <a:ext cx="1057320" cy="355680"/>
          </a:xfrm>
          <a:prstGeom prst="roundRect">
            <a:avLst>
              <a:gd name="adj" fmla="val 33481"/>
            </a:avLst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155600" y="3619440"/>
            <a:ext cx="1270080" cy="33192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481040" y="4491000"/>
            <a:ext cx="1449360" cy="1104840"/>
          </a:xfrm>
          <a:prstGeom prst="roundRect">
            <a:avLst>
              <a:gd name="adj" fmla="val 17671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676520" y="5121360"/>
            <a:ext cx="1057320" cy="355680"/>
          </a:xfrm>
          <a:prstGeom prst="roundRect">
            <a:avLst>
              <a:gd name="adj" fmla="val 33481"/>
            </a:avLst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569960" y="4686480"/>
            <a:ext cx="1270080" cy="3315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1993680" y="2622600"/>
            <a:ext cx="1733400" cy="126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2409840" y="2754360"/>
            <a:ext cx="1341360" cy="8668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2871720" y="2862360"/>
            <a:ext cx="951120" cy="184932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1910880" y="2706840"/>
            <a:ext cx="1816200" cy="43812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2338200" y="2789280"/>
            <a:ext cx="1400040" cy="142380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2741400" y="2895480"/>
            <a:ext cx="1198440" cy="2374920"/>
          </a:xfrm>
          <a:prstGeom prst="line">
            <a:avLst/>
          </a:prstGeom>
          <a:ln w="1260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714840" y="2433600"/>
            <a:ext cx="498240" cy="49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73600" y="2216160"/>
            <a:ext cx="19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uted t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dom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6320" y="5765760"/>
            <a:ext cx="38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s and index are distribu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B9D-52C7-48FA-B591-404E63B52FE3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caling to small platform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325080" y="1096920"/>
            <a:ext cx="8496360" cy="4051080"/>
            <a:chOff x="325080" y="1096920"/>
            <a:chExt cx="8496360" cy="4051080"/>
          </a:xfrm>
        </p:grpSpPr>
        <p:grpSp>
          <p:nvGrpSpPr>
            <p:cNvPr id="1190" name=""/>
            <p:cNvGrpSpPr/>
            <p:nvPr/>
          </p:nvGrpSpPr>
          <p:grpSpPr>
            <a:xfrm>
              <a:off x="7126200" y="2692440"/>
              <a:ext cx="1695240" cy="2227320"/>
              <a:chOff x="7126200" y="2692440"/>
              <a:chExt cx="1695240" cy="2227320"/>
            </a:xfrm>
          </p:grpSpPr>
          <p:pic>
            <p:nvPicPr>
              <p:cNvPr id="1191" name="ppilot" descr=""/>
              <p:cNvPicPr/>
              <p:nvPr/>
            </p:nvPicPr>
            <p:blipFill>
              <a:blip r:embed="rId1"/>
              <a:stretch/>
            </p:blipFill>
            <p:spPr>
              <a:xfrm>
                <a:off x="7387920" y="2692440"/>
                <a:ext cx="117180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7126200" y="4094280"/>
                <a:ext cx="1695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alm III Organiz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3528000" y="2236680"/>
              <a:ext cx="1316160" cy="1500120"/>
              <a:chOff x="3528000" y="2236680"/>
              <a:chExt cx="1316160" cy="1500120"/>
            </a:xfrm>
          </p:grpSpPr>
          <p:pic>
            <p:nvPicPr>
              <p:cNvPr id="1194" name="rterm" descr=""/>
              <p:cNvPicPr/>
              <p:nvPr/>
            </p:nvPicPr>
            <p:blipFill>
              <a:blip r:embed="rId2"/>
              <a:stretch/>
            </p:blipFill>
            <p:spPr>
              <a:xfrm>
                <a:off x="3774960" y="2236680"/>
                <a:ext cx="822240" cy="63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>
                <a:off x="3528000" y="2911320"/>
                <a:ext cx="1316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ro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ch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488960" y="1096920"/>
              <a:ext cx="1703520" cy="1278000"/>
              <a:chOff x="1488960" y="1096920"/>
              <a:chExt cx="1703520" cy="1278000"/>
            </a:xfrm>
          </p:grpSpPr>
          <p:sp>
            <p:nvSpPr>
              <p:cNvPr id="1197" name=""/>
              <p:cNvSpPr/>
              <p:nvPr/>
            </p:nvSpPr>
            <p:spPr>
              <a:xfrm>
                <a:off x="1488960" y="1096920"/>
                <a:ext cx="1703520" cy="1278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493640" y="1589040"/>
                <a:ext cx="1692360" cy="785880"/>
              </a:xfrm>
              <a:prstGeom prst="ellipse">
                <a:avLst/>
              </a:prstGeom>
              <a:solidFill>
                <a:srgbClr val="ff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lm 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860840" y="112716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>
              <a:off x="5583240" y="1967040"/>
              <a:ext cx="1692360" cy="78588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lm 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36320" y="2362320"/>
              <a:ext cx="3240360" cy="284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797360" y="2689200"/>
              <a:ext cx="2711520" cy="728640"/>
            </a:xfrm>
            <a:custGeom>
              <a:avLst/>
              <a:gdLst/>
              <a:ahLst/>
              <a:rect l="l" t="t" r="r" b="b"/>
              <a:pathLst>
                <a:path w="1708" h="459">
                  <a:moveTo>
                    <a:pt x="0" y="0"/>
                  </a:moveTo>
                  <a:cubicBezTo>
                    <a:pt x="295" y="4"/>
                    <a:pt x="590" y="9"/>
                    <a:pt x="875" y="85"/>
                  </a:cubicBezTo>
                  <a:cubicBezTo>
                    <a:pt x="1160" y="161"/>
                    <a:pt x="1434" y="310"/>
                    <a:pt x="1708" y="459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119560" y="3913200"/>
              <a:ext cx="1692360" cy="7858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707000" y="2924280"/>
              <a:ext cx="2735280" cy="985680"/>
            </a:xfrm>
            <a:custGeom>
              <a:avLst/>
              <a:gdLst/>
              <a:ahLst/>
              <a:rect l="l" t="t" r="r" b="b"/>
              <a:pathLst>
                <a:path w="1723" h="621">
                  <a:moveTo>
                    <a:pt x="1723" y="501"/>
                  </a:moveTo>
                  <a:cubicBezTo>
                    <a:pt x="1386" y="561"/>
                    <a:pt x="1050" y="621"/>
                    <a:pt x="763" y="537"/>
                  </a:cubicBezTo>
                  <a:cubicBezTo>
                    <a:pt x="476" y="453"/>
                    <a:pt x="238" y="226"/>
                    <a:pt x="0" y="0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325080" y="2913120"/>
              <a:ext cx="3282840" cy="1446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6" name=""/>
            <p:cNvGrpSpPr/>
            <p:nvPr/>
          </p:nvGrpSpPr>
          <p:grpSpPr>
            <a:xfrm>
              <a:off x="1488960" y="3870360"/>
              <a:ext cx="1703520" cy="1277640"/>
              <a:chOff x="1488960" y="3870360"/>
              <a:chExt cx="1703520" cy="1277640"/>
            </a:xfrm>
          </p:grpSpPr>
          <p:sp>
            <p:nvSpPr>
              <p:cNvPr id="1207" name=""/>
              <p:cNvSpPr/>
              <p:nvPr/>
            </p:nvSpPr>
            <p:spPr>
              <a:xfrm>
                <a:off x="1488960" y="3870360"/>
                <a:ext cx="1703520" cy="1277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861200" y="390024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497240" y="4356000"/>
                <a:ext cx="1692000" cy="7858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ul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0" name=""/>
          <p:cNvSpPr/>
          <p:nvPr/>
        </p:nvSpPr>
        <p:spPr>
          <a:xfrm>
            <a:off x="1084320" y="5549760"/>
            <a:ext cx="69818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urrent work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esign and development of a new Windows NT/CE mobile-agent 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ADCB-FBC4-45C3-9BBA-5CC9ABF23F85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arket-based resource control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12" name="tecra" descr=""/>
          <p:cNvPicPr/>
          <p:nvPr/>
        </p:nvPicPr>
        <p:blipFill>
          <a:blip r:embed="rId1"/>
          <a:stretch/>
        </p:blipFill>
        <p:spPr>
          <a:xfrm>
            <a:off x="5904000" y="1668600"/>
            <a:ext cx="795240" cy="981000"/>
          </a:xfrm>
          <a:prstGeom prst="rect">
            <a:avLst/>
          </a:prstGeom>
          <a:ln w="0">
            <a:noFill/>
          </a:ln>
        </p:spPr>
      </p:pic>
      <p:sp>
        <p:nvSpPr>
          <p:cNvPr id="1213" name=""/>
          <p:cNvSpPr/>
          <p:nvPr/>
        </p:nvSpPr>
        <p:spPr>
          <a:xfrm>
            <a:off x="5924520" y="2719440"/>
            <a:ext cx="6858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4" name="gateway" descr=""/>
          <p:cNvPicPr/>
          <p:nvPr/>
        </p:nvPicPr>
        <p:blipFill>
          <a:blip r:embed="rId2"/>
          <a:stretch/>
        </p:blipFill>
        <p:spPr>
          <a:xfrm>
            <a:off x="3083040" y="1071720"/>
            <a:ext cx="738000" cy="906480"/>
          </a:xfrm>
          <a:prstGeom prst="rect">
            <a:avLst/>
          </a:prstGeom>
          <a:ln w="0">
            <a:noFill/>
          </a:ln>
        </p:spPr>
      </p:pic>
      <p:pic>
        <p:nvPicPr>
          <p:cNvPr id="1215" name="agentred" descr=""/>
          <p:cNvPicPr/>
          <p:nvPr/>
        </p:nvPicPr>
        <p:blipFill>
          <a:blip r:embed="rId3"/>
          <a:stretch/>
        </p:blipFill>
        <p:spPr>
          <a:xfrm>
            <a:off x="3068640" y="2906640"/>
            <a:ext cx="706320" cy="776520"/>
          </a:xfrm>
          <a:prstGeom prst="rect">
            <a:avLst/>
          </a:prstGeom>
          <a:ln w="0">
            <a:noFill/>
          </a:ln>
        </p:spPr>
      </p:pic>
      <p:sp>
        <p:nvSpPr>
          <p:cNvPr id="1216" name=""/>
          <p:cNvSpPr/>
          <p:nvPr/>
        </p:nvSpPr>
        <p:spPr>
          <a:xfrm>
            <a:off x="2137680" y="1876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38560" y="17557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38560" y="198756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38560" y="22273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698920" y="1839960"/>
            <a:ext cx="312480" cy="1054080"/>
          </a:xfrm>
          <a:custGeom>
            <a:avLst/>
            <a:gdLst/>
            <a:ahLst/>
            <a:rect l="l" t="t" r="r" b="b"/>
            <a:pathLst>
              <a:path w="197" h="664">
                <a:moveTo>
                  <a:pt x="197" y="664"/>
                </a:moveTo>
                <a:cubicBezTo>
                  <a:pt x="98" y="529"/>
                  <a:pt x="0" y="394"/>
                  <a:pt x="0" y="283"/>
                </a:cubicBezTo>
                <a:cubicBezTo>
                  <a:pt x="0" y="172"/>
                  <a:pt x="98" y="86"/>
                  <a:pt x="197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706920" y="1974960"/>
            <a:ext cx="295200" cy="896760"/>
          </a:xfrm>
          <a:custGeom>
            <a:avLst/>
            <a:gdLst/>
            <a:ahLst/>
            <a:rect l="l" t="t" r="r" b="b"/>
            <a:pathLst>
              <a:path w="186" h="565">
                <a:moveTo>
                  <a:pt x="0" y="0"/>
                </a:moveTo>
                <a:cubicBezTo>
                  <a:pt x="84" y="66"/>
                  <a:pt x="168" y="132"/>
                  <a:pt x="177" y="226"/>
                </a:cubicBezTo>
                <a:cubicBezTo>
                  <a:pt x="186" y="320"/>
                  <a:pt x="121" y="442"/>
                  <a:pt x="57" y="565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71480" y="3228840"/>
            <a:ext cx="2263680" cy="66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3819600" y="3127320"/>
            <a:ext cx="2060640" cy="16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6665760" y="2499840"/>
            <a:ext cx="1703520" cy="505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040040" y="2720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075800" y="2168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818240" y="2655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68280" y="4178160"/>
            <a:ext cx="363384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conomic incentive to accept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source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 “runaway”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156200" y="4057560"/>
            <a:ext cx="49194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Gets resource share proportional to tic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ptimizes utility function (parameters include risk tolerance, resource needs, and initial ca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BD07-06D0-4571-B8CD-9B62F37010F5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ock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31" name="agentred" descr=""/>
          <p:cNvPicPr/>
          <p:nvPr/>
        </p:nvPicPr>
        <p:blipFill>
          <a:blip r:embed="rId1"/>
          <a:stretch/>
        </p:blipFill>
        <p:spPr>
          <a:xfrm>
            <a:off x="604800" y="652320"/>
            <a:ext cx="615960" cy="676440"/>
          </a:xfrm>
          <a:prstGeom prst="rect">
            <a:avLst/>
          </a:prstGeom>
          <a:ln w="0">
            <a:noFill/>
          </a:ln>
        </p:spPr>
      </p:pic>
      <p:grpSp>
        <p:nvGrpSpPr>
          <p:cNvPr id="1232" name=""/>
          <p:cNvGrpSpPr/>
          <p:nvPr/>
        </p:nvGrpSpPr>
        <p:grpSpPr>
          <a:xfrm>
            <a:off x="4828320" y="2311560"/>
            <a:ext cx="1351080" cy="1292760"/>
            <a:chOff x="4828320" y="2311560"/>
            <a:chExt cx="1351080" cy="1292760"/>
          </a:xfrm>
        </p:grpSpPr>
        <p:pic>
          <p:nvPicPr>
            <p:cNvPr id="1233" name="gateway" descr=""/>
            <p:cNvPicPr/>
            <p:nvPr/>
          </p:nvPicPr>
          <p:blipFill>
            <a:blip r:embed="rId2"/>
            <a:stretch/>
          </p:blipFill>
          <p:spPr>
            <a:xfrm>
              <a:off x="5129280" y="2311560"/>
              <a:ext cx="749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4" name=""/>
            <p:cNvSpPr/>
            <p:nvPr/>
          </p:nvSpPr>
          <p:spPr>
            <a:xfrm>
              <a:off x="4828320" y="3205440"/>
              <a:ext cx="13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 (lapto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222120" y="4241880"/>
            <a:ext cx="1814400" cy="1971000"/>
            <a:chOff x="222120" y="4241880"/>
            <a:chExt cx="1814400" cy="1971000"/>
          </a:xfrm>
        </p:grpSpPr>
        <p:pic>
          <p:nvPicPr>
            <p:cNvPr id="1236" name="rterm" descr=""/>
            <p:cNvPicPr/>
            <p:nvPr/>
          </p:nvPicPr>
          <p:blipFill>
            <a:blip r:embed="rId3"/>
            <a:stretch/>
          </p:blipFill>
          <p:spPr>
            <a:xfrm>
              <a:off x="703080" y="4241880"/>
              <a:ext cx="8524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7" name=""/>
            <p:cNvSpPr/>
            <p:nvPr/>
          </p:nvSpPr>
          <p:spPr>
            <a:xfrm>
              <a:off x="222120" y="4899240"/>
              <a:ext cx="1814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_dock (permanently connected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7497720" y="511200"/>
            <a:ext cx="1376280" cy="1335240"/>
            <a:chOff x="7497720" y="511200"/>
            <a:chExt cx="1376280" cy="1335240"/>
          </a:xfrm>
        </p:grpSpPr>
        <p:sp>
          <p:nvSpPr>
            <p:cNvPr id="1239" name=""/>
            <p:cNvSpPr/>
            <p:nvPr/>
          </p:nvSpPr>
          <p:spPr>
            <a:xfrm flipH="1" flipV="1">
              <a:off x="7619760" y="885600"/>
              <a:ext cx="22320" cy="83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7619760" y="627120"/>
              <a:ext cx="62712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8124480" y="627120"/>
              <a:ext cx="122040" cy="69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19760" y="863640"/>
              <a:ext cx="505080" cy="46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7630920" y="1333440"/>
              <a:ext cx="49392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8124840" y="1322280"/>
              <a:ext cx="64908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497720" y="762120"/>
              <a:ext cx="234720" cy="2347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119800" y="511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993080" y="1201680"/>
              <a:ext cx="23472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518240" y="161136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638920" y="1600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1278000" y="1087560"/>
            <a:ext cx="3932280" cy="16016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H="1">
            <a:off x="5882760" y="1849320"/>
            <a:ext cx="1568520" cy="919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963720" y="1400040"/>
            <a:ext cx="101520" cy="19051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651960" y="3900600"/>
            <a:ext cx="952200" cy="266760"/>
            <a:chOff x="651960" y="3900600"/>
            <a:chExt cx="952200" cy="266760"/>
          </a:xfrm>
        </p:grpSpPr>
        <p:sp>
          <p:nvSpPr>
            <p:cNvPr id="1254" name=""/>
            <p:cNvSpPr/>
            <p:nvPr/>
          </p:nvSpPr>
          <p:spPr>
            <a:xfrm>
              <a:off x="663480" y="3911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582560" y="39006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651960" y="4146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083960" y="391824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260360" y="39150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423800" y="392148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5003280" y="2001960"/>
            <a:ext cx="952200" cy="266040"/>
            <a:chOff x="5003280" y="2001960"/>
            <a:chExt cx="952200" cy="266040"/>
          </a:xfrm>
        </p:grpSpPr>
        <p:sp>
          <p:nvSpPr>
            <p:cNvPr id="1261" name=""/>
            <p:cNvSpPr/>
            <p:nvPr/>
          </p:nvSpPr>
          <p:spPr>
            <a:xfrm>
              <a:off x="5014800" y="2012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933880" y="200196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5003280" y="2247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435280" y="201924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611680" y="201600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75120" y="202248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7" name=""/>
          <p:cNvSpPr/>
          <p:nvPr/>
        </p:nvSpPr>
        <p:spPr>
          <a:xfrm>
            <a:off x="133200" y="32306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go to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649760" y="1341360"/>
            <a:ext cx="17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le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H="1">
            <a:off x="1590480" y="3506760"/>
            <a:ext cx="3205080" cy="941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625760" y="3575160"/>
            <a:ext cx="3327120" cy="1457280"/>
          </a:xfrm>
          <a:custGeom>
            <a:avLst/>
            <a:gdLst/>
            <a:ahLst/>
            <a:rect l="l" t="t" r="r" b="b"/>
            <a:pathLst>
              <a:path w="2096" h="918">
                <a:moveTo>
                  <a:pt x="0" y="635"/>
                </a:moveTo>
                <a:cubicBezTo>
                  <a:pt x="485" y="776"/>
                  <a:pt x="971" y="918"/>
                  <a:pt x="1320" y="812"/>
                </a:cubicBezTo>
                <a:cubicBezTo>
                  <a:pt x="1669" y="706"/>
                  <a:pt x="1882" y="353"/>
                  <a:pt x="2096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103480" y="866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Jump directly to lap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995400" y="1874880"/>
            <a:ext cx="168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If laptop unreachable, go to d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642000" y="228924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Change in network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428920" y="3119400"/>
            <a:ext cx="19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Notify dock of new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2787480" y="49989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. Transfer waiting agents in both di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432400" y="4057560"/>
            <a:ext cx="3419640" cy="2104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imple approach has been extended into a more general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ctive-networking sche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where any machine can act as a dock for any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E2DE-C2F2-4D0C-9AE4-13FCD6C82829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Yellow pages”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265400" y="987480"/>
            <a:ext cx="66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ing vs. matchmaking/yellow-page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913200" y="213840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39560" y="2381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584360" y="23320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060640" y="16272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413080" y="2755800"/>
            <a:ext cx="142884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170840" y="2766960"/>
            <a:ext cx="758880" cy="65268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9040 h 652680"/>
              <a:gd name="textAreaBottom" fmla="*/ 503640 h 6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164360" y="159552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5327640" y="2045880"/>
            <a:ext cx="1835280" cy="405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720" y="3755880"/>
            <a:ext cx="83613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519360" y="393048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908880" y="41734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630440" y="49006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106720" y="41958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V="1">
            <a:off x="2424240" y="4565520"/>
            <a:ext cx="1039680" cy="6177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180200" y="545796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210440" y="442764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2498760" y="4791240"/>
            <a:ext cx="4762440" cy="58104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129040" y="3170160"/>
            <a:ext cx="50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 mediates all commun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96800" y="5792760"/>
            <a:ext cx="57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 locates, but then direct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DEC-79EB-4569-883F-DE2CBE1112E9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AC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99" name="mace" descr=""/>
          <p:cNvPicPr/>
          <p:nvPr/>
        </p:nvPicPr>
        <p:blipFill>
          <a:blip r:embed="rId1"/>
          <a:stretch/>
        </p:blipFill>
        <p:spPr>
          <a:xfrm>
            <a:off x="2575080" y="868320"/>
            <a:ext cx="6181560" cy="538812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/>
          <p:nvPr/>
        </p:nvSpPr>
        <p:spPr>
          <a:xfrm>
            <a:off x="333000" y="2786040"/>
            <a:ext cx="19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il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F7F3-12CE-49A1-BF9F-435BDDE8203D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4000" y="-36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Debugging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(Tcl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302" name="debugbot" descr=""/>
          <p:cNvPicPr/>
          <p:nvPr/>
        </p:nvPicPr>
        <p:blipFill>
          <a:blip r:embed="rId1"/>
          <a:stretch/>
        </p:blipFill>
        <p:spPr>
          <a:xfrm>
            <a:off x="4281480" y="304920"/>
            <a:ext cx="4754520" cy="5867280"/>
          </a:xfrm>
          <a:prstGeom prst="rect">
            <a:avLst/>
          </a:prstGeom>
          <a:ln w="0">
            <a:noFill/>
          </a:ln>
        </p:spPr>
      </p:pic>
      <p:sp>
        <p:nvSpPr>
          <p:cNvPr id="1303" name=""/>
          <p:cNvSpPr/>
          <p:nvPr/>
        </p:nvSpPr>
        <p:spPr>
          <a:xfrm>
            <a:off x="21744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04948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60520" y="51274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247760" y="5594400"/>
            <a:ext cx="1179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262160" y="27194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805040" y="232416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442880" y="1922400"/>
            <a:ext cx="14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0" name="agentred" descr=""/>
          <p:cNvPicPr/>
          <p:nvPr/>
        </p:nvPicPr>
        <p:blipFill>
          <a:blip r:embed="rId2"/>
          <a:stretch/>
        </p:blipFill>
        <p:spPr>
          <a:xfrm>
            <a:off x="2419200" y="5113440"/>
            <a:ext cx="706680" cy="776160"/>
          </a:xfrm>
          <a:prstGeom prst="rect">
            <a:avLst/>
          </a:prstGeom>
          <a:ln w="0">
            <a:noFill/>
          </a:ln>
        </p:spPr>
      </p:pic>
      <p:sp>
        <p:nvSpPr>
          <p:cNvPr id="1311" name=""/>
          <p:cNvSpPr/>
          <p:nvPr/>
        </p:nvSpPr>
        <p:spPr>
          <a:xfrm flipV="1">
            <a:off x="885960" y="2935080"/>
            <a:ext cx="116496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00080" y="3247920"/>
            <a:ext cx="14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Notify: About to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6440" y="5048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562120" y="3400560"/>
            <a:ext cx="136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Notify: Jum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 flipV="1">
            <a:off x="2270160" y="2931840"/>
            <a:ext cx="47160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D76C-0203-472C-BA15-758485D9D42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78840" y="167760"/>
            <a:ext cx="2529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Tracking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317" name="tracker" descr=""/>
          <p:cNvPicPr/>
          <p:nvPr/>
        </p:nvPicPr>
        <p:blipFill>
          <a:blip r:embed="rId1"/>
          <a:stretch/>
        </p:blipFill>
        <p:spPr>
          <a:xfrm>
            <a:off x="2817720" y="196920"/>
            <a:ext cx="6167520" cy="5983200"/>
          </a:xfrm>
          <a:prstGeom prst="rect">
            <a:avLst/>
          </a:prstGeom>
          <a:ln w="0">
            <a:noFill/>
          </a:ln>
        </p:spPr>
      </p:pic>
      <p:sp>
        <p:nvSpPr>
          <p:cNvPr id="1318" name=""/>
          <p:cNvSpPr/>
          <p:nvPr/>
        </p:nvSpPr>
        <p:spPr>
          <a:xfrm>
            <a:off x="209520" y="1719360"/>
            <a:ext cx="23875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s in same way as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actively or via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Merge with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Zoom in an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A75-CF0B-4245-AC02-3D1B987FC8DB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276280" y="2635200"/>
            <a:ext cx="459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233360" y="325440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8C84-3F43-4A28-9BFB-6E2F1C99F93F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14360" y="7632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Current trends lead to mobile agents</a:t>
            </a:r>
            <a:endParaRPr b="1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74840" y="112248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74840" y="226044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vers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76280" y="402444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76280" y="517356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587680" y="1693800"/>
            <a:ext cx="180504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iz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762440" y="259704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xy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08520" y="105876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829600" y="40924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void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rans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51480" y="52419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is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729320" y="4560840"/>
            <a:ext cx="1477800" cy="819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091280" y="1679400"/>
            <a:ext cx="1478160" cy="1133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ser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091280" y="3624120"/>
            <a:ext cx="1478160" cy="932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095880" y="5710320"/>
            <a:ext cx="142416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916280" y="1546200"/>
            <a:ext cx="72864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916280" y="2328480"/>
            <a:ext cx="739440" cy="382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063160" y="966960"/>
            <a:ext cx="182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d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person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381560" y="1658880"/>
            <a:ext cx="469800" cy="30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370400" y="2263680"/>
            <a:ext cx="480960" cy="538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264360" y="1636560"/>
            <a:ext cx="80640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6253200" y="2521080"/>
            <a:ext cx="81756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545000" y="1920960"/>
            <a:ext cx="246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o many un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persed clients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1916280" y="4381200"/>
            <a:ext cx="907920" cy="11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05120" y="4448160"/>
            <a:ext cx="9079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927080" y="5557680"/>
            <a:ext cx="852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1938240" y="4616280"/>
            <a:ext cx="885960" cy="84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078440" y="4448160"/>
            <a:ext cx="617400" cy="212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4191120" y="5322960"/>
            <a:ext cx="515880" cy="223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4102200" y="3327120"/>
            <a:ext cx="761760" cy="89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4146480" y="3406680"/>
            <a:ext cx="8064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832880" y="2846520"/>
            <a:ext cx="0" cy="739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7183440" y="4616280"/>
            <a:ext cx="649440" cy="1043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479280" y="289872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tes to vi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590240" y="4799160"/>
            <a:ext cx="10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ine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4C0-A1CB-4D34-A6DB-615ABB718EFC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75280" y="1033560"/>
            <a:ext cx="42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ots (“physical agents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4200" y="1628640"/>
            <a:ext cx="8128080" cy="476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03B3-88BC-4E18-A0CD-9AF87E47B88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Migrating to migrating cod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357" name=""/>
          <p:cNvGrpSpPr/>
          <p:nvPr/>
        </p:nvGrpSpPr>
        <p:grpSpPr>
          <a:xfrm>
            <a:off x="399960" y="1197000"/>
            <a:ext cx="3395880" cy="4770360"/>
            <a:chOff x="399960" y="1197000"/>
            <a:chExt cx="3395880" cy="4770360"/>
          </a:xfrm>
        </p:grpSpPr>
        <p:sp>
          <p:nvSpPr>
            <p:cNvPr id="1358" name=""/>
            <p:cNvSpPr/>
            <p:nvPr/>
          </p:nvSpPr>
          <p:spPr>
            <a:xfrm>
              <a:off x="399960" y="1197000"/>
              <a:ext cx="1546200" cy="862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pp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249640" y="235584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xi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246400" y="376560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ervic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020240" y="2376720"/>
              <a:ext cx="122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xi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vi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by exis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ISP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01760" y="5094360"/>
              <a:ext cx="1546200" cy="8730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b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952640" y="2036880"/>
              <a:ext cx="334800" cy="3142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016080" y="3425760"/>
              <a:ext cx="0" cy="292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1936440" y="4788000"/>
              <a:ext cx="368280" cy="347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4382640" y="1197000"/>
            <a:ext cx="4437360" cy="5135040"/>
            <a:chOff x="4382640" y="1197000"/>
            <a:chExt cx="4437360" cy="5135040"/>
          </a:xfrm>
        </p:grpSpPr>
        <p:grpSp>
          <p:nvGrpSpPr>
            <p:cNvPr id="1367" name=""/>
            <p:cNvGrpSpPr/>
            <p:nvPr/>
          </p:nvGrpSpPr>
          <p:grpSpPr>
            <a:xfrm>
              <a:off x="4920840" y="1197000"/>
              <a:ext cx="3362760" cy="957240"/>
              <a:chOff x="4920840" y="1197000"/>
              <a:chExt cx="3362760" cy="957240"/>
            </a:xfrm>
          </p:grpSpPr>
          <p:grpSp>
            <p:nvGrpSpPr>
              <p:cNvPr id="1368" name=""/>
              <p:cNvGrpSpPr/>
              <p:nvPr/>
            </p:nvGrpSpPr>
            <p:grpSpPr>
              <a:xfrm>
                <a:off x="5672160" y="1301760"/>
                <a:ext cx="2611440" cy="852480"/>
                <a:chOff x="5672160" y="1301760"/>
                <a:chExt cx="2611440" cy="85248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5672160" y="1301760"/>
                  <a:ext cx="2611440" cy="852480"/>
                </a:xfrm>
                <a:prstGeom prst="parallelogram">
                  <a:avLst>
                    <a:gd name="adj" fmla="val 112110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 flipV="1">
                  <a:off x="6367320" y="1536480"/>
                  <a:ext cx="381240" cy="3474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759360" y="1548000"/>
                  <a:ext cx="527040" cy="2919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V="1">
                  <a:off x="6759360" y="1447560"/>
                  <a:ext cx="650880" cy="889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H="1">
                  <a:off x="7286040" y="1459080"/>
                  <a:ext cx="135000" cy="3697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6692760" y="1479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6296040" y="1844640"/>
                  <a:ext cx="12204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7221600" y="1784520"/>
                  <a:ext cx="122040" cy="12204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7340400" y="1398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8" name=""/>
              <p:cNvSpPr/>
              <p:nvPr/>
            </p:nvSpPr>
            <p:spPr>
              <a:xfrm>
                <a:off x="4920840" y="1197000"/>
                <a:ext cx="126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ra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4382640" y="3902040"/>
              <a:ext cx="4437360" cy="2430000"/>
              <a:chOff x="4382640" y="3902040"/>
              <a:chExt cx="4437360" cy="2430000"/>
            </a:xfrm>
          </p:grpSpPr>
          <p:grpSp>
            <p:nvGrpSpPr>
              <p:cNvPr id="1380" name=""/>
              <p:cNvGrpSpPr/>
              <p:nvPr/>
            </p:nvGrpSpPr>
            <p:grpSpPr>
              <a:xfrm>
                <a:off x="5700600" y="4412880"/>
                <a:ext cx="1165320" cy="380880"/>
                <a:chOff x="5700600" y="4412880"/>
                <a:chExt cx="1165320" cy="38088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5700600" y="441288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V="1">
                  <a:off x="6010560" y="451728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6185520" y="45226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flipV="1">
                  <a:off x="6185520" y="44780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H="1">
                  <a:off x="6420600" y="448308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6156000" y="4492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5978880" y="4655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6391800" y="462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6445080" y="4456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0" name=""/>
              <p:cNvGrpSpPr/>
              <p:nvPr/>
            </p:nvGrpSpPr>
            <p:grpSpPr>
              <a:xfrm>
                <a:off x="5649840" y="5719320"/>
                <a:ext cx="1165320" cy="380880"/>
                <a:chOff x="5649840" y="5719320"/>
                <a:chExt cx="1165320" cy="380880"/>
              </a:xfrm>
            </p:grpSpPr>
            <p:sp>
              <p:nvSpPr>
                <p:cNvPr id="1391" name=""/>
                <p:cNvSpPr/>
                <p:nvPr/>
              </p:nvSpPr>
              <p:spPr>
                <a:xfrm>
                  <a:off x="5649840" y="571932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flipV="1">
                  <a:off x="5959800" y="582372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6134760" y="582912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 flipV="1">
                  <a:off x="6134760" y="578448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flipH="1">
                  <a:off x="6369840" y="578952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6105240" y="579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5928120" y="5961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341040" y="5934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394320" y="5762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4603680" y="5073480"/>
                <a:ext cx="1165320" cy="380520"/>
                <a:chOff x="4603680" y="5073480"/>
                <a:chExt cx="1165320" cy="38052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4603680" y="5073480"/>
                  <a:ext cx="1165320" cy="380520"/>
                </a:xfrm>
                <a:prstGeom prst="parallelogram">
                  <a:avLst>
                    <a:gd name="adj" fmla="val 112077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V="1">
                  <a:off x="4913640" y="5178240"/>
                  <a:ext cx="169920" cy="1548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5088600" y="51832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V="1">
                  <a:off x="5088600" y="51386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flipH="1">
                  <a:off x="5323680" y="5143680"/>
                  <a:ext cx="60120" cy="16488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5059080" y="5152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881960" y="5315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5294880" y="5288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5348160" y="5116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0" name=""/>
              <p:cNvGrpSpPr/>
              <p:nvPr/>
            </p:nvGrpSpPr>
            <p:grpSpPr>
              <a:xfrm>
                <a:off x="7242120" y="4824000"/>
                <a:ext cx="1165320" cy="380880"/>
                <a:chOff x="7242120" y="4824000"/>
                <a:chExt cx="1165320" cy="38088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7242120" y="482400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V="1">
                  <a:off x="7552080" y="492840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7727040" y="493380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V="1">
                  <a:off x="7727040" y="488916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flipH="1">
                  <a:off x="7962120" y="489420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7697520" y="4903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7520400" y="5066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7933320" y="5039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7986600" y="4867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"/>
              <p:cNvGrpSpPr/>
              <p:nvPr/>
            </p:nvGrpSpPr>
            <p:grpSpPr>
              <a:xfrm>
                <a:off x="7261200" y="3902040"/>
                <a:ext cx="1165320" cy="380880"/>
                <a:chOff x="7261200" y="3902040"/>
                <a:chExt cx="1165320" cy="38088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7261200" y="390204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flipV="1">
                  <a:off x="7571160" y="400644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7746120" y="401184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 flipV="1">
                  <a:off x="7746120" y="396720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flipH="1">
                  <a:off x="7981200" y="397224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7716600" y="3981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7539480" y="4144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7952400" y="4117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8005680" y="3945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0" name=""/>
              <p:cNvSpPr/>
              <p:nvPr/>
            </p:nvSpPr>
            <p:spPr>
              <a:xfrm flipV="1">
                <a:off x="6859440" y="4281120"/>
                <a:ext cx="414360" cy="1346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677000" y="4292280"/>
                <a:ext cx="281160" cy="515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680160" y="4595400"/>
                <a:ext cx="795240" cy="380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5772240" y="4797000"/>
                <a:ext cx="336240" cy="2682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210360" y="4797000"/>
                <a:ext cx="201600" cy="9190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259840" y="4057200"/>
                <a:ext cx="537840" cy="5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137440" y="5054400"/>
                <a:ext cx="682560" cy="41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511680" y="5995800"/>
                <a:ext cx="358920" cy="3362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>
                <a:off x="4382640" y="5457600"/>
                <a:ext cx="235080" cy="2138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644360" y="3947760"/>
                <a:ext cx="124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er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0" name=""/>
            <p:cNvSpPr/>
            <p:nvPr/>
          </p:nvSpPr>
          <p:spPr>
            <a:xfrm>
              <a:off x="6208560" y="2566800"/>
              <a:ext cx="784440" cy="1043280"/>
            </a:xfrm>
            <a:prstGeom prst="downArrow">
              <a:avLst>
                <a:gd name="adj1" fmla="val 50000"/>
                <a:gd name="adj2" fmla="val 3324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9AC7-D82F-4480-A7D3-20692FB2467B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nclusion: Con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0320" y="1360440"/>
            <a:ext cx="687996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y is too big a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head for moving code is too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backward compatible with Fortran, C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s will be so fast, performance not an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3" name="" descr=""/>
          <p:cNvPicPr/>
          <p:nvPr/>
        </p:nvPicPr>
        <p:blipFill>
          <a:blip r:embed="rId1"/>
          <a:stretch/>
        </p:blipFill>
        <p:spPr>
          <a:xfrm>
            <a:off x="7286760" y="196056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F09-F0AE-471D-8602-80ABE85BBC97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onclusion: Pros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912960" y="1565280"/>
            <a:ext cx="75895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ifying framework for making many applica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s data and code symmet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-language suppor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disconnected networks in a way that o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ies can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er programm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1"/>
          <a:stretch/>
        </p:blipFill>
        <p:spPr>
          <a:xfrm>
            <a:off x="361800" y="349200"/>
            <a:ext cx="1641600" cy="1120680"/>
          </a:xfrm>
          <a:prstGeom prst="rect">
            <a:avLst/>
          </a:prstGeom>
          <a:ln w="0">
            <a:noFill/>
          </a:ln>
        </p:spPr>
      </p:pic>
      <p:pic>
        <p:nvPicPr>
          <p:cNvPr id="1447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9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BEA-B261-4B05-90EF-1F5CE50653BA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Read more about it (redux)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42360" y="1190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4596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200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034720" y="17431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03400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03292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9840" y="247644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032560" y="30290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A03-EE92-4C47-A3C8-7308145FF54E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Source code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853560" y="1306440"/>
            <a:ext cx="7439040" cy="4844520"/>
            <a:chOff x="853560" y="1306440"/>
            <a:chExt cx="7439040" cy="4844520"/>
          </a:xfrm>
        </p:grpSpPr>
        <p:sp>
          <p:nvSpPr>
            <p:cNvPr id="1459" name=""/>
            <p:cNvSpPr/>
            <p:nvPr/>
          </p:nvSpPr>
          <p:spPr>
            <a:xfrm>
              <a:off x="855000" y="1306440"/>
              <a:ext cx="53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erver and Tcl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459880" y="1897200"/>
              <a:ext cx="41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ttp://agent.cs.dartmouth.edu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53560" y="2903400"/>
              <a:ext cx="385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Java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460240" y="3451320"/>
              <a:ext cx="583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ilable by request (due to Sun licensing restrictions)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act 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obert.s.gray@dartmouth.ed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55720" y="5095800"/>
              <a:ext cx="430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cheme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460240" y="5691240"/>
              <a:ext cx="293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ilable by reques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851E-E0BE-436D-BBCA-C3AFBF37CE44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6840" y="1109160"/>
            <a:ext cx="45198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What is an agent?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788000" y="485640"/>
            <a:ext cx="3838320" cy="5759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63800" y="2703600"/>
            <a:ext cx="276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toon charac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“synthetic agent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xample,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Oz proj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t C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Joseph B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F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5D8B-922F-47BB-AF46-EA510E8CF67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7/1999</a:t>
            </a: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1T15:54:48Z</dcterms:created>
  <dc:creator>hiro</dc:creator>
  <dc:description/>
  <dc:language>en-US</dc:language>
  <cp:lastModifiedBy>David Kotz</cp:lastModifiedBy>
  <cp:lastPrinted>1999-04-27T12:51:47Z</cp:lastPrinted>
  <dcterms:modified xsi:type="dcterms:W3CDTF">1999-09-07T21:36:20Z</dcterms:modified>
  <cp:revision>745</cp:revision>
  <dc:subject/>
  <dc:title>Mobile Agents in Distributed Compu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actcomm.dartmouth.edu/~rgray/</vt:lpwstr>
  </property>
  <property fmtid="{D5CDD505-2E9C-101B-9397-08002B2CF9AE}" pid="9" name="LinkColor">
    <vt:r8>16711782</vt:r8>
  </property>
  <property fmtid="{D5CDD505-2E9C-101B-9397-08002B2CF9AE}" pid="10" name="MailAddress">
    <vt:lpwstr>robert.s.gray@dartmouth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bob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