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5.wmf" ContentType="image/x-wmf"/>
  <Override PartName="/ppt/media/image17.png" ContentType="image/png"/>
  <Override PartName="/ppt/media/image64.wmf" ContentType="image/x-wmf"/>
  <Override PartName="/ppt/media/image24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60.png" ContentType="image/png"/>
  <Override PartName="/ppt/media/image21.wmf" ContentType="image/x-wmf"/>
  <Override PartName="/ppt/media/image26.png" ContentType="image/png"/>
  <Override PartName="/ppt/media/image63.png" ContentType="image/png"/>
  <Override PartName="/ppt/media/image62.wmf" ContentType="image/x-wmf"/>
  <Override PartName="/ppt/media/image59.png" ContentType="image/png"/>
  <Override PartName="/ppt/media/image22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23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1.png" ContentType="image/png"/>
  <Override PartName="/ppt/media/image48.png" ContentType="image/png"/>
  <Override PartName="/ppt/media/image30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4A3-7B30-47F0-97B1-3F623B15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AF2-4218-44B1-A23D-B99D367C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EFC-B49B-4B90-B24B-F19F9607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B1A-18AD-4704-B02A-D2A574E4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CF1-6628-4FB8-A69F-881B67CE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ECE-00F8-422B-8C72-C0534FC8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5178-A876-4D1C-9E1E-9CDE7026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605-072D-43FF-95F1-673276E8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80F-093B-4026-A744-823060ED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880-F6DC-4B3D-A78F-5EF905EC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4C5-7660-4ACF-8F2D-CB658CAB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AE3-A38F-4F2D-84B0-499F5139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5DC3-0F6B-4918-ABBE-89936A372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5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9.png"/><Relationship Id="rId4" Type="http://schemas.openxmlformats.org/officeDocument/2006/relationships/image" Target="../media/image1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29.png"/><Relationship Id="rId10" Type="http://schemas.openxmlformats.org/officeDocument/2006/relationships/image" Target="../media/image1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6.png"/><Relationship Id="rId3" Type="http://schemas.openxmlformats.org/officeDocument/2006/relationships/image" Target="../media/image9.png"/><Relationship Id="rId4" Type="http://schemas.openxmlformats.org/officeDocument/2006/relationships/image" Target="../media/image37.png"/><Relationship Id="rId5" Type="http://schemas.openxmlformats.org/officeDocument/2006/relationships/image" Target="../media/image2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image" Target="../media/image5.jpeg"/><Relationship Id="rId7" Type="http://schemas.openxmlformats.org/officeDocument/2006/relationships/image" Target="../media/image20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image" Target="../media/image5.jpeg"/><Relationship Id="rId7" Type="http://schemas.openxmlformats.org/officeDocument/2006/relationships/image" Target="../media/image20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e Agents in Distributed Comput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orge Cybenko and Bob Gr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yer School of Enginee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rtmouth Colle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george.cybenko,robert.gray}@dartmouth.ed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67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PS/SPDP ‘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ril 12-16, San Juan,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68480" y="1989000"/>
            <a:ext cx="44928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0240" y="22208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/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0440" y="304164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/ no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388476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 /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920" y="471636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 / no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17640" y="1487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16600" y="1487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52680" y="1486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52760" y="199872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43520" y="200664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2600" y="2852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67040" y="369396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74960" y="4535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8200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9112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8800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82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9112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9112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91120" y="4716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33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33120" y="3041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39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39120" y="3884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3440" y="209880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5680" y="3041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9220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40280" y="4716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1A6-9C06-4AEB-941A-25B2BDD9CDE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work sensing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325520" y="27036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765440" y="1982880"/>
            <a:ext cx="811080" cy="635040"/>
          </a:xfrm>
          <a:prstGeom prst="cloudCallout">
            <a:avLst>
              <a:gd name="adj1" fmla="val -85226"/>
              <a:gd name="adj2" fmla="val 18999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987480" y="338760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to 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cl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158360" y="1959120"/>
            <a:ext cx="46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s 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locations of candidate servi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network latenci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network bandwidth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machine l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95240" y="1311120"/>
            <a:ext cx="2998800" cy="3510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269720" y="5187960"/>
            <a:ext cx="660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requires an infrastructure for supplying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of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10F-6313-47CA-AAC3-CBCBFFD01844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work sensing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962280" y="1600200"/>
            <a:ext cx="600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cies measured by “ping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dwidths measured by “bing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y services to locat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hierarchical network structu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SNMP, et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ed machine load metr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5B99-B44F-4FD5-BAC8-C2E1ED4098EB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llow pages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265400" y="987480"/>
            <a:ext cx="66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ing vs. matchmaking/yellow-page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913200" y="213840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039560" y="2381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584360" y="23320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60640" y="16272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413080" y="2755800"/>
            <a:ext cx="14288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170840" y="2766960"/>
            <a:ext cx="758880" cy="65268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9040 h 652680"/>
              <a:gd name="textAreaBottom" fmla="*/ 5036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164360" y="159552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5327640" y="2045880"/>
            <a:ext cx="1835280" cy="405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23720" y="3755880"/>
            <a:ext cx="83613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519360" y="393048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908880" y="4173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630440" y="49006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106720" y="41958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2424240" y="4565520"/>
            <a:ext cx="1039680" cy="617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7180200" y="545796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210440" y="442764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V="1">
            <a:off x="2498760" y="4791240"/>
            <a:ext cx="4762440" cy="5810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129040" y="3170160"/>
            <a:ext cx="50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 mediates all 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396800" y="579276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 locates, but then direct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666-1F10-4C94-9C88-B7291895C0D4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95280" y="30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eduling of Sentinel Ag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80760" y="152892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tatemen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84360" y="41194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72400" y="1984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872400" y="228924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872400" y="2593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872400" y="2898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059280" y="25938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6259680" y="221256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6335640" y="2441520"/>
            <a:ext cx="5335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259680" y="267012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335640" y="2593800"/>
            <a:ext cx="5335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3387600" y="259704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175880" y="2048040"/>
            <a:ext cx="114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497560" y="2289240"/>
            <a:ext cx="8380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536800" y="2747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3" name="" descr=""/>
          <p:cNvPicPr/>
          <p:nvPr/>
        </p:nvPicPr>
        <p:blipFill>
          <a:blip r:embed="rId1"/>
          <a:stretch/>
        </p:blipFill>
        <p:spPr>
          <a:xfrm>
            <a:off x="849240" y="2166840"/>
            <a:ext cx="1371600" cy="1265400"/>
          </a:xfrm>
          <a:prstGeom prst="rect">
            <a:avLst/>
          </a:prstGeom>
          <a:ln w="0">
            <a:noFill/>
          </a:ln>
        </p:spPr>
      </p:pic>
      <p:sp>
        <p:nvSpPr>
          <p:cNvPr id="2354" name=""/>
          <p:cNvSpPr/>
          <p:nvPr/>
        </p:nvSpPr>
        <p:spPr>
          <a:xfrm>
            <a:off x="2373480" y="2289240"/>
            <a:ext cx="8380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412720" y="2747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072080" y="3675240"/>
            <a:ext cx="67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hould limited bandwidth/capacity be al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222920" y="4540320"/>
            <a:ext cx="706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ormulated model using data resourc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optimal scheduling using efficient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with look-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18960" y="1527120"/>
            <a:ext cx="8610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AA3-2AAD-4E2F-9205-AFFBA2612942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aling to small platfor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325080" y="1096920"/>
            <a:ext cx="8496360" cy="4051080"/>
            <a:chOff x="325080" y="1096920"/>
            <a:chExt cx="8496360" cy="4051080"/>
          </a:xfrm>
        </p:grpSpPr>
        <p:grpSp>
          <p:nvGrpSpPr>
            <p:cNvPr id="2361" name=""/>
            <p:cNvGrpSpPr/>
            <p:nvPr/>
          </p:nvGrpSpPr>
          <p:grpSpPr>
            <a:xfrm>
              <a:off x="7126200" y="2692440"/>
              <a:ext cx="1695240" cy="2227320"/>
              <a:chOff x="7126200" y="2692440"/>
              <a:chExt cx="1695240" cy="2227320"/>
            </a:xfrm>
          </p:grpSpPr>
          <p:pic>
            <p:nvPicPr>
              <p:cNvPr id="2362" name="ppilot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7920" y="2692440"/>
                <a:ext cx="11718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3" name=""/>
              <p:cNvSpPr/>
              <p:nvPr/>
            </p:nvSpPr>
            <p:spPr>
              <a:xfrm>
                <a:off x="7126200" y="4094280"/>
                <a:ext cx="169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alm III Organiz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3528000" y="2236680"/>
              <a:ext cx="1316160" cy="1500120"/>
              <a:chOff x="3528000" y="2236680"/>
              <a:chExt cx="1316160" cy="1500120"/>
            </a:xfrm>
          </p:grpSpPr>
          <p:pic>
            <p:nvPicPr>
              <p:cNvPr id="2365" name="rterm" descr=""/>
              <p:cNvPicPr/>
              <p:nvPr/>
            </p:nvPicPr>
            <p:blipFill>
              <a:blip r:embed="rId2"/>
              <a:stretch/>
            </p:blipFill>
            <p:spPr>
              <a:xfrm>
                <a:off x="3774960" y="2236680"/>
                <a:ext cx="82224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6" name=""/>
              <p:cNvSpPr/>
              <p:nvPr/>
            </p:nvSpPr>
            <p:spPr>
              <a:xfrm>
                <a:off x="3528000" y="2911320"/>
                <a:ext cx="131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ch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7" name=""/>
            <p:cNvGrpSpPr/>
            <p:nvPr/>
          </p:nvGrpSpPr>
          <p:grpSpPr>
            <a:xfrm>
              <a:off x="1488960" y="1096920"/>
              <a:ext cx="1703520" cy="1278000"/>
              <a:chOff x="1488960" y="1096920"/>
              <a:chExt cx="1703520" cy="1278000"/>
            </a:xfrm>
          </p:grpSpPr>
          <p:sp>
            <p:nvSpPr>
              <p:cNvPr id="2368" name=""/>
              <p:cNvSpPr/>
              <p:nvPr/>
            </p:nvSpPr>
            <p:spPr>
              <a:xfrm>
                <a:off x="1488960" y="1096920"/>
                <a:ext cx="1703520" cy="1278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493640" y="1589040"/>
                <a:ext cx="1692360" cy="785880"/>
              </a:xfrm>
              <a:prstGeom prst="ellipse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lm II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860840" y="112716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1" name=""/>
            <p:cNvSpPr/>
            <p:nvPr/>
          </p:nvSpPr>
          <p:spPr>
            <a:xfrm>
              <a:off x="5583240" y="1967040"/>
              <a:ext cx="1692360" cy="78588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lm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36320" y="2362320"/>
              <a:ext cx="3240360" cy="284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797360" y="2689200"/>
              <a:ext cx="2711520" cy="728640"/>
            </a:xfrm>
            <a:custGeom>
              <a:avLst/>
              <a:gdLst/>
              <a:ahLst/>
              <a:rect l="l" t="t" r="r" b="b"/>
              <a:pathLst>
                <a:path w="1708" h="459">
                  <a:moveTo>
                    <a:pt x="0" y="0"/>
                  </a:moveTo>
                  <a:cubicBezTo>
                    <a:pt x="295" y="4"/>
                    <a:pt x="590" y="9"/>
                    <a:pt x="875" y="85"/>
                  </a:cubicBezTo>
                  <a:cubicBezTo>
                    <a:pt x="1160" y="161"/>
                    <a:pt x="1434" y="310"/>
                    <a:pt x="1708" y="459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119560" y="3913200"/>
              <a:ext cx="1692360" cy="7858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707000" y="2924280"/>
              <a:ext cx="2735280" cy="985680"/>
            </a:xfrm>
            <a:custGeom>
              <a:avLst/>
              <a:gdLst/>
              <a:ahLst/>
              <a:rect l="l" t="t" r="r" b="b"/>
              <a:pathLst>
                <a:path w="1723" h="621">
                  <a:moveTo>
                    <a:pt x="1723" y="501"/>
                  </a:moveTo>
                  <a:cubicBezTo>
                    <a:pt x="1386" y="561"/>
                    <a:pt x="1050" y="621"/>
                    <a:pt x="763" y="537"/>
                  </a:cubicBezTo>
                  <a:cubicBezTo>
                    <a:pt x="476" y="453"/>
                    <a:pt x="238" y="226"/>
                    <a:pt x="0" y="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325080" y="2913120"/>
              <a:ext cx="3282840" cy="1446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7" name=""/>
            <p:cNvGrpSpPr/>
            <p:nvPr/>
          </p:nvGrpSpPr>
          <p:grpSpPr>
            <a:xfrm>
              <a:off x="1488960" y="3870360"/>
              <a:ext cx="1703520" cy="1277640"/>
              <a:chOff x="1488960" y="3870360"/>
              <a:chExt cx="1703520" cy="1277640"/>
            </a:xfrm>
          </p:grpSpPr>
          <p:sp>
            <p:nvSpPr>
              <p:cNvPr id="2378" name=""/>
              <p:cNvSpPr/>
              <p:nvPr/>
            </p:nvSpPr>
            <p:spPr>
              <a:xfrm>
                <a:off x="1488960" y="3870360"/>
                <a:ext cx="1703520" cy="127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861200" y="390024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497240" y="4356000"/>
                <a:ext cx="1692000" cy="7858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1" name=""/>
          <p:cNvSpPr/>
          <p:nvPr/>
        </p:nvSpPr>
        <p:spPr>
          <a:xfrm>
            <a:off x="1084320" y="5549760"/>
            <a:ext cx="6981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urrent work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Move entire agent onto the Palm, so that it can return through a different pro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6F5-38AB-4B66-B73D-F34ACB48CE2E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c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3" name="agentred" descr=""/>
          <p:cNvPicPr/>
          <p:nvPr/>
        </p:nvPicPr>
        <p:blipFill>
          <a:blip r:embed="rId1"/>
          <a:stretch/>
        </p:blipFill>
        <p:spPr>
          <a:xfrm>
            <a:off x="604800" y="652320"/>
            <a:ext cx="615960" cy="676440"/>
          </a:xfrm>
          <a:prstGeom prst="rect">
            <a:avLst/>
          </a:prstGeom>
          <a:ln w="0">
            <a:noFill/>
          </a:ln>
        </p:spPr>
      </p:pic>
      <p:grpSp>
        <p:nvGrpSpPr>
          <p:cNvPr id="2384" name=""/>
          <p:cNvGrpSpPr/>
          <p:nvPr/>
        </p:nvGrpSpPr>
        <p:grpSpPr>
          <a:xfrm>
            <a:off x="4828320" y="2311560"/>
            <a:ext cx="1351080" cy="1292760"/>
            <a:chOff x="4828320" y="2311560"/>
            <a:chExt cx="1351080" cy="1292760"/>
          </a:xfrm>
        </p:grpSpPr>
        <p:pic>
          <p:nvPicPr>
            <p:cNvPr id="2385" name="gateway" descr=""/>
            <p:cNvPicPr/>
            <p:nvPr/>
          </p:nvPicPr>
          <p:blipFill>
            <a:blip r:embed="rId2"/>
            <a:stretch/>
          </p:blipFill>
          <p:spPr>
            <a:xfrm>
              <a:off x="5129280" y="2311560"/>
              <a:ext cx="749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6" name=""/>
            <p:cNvSpPr/>
            <p:nvPr/>
          </p:nvSpPr>
          <p:spPr>
            <a:xfrm>
              <a:off x="4828320" y="320544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 (lapto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222120" y="4241880"/>
            <a:ext cx="1814400" cy="1971000"/>
            <a:chOff x="222120" y="4241880"/>
            <a:chExt cx="1814400" cy="1971000"/>
          </a:xfrm>
        </p:grpSpPr>
        <p:pic>
          <p:nvPicPr>
            <p:cNvPr id="2388" name="rterm" descr=""/>
            <p:cNvPicPr/>
            <p:nvPr/>
          </p:nvPicPr>
          <p:blipFill>
            <a:blip r:embed="rId3"/>
            <a:stretch/>
          </p:blipFill>
          <p:spPr>
            <a:xfrm>
              <a:off x="703080" y="4241880"/>
              <a:ext cx="852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9" name=""/>
            <p:cNvSpPr/>
            <p:nvPr/>
          </p:nvSpPr>
          <p:spPr>
            <a:xfrm>
              <a:off x="222120" y="4899240"/>
              <a:ext cx="18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_dock (permanently connected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0" name=""/>
          <p:cNvGrpSpPr/>
          <p:nvPr/>
        </p:nvGrpSpPr>
        <p:grpSpPr>
          <a:xfrm>
            <a:off x="7497720" y="511200"/>
            <a:ext cx="1376280" cy="1335240"/>
            <a:chOff x="7497720" y="511200"/>
            <a:chExt cx="1376280" cy="1335240"/>
          </a:xfrm>
        </p:grpSpPr>
        <p:sp>
          <p:nvSpPr>
            <p:cNvPr id="2391" name=""/>
            <p:cNvSpPr/>
            <p:nvPr/>
          </p:nvSpPr>
          <p:spPr>
            <a:xfrm flipH="1" flipV="1">
              <a:off x="7619760" y="885600"/>
              <a:ext cx="22320" cy="8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7619760" y="627120"/>
              <a:ext cx="62712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8124480" y="627120"/>
              <a:ext cx="122040" cy="69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19760" y="863640"/>
              <a:ext cx="50508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V="1">
              <a:off x="7630920" y="1333440"/>
              <a:ext cx="49392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24840" y="1322280"/>
              <a:ext cx="64908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497720" y="762120"/>
              <a:ext cx="234720" cy="2347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19800" y="511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993080" y="1201680"/>
              <a:ext cx="23472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518240" y="161136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638920" y="1600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2" name=""/>
          <p:cNvSpPr/>
          <p:nvPr/>
        </p:nvSpPr>
        <p:spPr>
          <a:xfrm>
            <a:off x="1278000" y="1087560"/>
            <a:ext cx="3932280" cy="1601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 flipH="1">
            <a:off x="5882760" y="1849320"/>
            <a:ext cx="1568520" cy="919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963720" y="1400040"/>
            <a:ext cx="101520" cy="19051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651960" y="3900600"/>
            <a:ext cx="952200" cy="266760"/>
            <a:chOff x="651960" y="3900600"/>
            <a:chExt cx="952200" cy="266760"/>
          </a:xfrm>
        </p:grpSpPr>
        <p:sp>
          <p:nvSpPr>
            <p:cNvPr id="2406" name=""/>
            <p:cNvSpPr/>
            <p:nvPr/>
          </p:nvSpPr>
          <p:spPr>
            <a:xfrm>
              <a:off x="663480" y="3911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582560" y="39006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651960" y="4146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3960" y="391824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260360" y="39150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23800" y="392148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5003280" y="2001960"/>
            <a:ext cx="952200" cy="266040"/>
            <a:chOff x="5003280" y="2001960"/>
            <a:chExt cx="952200" cy="266040"/>
          </a:xfrm>
        </p:grpSpPr>
        <p:sp>
          <p:nvSpPr>
            <p:cNvPr id="2413" name=""/>
            <p:cNvSpPr/>
            <p:nvPr/>
          </p:nvSpPr>
          <p:spPr>
            <a:xfrm>
              <a:off x="5014800" y="2012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933880" y="200196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5003280" y="2247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435280" y="201924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611680" y="201600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775120" y="202248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133200" y="323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go to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649760" y="134136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H="1">
            <a:off x="1590480" y="3506760"/>
            <a:ext cx="3205080" cy="941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625760" y="3575160"/>
            <a:ext cx="3327120" cy="1457280"/>
          </a:xfrm>
          <a:custGeom>
            <a:avLst/>
            <a:gdLst/>
            <a:ahLst/>
            <a:rect l="l" t="t" r="r" b="b"/>
            <a:pathLst>
              <a:path w="2096" h="918">
                <a:moveTo>
                  <a:pt x="0" y="635"/>
                </a:moveTo>
                <a:cubicBezTo>
                  <a:pt x="485" y="776"/>
                  <a:pt x="971" y="918"/>
                  <a:pt x="1320" y="812"/>
                </a:cubicBezTo>
                <a:cubicBezTo>
                  <a:pt x="1669" y="706"/>
                  <a:pt x="1882" y="353"/>
                  <a:pt x="2096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103480" y="8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Jump directly to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995400" y="1874880"/>
            <a:ext cx="16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If laptop unreachable, go to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642000" y="22892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Change in network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428920" y="31194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Notify dock of new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787480" y="49989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Transfer waiting agents in both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432400" y="4057560"/>
            <a:ext cx="3419640" cy="210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imple approach has been extended into a more genera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tive-networking sche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ere any machine can act as a dock for any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A38-B58D-4190-847D-EF63B0D807F9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0" name="mace" descr=""/>
          <p:cNvPicPr/>
          <p:nvPr/>
        </p:nvPicPr>
        <p:blipFill>
          <a:blip r:embed="rId1"/>
          <a:stretch/>
        </p:blipFill>
        <p:spPr>
          <a:xfrm>
            <a:off x="2575080" y="868320"/>
            <a:ext cx="6181560" cy="5388120"/>
          </a:xfrm>
          <a:prstGeom prst="rect">
            <a:avLst/>
          </a:prstGeom>
          <a:ln w="0">
            <a:noFill/>
          </a:ln>
        </p:spPr>
      </p:pic>
      <p:sp>
        <p:nvSpPr>
          <p:cNvPr id="2431" name=""/>
          <p:cNvSpPr/>
          <p:nvPr/>
        </p:nvSpPr>
        <p:spPr>
          <a:xfrm>
            <a:off x="333000" y="2786040"/>
            <a:ext cx="19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il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84F-7E12-49BB-8240-50CBC2844A34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buggin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Tcl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3" name="debugbot" descr=""/>
          <p:cNvPicPr/>
          <p:nvPr/>
        </p:nvPicPr>
        <p:blipFill>
          <a:blip r:embed="rId1"/>
          <a:stretch/>
        </p:blipFill>
        <p:spPr>
          <a:xfrm>
            <a:off x="4281480" y="304920"/>
            <a:ext cx="4754520" cy="5867280"/>
          </a:xfrm>
          <a:prstGeom prst="rect">
            <a:avLst/>
          </a:prstGeom>
          <a:ln w="0">
            <a:noFill/>
          </a:ln>
        </p:spPr>
      </p:pic>
      <p:sp>
        <p:nvSpPr>
          <p:cNvPr id="2434" name=""/>
          <p:cNvSpPr/>
          <p:nvPr/>
        </p:nvSpPr>
        <p:spPr>
          <a:xfrm>
            <a:off x="21744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204948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60520" y="51274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247760" y="5594400"/>
            <a:ext cx="117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262160" y="27194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805040" y="232416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442880" y="192240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1" name="agentred" descr=""/>
          <p:cNvPicPr/>
          <p:nvPr/>
        </p:nvPicPr>
        <p:blipFill>
          <a:blip r:embed="rId2"/>
          <a:stretch/>
        </p:blipFill>
        <p:spPr>
          <a:xfrm>
            <a:off x="2419200" y="5113440"/>
            <a:ext cx="706680" cy="776160"/>
          </a:xfrm>
          <a:prstGeom prst="rect">
            <a:avLst/>
          </a:prstGeom>
          <a:ln w="0">
            <a:noFill/>
          </a:ln>
        </p:spPr>
      </p:pic>
      <p:sp>
        <p:nvSpPr>
          <p:cNvPr id="2442" name=""/>
          <p:cNvSpPr/>
          <p:nvPr/>
        </p:nvSpPr>
        <p:spPr>
          <a:xfrm flipV="1">
            <a:off x="885960" y="2935080"/>
            <a:ext cx="116496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00080" y="324792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Notify: About to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306440" y="5048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562120" y="3400560"/>
            <a:ext cx="13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Notify: Jum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 flipH="1" flipV="1">
            <a:off x="2270160" y="2931840"/>
            <a:ext cx="47160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88F-D6F1-4322-BBDC-8A60F62EDFAA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78840" y="167760"/>
            <a:ext cx="2529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c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8" name="tracker" descr=""/>
          <p:cNvPicPr/>
          <p:nvPr/>
        </p:nvPicPr>
        <p:blipFill>
          <a:blip r:embed="rId1"/>
          <a:stretch/>
        </p:blipFill>
        <p:spPr>
          <a:xfrm>
            <a:off x="2817720" y="196920"/>
            <a:ext cx="6167520" cy="5983200"/>
          </a:xfrm>
          <a:prstGeom prst="rect">
            <a:avLst/>
          </a:prstGeom>
          <a:ln w="0">
            <a:noFill/>
          </a:ln>
        </p:spPr>
      </p:pic>
      <p:sp>
        <p:nvSpPr>
          <p:cNvPr id="2449" name=""/>
          <p:cNvSpPr/>
          <p:nvPr/>
        </p:nvSpPr>
        <p:spPr>
          <a:xfrm>
            <a:off x="209520" y="1719360"/>
            <a:ext cx="23875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 in same way as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vely or via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Merge with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Zoom in 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8DC-D24F-44F8-A138-901B1D768088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-based resource contro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1" name="tecra" descr=""/>
          <p:cNvPicPr/>
          <p:nvPr/>
        </p:nvPicPr>
        <p:blipFill>
          <a:blip r:embed="rId1"/>
          <a:stretch/>
        </p:blipFill>
        <p:spPr>
          <a:xfrm>
            <a:off x="5904000" y="16686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2452" name=""/>
          <p:cNvSpPr/>
          <p:nvPr/>
        </p:nvSpPr>
        <p:spPr>
          <a:xfrm>
            <a:off x="5924520" y="2719440"/>
            <a:ext cx="685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3" name="gateway" descr=""/>
          <p:cNvPicPr/>
          <p:nvPr/>
        </p:nvPicPr>
        <p:blipFill>
          <a:blip r:embed="rId2"/>
          <a:stretch/>
        </p:blipFill>
        <p:spPr>
          <a:xfrm>
            <a:off x="3083040" y="1071720"/>
            <a:ext cx="738000" cy="906480"/>
          </a:xfrm>
          <a:prstGeom prst="rect">
            <a:avLst/>
          </a:prstGeom>
          <a:ln w="0">
            <a:noFill/>
          </a:ln>
        </p:spPr>
      </p:pic>
      <p:pic>
        <p:nvPicPr>
          <p:cNvPr id="2454" name="agentred" descr=""/>
          <p:cNvPicPr/>
          <p:nvPr/>
        </p:nvPicPr>
        <p:blipFill>
          <a:blip r:embed="rId3"/>
          <a:stretch/>
        </p:blipFill>
        <p:spPr>
          <a:xfrm>
            <a:off x="3068640" y="2906640"/>
            <a:ext cx="706320" cy="776520"/>
          </a:xfrm>
          <a:prstGeom prst="rect">
            <a:avLst/>
          </a:prstGeom>
          <a:ln w="0">
            <a:noFill/>
          </a:ln>
        </p:spPr>
      </p:pic>
      <p:sp>
        <p:nvSpPr>
          <p:cNvPr id="2455" name=""/>
          <p:cNvSpPr/>
          <p:nvPr/>
        </p:nvSpPr>
        <p:spPr>
          <a:xfrm>
            <a:off x="2137680" y="1876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38560" y="17557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138560" y="198756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138560" y="22273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698920" y="1839960"/>
            <a:ext cx="312480" cy="1054080"/>
          </a:xfrm>
          <a:custGeom>
            <a:avLst/>
            <a:gdLst/>
            <a:ahLst/>
            <a:rect l="l" t="t" r="r" b="b"/>
            <a:pathLst>
              <a:path w="197" h="664">
                <a:moveTo>
                  <a:pt x="197" y="664"/>
                </a:moveTo>
                <a:cubicBezTo>
                  <a:pt x="98" y="529"/>
                  <a:pt x="0" y="394"/>
                  <a:pt x="0" y="283"/>
                </a:cubicBezTo>
                <a:cubicBezTo>
                  <a:pt x="0" y="172"/>
                  <a:pt x="98" y="86"/>
                  <a:pt x="19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706920" y="1974960"/>
            <a:ext cx="295200" cy="896760"/>
          </a:xfrm>
          <a:custGeom>
            <a:avLst/>
            <a:gdLst/>
            <a:ahLst/>
            <a:rect l="l" t="t" r="r" b="b"/>
            <a:pathLst>
              <a:path w="186" h="565">
                <a:moveTo>
                  <a:pt x="0" y="0"/>
                </a:moveTo>
                <a:cubicBezTo>
                  <a:pt x="84" y="66"/>
                  <a:pt x="168" y="132"/>
                  <a:pt x="177" y="226"/>
                </a:cubicBezTo>
                <a:cubicBezTo>
                  <a:pt x="186" y="320"/>
                  <a:pt x="121" y="442"/>
                  <a:pt x="57" y="56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71480" y="3228840"/>
            <a:ext cx="2263680" cy="6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3819600" y="3127320"/>
            <a:ext cx="2060640" cy="16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V="1">
            <a:off x="6665760" y="2499840"/>
            <a:ext cx="1703520" cy="5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040040" y="272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7075800" y="2168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818240" y="2655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368280" y="4178160"/>
            <a:ext cx="36338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conomic incentive to accept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sourc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“runaway”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156200" y="4057560"/>
            <a:ext cx="49194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ts resource share proportional to tic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ptimizes utility function (parameters include risk tolerance, resource needs, and initial c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4A0-B72D-4165-B4AC-A1020C974C8C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cation: Technical repor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smart" descr=""/>
          <p:cNvPicPr/>
          <p:nvPr/>
        </p:nvPicPr>
        <p:blipFill>
          <a:blip r:embed="rId1"/>
          <a:stretch/>
        </p:blipFill>
        <p:spPr>
          <a:xfrm>
            <a:off x="1219320" y="110808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213" name="list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433600" cy="2438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657600" y="508644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agentred" descr=""/>
          <p:cNvPicPr/>
          <p:nvPr/>
        </p:nvPicPr>
        <p:blipFill>
          <a:blip r:embed="rId3"/>
          <a:stretch/>
        </p:blipFill>
        <p:spPr>
          <a:xfrm>
            <a:off x="3908520" y="485784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89520" y="5603760"/>
            <a:ext cx="246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ynamically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55720" y="29606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5880" y="3440160"/>
            <a:ext cx="772920" cy="1400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80840" y="37656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Se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9960" y="5160960"/>
            <a:ext cx="22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Return merged and filter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49320" y="4638600"/>
            <a:ext cx="2016360" cy="71928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280" y="1297080"/>
            <a:ext cx="110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UI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om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015320" y="1601640"/>
            <a:ext cx="1846080" cy="4586760"/>
            <a:chOff x="7015320" y="1601640"/>
            <a:chExt cx="1846080" cy="4586760"/>
          </a:xfrm>
        </p:grpSpPr>
        <p:sp>
          <p:nvSpPr>
            <p:cNvPr id="224" name=""/>
            <p:cNvSpPr/>
            <p:nvPr/>
          </p:nvSpPr>
          <p:spPr>
            <a:xfrm>
              <a:off x="7270560" y="5789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015320" y="4791240"/>
              <a:ext cx="1828800" cy="969840"/>
              <a:chOff x="7015320" y="4791240"/>
              <a:chExt cx="1828800" cy="969840"/>
            </a:xfrm>
          </p:grpSpPr>
          <p:sp>
            <p:nvSpPr>
              <p:cNvPr id="226" name=""/>
              <p:cNvSpPr/>
              <p:nvPr/>
            </p:nvSpPr>
            <p:spPr>
              <a:xfrm>
                <a:off x="7015320" y="52279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74360" y="4791240"/>
                <a:ext cx="68400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8" name="agentred" descr=""/>
              <p:cNvPicPr/>
              <p:nvPr/>
            </p:nvPicPr>
            <p:blipFill>
              <a:blip r:embed="rId4"/>
              <a:stretch/>
            </p:blipFill>
            <p:spPr>
              <a:xfrm>
                <a:off x="7216920" y="52675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" name=""/>
            <p:cNvGrpSpPr/>
            <p:nvPr/>
          </p:nvGrpSpPr>
          <p:grpSpPr>
            <a:xfrm>
              <a:off x="7032600" y="1601640"/>
              <a:ext cx="1828800" cy="1375200"/>
              <a:chOff x="7032600" y="1601640"/>
              <a:chExt cx="1828800" cy="1375200"/>
            </a:xfrm>
          </p:grpSpPr>
          <p:sp>
            <p:nvSpPr>
              <p:cNvPr id="230" name=""/>
              <p:cNvSpPr/>
              <p:nvPr/>
            </p:nvSpPr>
            <p:spPr>
              <a:xfrm>
                <a:off x="7286040" y="257796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achin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7032600" y="1601640"/>
                <a:ext cx="1828800" cy="960120"/>
                <a:chOff x="7032600" y="1601640"/>
                <a:chExt cx="1828800" cy="9601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032600" y="2028600"/>
                  <a:ext cx="1828800" cy="533160"/>
                </a:xfrm>
                <a:prstGeom prst="parallelogram">
                  <a:avLst>
                    <a:gd name="adj" fmla="val 105555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11800" y="1601640"/>
                  <a:ext cx="684360" cy="593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4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54720" y="2068200"/>
                  <a:ext cx="430200" cy="44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5" name=""/>
          <p:cNvSpPr/>
          <p:nvPr/>
        </p:nvSpPr>
        <p:spPr>
          <a:xfrm>
            <a:off x="7550640" y="3429000"/>
            <a:ext cx="1094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94320" y="2521080"/>
            <a:ext cx="2644560" cy="2420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83160" y="4997520"/>
            <a:ext cx="2611440" cy="393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448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end child agents / collect parti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710480" y="200484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664400" y="519876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60C-1735-498C-8362-F5E34151E2B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276280" y="2635200"/>
            <a:ext cx="459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233360" y="325440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46B2-3F90-4212-AFBE-57A805524079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xt-generation mobile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719640" y="1413000"/>
            <a:ext cx="770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on mass market technology - browser plu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ser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lightweight devices - Palm devic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ini- and CORBA-based global director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 “patterns”….what are they? 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guage support for mobile agents from within Fortr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DE4-FAD6-4A14-8D0C-DE86FB975A1F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will it take to get ther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087200" y="1203480"/>
            <a:ext cx="5648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re people trying mobile-code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ome, but not too many,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mbracing the mobile-code paradig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6" name="" descr=""/>
          <p:cNvPicPr/>
          <p:nvPr/>
        </p:nvPicPr>
        <p:blipFill>
          <a:blip r:embed="rId1"/>
          <a:stretch/>
        </p:blipFill>
        <p:spPr>
          <a:xfrm>
            <a:off x="6548400" y="1587600"/>
            <a:ext cx="1852560" cy="1263600"/>
          </a:xfrm>
          <a:prstGeom prst="rect">
            <a:avLst/>
          </a:prstGeom>
          <a:ln w="0">
            <a:noFill/>
          </a:ln>
        </p:spPr>
      </p:pic>
      <p:pic>
        <p:nvPicPr>
          <p:cNvPr id="2477" name="" descr=""/>
          <p:cNvPicPr/>
          <p:nvPr/>
        </p:nvPicPr>
        <p:blipFill>
          <a:blip r:embed="rId2"/>
          <a:stretch/>
        </p:blipFill>
        <p:spPr>
          <a:xfrm>
            <a:off x="2084400" y="3222720"/>
            <a:ext cx="3867120" cy="714240"/>
          </a:xfrm>
          <a:prstGeom prst="rect">
            <a:avLst/>
          </a:prstGeom>
          <a:ln w="0">
            <a:noFill/>
          </a:ln>
        </p:spPr>
      </p:pic>
      <p:pic>
        <p:nvPicPr>
          <p:cNvPr id="2478" name="" descr=""/>
          <p:cNvPicPr/>
          <p:nvPr/>
        </p:nvPicPr>
        <p:blipFill>
          <a:blip r:embed="rId3"/>
          <a:stretch/>
        </p:blipFill>
        <p:spPr>
          <a:xfrm>
            <a:off x="5083200" y="3951360"/>
            <a:ext cx="1981080" cy="474480"/>
          </a:xfrm>
          <a:prstGeom prst="rect">
            <a:avLst/>
          </a:prstGeom>
          <a:ln w="0">
            <a:noFill/>
          </a:ln>
        </p:spPr>
      </p:pic>
      <p:pic>
        <p:nvPicPr>
          <p:cNvPr id="2479" name="" descr=""/>
          <p:cNvPicPr/>
          <p:nvPr/>
        </p:nvPicPr>
        <p:blipFill>
          <a:blip r:embed="rId4"/>
          <a:stretch/>
        </p:blipFill>
        <p:spPr>
          <a:xfrm>
            <a:off x="2436840" y="169236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2480" name="" descr=""/>
          <p:cNvPicPr/>
          <p:nvPr/>
        </p:nvPicPr>
        <p:blipFill>
          <a:blip r:embed="rId5"/>
          <a:stretch/>
        </p:blipFill>
        <p:spPr>
          <a:xfrm>
            <a:off x="4572000" y="5016600"/>
            <a:ext cx="3809880" cy="119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5F17-673F-48C4-8933-9D47A379B233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Scala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85800" y="157464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 Scaling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  - Company - (approximately 600 agents required per comp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N - Battalion - (approximately 1,400 agents required per batta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D - Command - (approximately 2,400 agents required per comm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3" name=""/>
          <p:cNvGraphicFramePr/>
          <p:nvPr/>
        </p:nvGraphicFramePr>
        <p:xfrm>
          <a:off x="838080" y="2336760"/>
          <a:ext cx="74678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36760"/>
                    <a:ext cx="7467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5" name=""/>
          <p:cNvSpPr/>
          <p:nvPr/>
        </p:nvSpPr>
        <p:spPr>
          <a:xfrm>
            <a:off x="0" y="116064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8C6-8C95-4D78-A83B-EBF77D93ABBB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pull dir="d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Secur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896760" y="1600200"/>
            <a:ext cx="736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can build on firm cryptographic basis in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questions:  How to protect code from mali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s?  What if an “intruder” or “enemy” cap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erve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ling with global, heterogeneous 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man link is still weak, especially with PDA’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FE1-D77E-459F-A7B8-DD29468945F6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y issue: Monitoring and contro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9" name="" descr=""/>
          <p:cNvPicPr/>
          <p:nvPr/>
        </p:nvPicPr>
        <p:blipFill>
          <a:blip r:embed="rId1"/>
          <a:stretch/>
        </p:blipFill>
        <p:spPr>
          <a:xfrm>
            <a:off x="222120" y="1719360"/>
            <a:ext cx="5888160" cy="3838320"/>
          </a:xfrm>
          <a:prstGeom prst="rect">
            <a:avLst/>
          </a:prstGeom>
          <a:ln w="0">
            <a:noFill/>
          </a:ln>
        </p:spPr>
      </p:pic>
      <p:sp>
        <p:nvSpPr>
          <p:cNvPr id="2490" name=""/>
          <p:cNvSpPr/>
          <p:nvPr/>
        </p:nvSpPr>
        <p:spPr>
          <a:xfrm>
            <a:off x="6367320" y="1584360"/>
            <a:ext cx="262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are we 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deal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,000’s of nod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000,000’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scal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deg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C710-9222-4456-A1F5-E39A7AF0B825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"/>
          <p:cNvSpPr/>
          <p:nvPr/>
        </p:nvSpPr>
        <p:spPr>
          <a:xfrm>
            <a:off x="409680" y="1536840"/>
            <a:ext cx="4533840" cy="363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Application Sui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132000" y="2028960"/>
            <a:ext cx="97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4" name="smart" descr=""/>
          <p:cNvPicPr/>
          <p:nvPr/>
        </p:nvPicPr>
        <p:blipFill>
          <a:blip r:embed="rId2"/>
          <a:stretch/>
        </p:blipFill>
        <p:spPr>
          <a:xfrm>
            <a:off x="857160" y="2084400"/>
            <a:ext cx="1173240" cy="720720"/>
          </a:xfrm>
          <a:prstGeom prst="rect">
            <a:avLst/>
          </a:prstGeom>
          <a:ln w="0">
            <a:noFill/>
          </a:ln>
        </p:spPr>
      </p:pic>
      <p:pic>
        <p:nvPicPr>
          <p:cNvPr id="2495" name="list" descr=""/>
          <p:cNvPicPr/>
          <p:nvPr/>
        </p:nvPicPr>
        <p:blipFill>
          <a:blip r:embed="rId3"/>
          <a:stretch/>
        </p:blipFill>
        <p:spPr>
          <a:xfrm>
            <a:off x="812880" y="2616120"/>
            <a:ext cx="407880" cy="434880"/>
          </a:xfrm>
          <a:prstGeom prst="rect">
            <a:avLst/>
          </a:prstGeom>
          <a:ln w="0">
            <a:noFill/>
          </a:ln>
        </p:spPr>
      </p:pic>
      <p:sp>
        <p:nvSpPr>
          <p:cNvPr id="2496" name=""/>
          <p:cNvSpPr/>
          <p:nvPr/>
        </p:nvSpPr>
        <p:spPr>
          <a:xfrm>
            <a:off x="2120760" y="4048200"/>
            <a:ext cx="682920" cy="212760"/>
          </a:xfrm>
          <a:prstGeom prst="parallelogram">
            <a:avLst>
              <a:gd name="adj" fmla="val 9877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7" name="agentred" descr=""/>
          <p:cNvPicPr/>
          <p:nvPr/>
        </p:nvPicPr>
        <p:blipFill>
          <a:blip r:embed="rId4"/>
          <a:stretch/>
        </p:blipFill>
        <p:spPr>
          <a:xfrm>
            <a:off x="2214720" y="3956040"/>
            <a:ext cx="247320" cy="273240"/>
          </a:xfrm>
          <a:prstGeom prst="rect">
            <a:avLst/>
          </a:prstGeom>
          <a:ln w="0">
            <a:noFill/>
          </a:ln>
        </p:spPr>
      </p:pic>
      <p:sp>
        <p:nvSpPr>
          <p:cNvPr id="2498" name=""/>
          <p:cNvSpPr/>
          <p:nvPr/>
        </p:nvSpPr>
        <p:spPr>
          <a:xfrm>
            <a:off x="1243080" y="2631960"/>
            <a:ext cx="199800" cy="2127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05596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1389240" y="3209760"/>
            <a:ext cx="79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506400" y="43228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3375000" y="4103640"/>
            <a:ext cx="684360" cy="212760"/>
          </a:xfrm>
          <a:prstGeom prst="parallelogram">
            <a:avLst>
              <a:gd name="adj" fmla="val 989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603600" y="4019400"/>
            <a:ext cx="255600" cy="236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507480" y="304308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3381480" y="2828880"/>
            <a:ext cx="684000" cy="212760"/>
          </a:xfrm>
          <a:prstGeom prst="parallelogram">
            <a:avLst>
              <a:gd name="adj" fmla="val 9893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3610080" y="2751120"/>
            <a:ext cx="255600" cy="236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2470320" y="2971440"/>
            <a:ext cx="1122120" cy="1017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2467080" y="4011480"/>
            <a:ext cx="1112760" cy="144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757600" y="3657600"/>
            <a:ext cx="77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198520" y="2981160"/>
            <a:ext cx="5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223000" y="427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760320" y="30448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227240" y="3070080"/>
            <a:ext cx="966600" cy="936720"/>
          </a:xfrm>
          <a:custGeom>
            <a:avLst/>
            <a:gdLst/>
            <a:ahLst/>
            <a:rect l="l" t="t" r="r" b="b"/>
            <a:pathLst>
              <a:path w="1630" h="1482">
                <a:moveTo>
                  <a:pt x="1630" y="1482"/>
                </a:moveTo>
                <a:cubicBezTo>
                  <a:pt x="1236" y="1203"/>
                  <a:pt x="843" y="925"/>
                  <a:pt x="571" y="678"/>
                </a:cubicBezTo>
                <a:cubicBezTo>
                  <a:pt x="299" y="431"/>
                  <a:pt x="149" y="215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444680" y="2814480"/>
            <a:ext cx="900000" cy="11080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585880" y="4226040"/>
            <a:ext cx="744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139760" y="4035600"/>
            <a:ext cx="125640" cy="1425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895320" y="3832200"/>
            <a:ext cx="125280" cy="142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903240" y="4035600"/>
            <a:ext cx="125640" cy="1425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896760" y="4226040"/>
            <a:ext cx="125640" cy="142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0" name=""/>
          <p:cNvCxnSpPr>
            <a:stCxn id="2517" idx="3"/>
            <a:endCxn id="2516" idx="1"/>
          </p:cNvCxnSpPr>
          <p:nvPr/>
        </p:nvCxnSpPr>
        <p:spPr>
          <a:xfrm>
            <a:off x="1025640" y="3903840"/>
            <a:ext cx="110160" cy="203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21" name=""/>
          <p:cNvCxnSpPr>
            <a:stCxn id="2518" idx="3"/>
            <a:endCxn id="2516" idx="1"/>
          </p:cNvCxnSpPr>
          <p:nvPr/>
        </p:nvCxnSpPr>
        <p:spPr>
          <a:xfrm>
            <a:off x="1033560" y="4106520"/>
            <a:ext cx="102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22" name=""/>
          <p:cNvCxnSpPr>
            <a:stCxn id="2519" idx="3"/>
            <a:endCxn id="2516" idx="1"/>
          </p:cNvCxnSpPr>
          <p:nvPr/>
        </p:nvCxnSpPr>
        <p:spPr>
          <a:xfrm flipV="1">
            <a:off x="1027080" y="4106160"/>
            <a:ext cx="108720" cy="191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3" name=""/>
          <p:cNvSpPr/>
          <p:nvPr/>
        </p:nvSpPr>
        <p:spPr>
          <a:xfrm flipV="1">
            <a:off x="1276200" y="4100040"/>
            <a:ext cx="928800" cy="32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380960" y="4110120"/>
            <a:ext cx="62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221800" y="1292400"/>
            <a:ext cx="380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iting for a “killer app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its of mobile agen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are based on sh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many applications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improved by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mo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applications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to be develop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groups, s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tak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987840" y="549108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567-8FC2-45B1-B1AF-FAD3D9F55B8F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14360" y="7632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trends lead to mobile ag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74840" y="112248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74840" y="226044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er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76280" y="402444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76280" y="517356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587680" y="1693800"/>
            <a:ext cx="180504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762440" y="259704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808520" y="105876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829600" y="40924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void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751480" y="52419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729320" y="4560840"/>
            <a:ext cx="147780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091280" y="1679400"/>
            <a:ext cx="1478160" cy="113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7091280" y="3624120"/>
            <a:ext cx="1478160" cy="932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095880" y="5710320"/>
            <a:ext cx="142416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916280" y="1546200"/>
            <a:ext cx="72864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 flipV="1">
            <a:off x="1916280" y="2328480"/>
            <a:ext cx="739440" cy="38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2063160" y="966960"/>
            <a:ext cx="182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pers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V="1">
            <a:off x="4381560" y="1658880"/>
            <a:ext cx="46980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370400" y="2263680"/>
            <a:ext cx="480960" cy="53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264360" y="1636560"/>
            <a:ext cx="80640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6253200" y="2521080"/>
            <a:ext cx="81756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545000" y="192096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o many un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ersed clients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flipV="1">
            <a:off x="1916280" y="4381200"/>
            <a:ext cx="90792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905120" y="4448160"/>
            <a:ext cx="9079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927080" y="5557680"/>
            <a:ext cx="852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1938240" y="4616280"/>
            <a:ext cx="885960" cy="84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078440" y="4448160"/>
            <a:ext cx="617400" cy="2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flipV="1">
            <a:off x="4191120" y="5322960"/>
            <a:ext cx="515880" cy="223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4102200" y="3327120"/>
            <a:ext cx="761760" cy="89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V="1">
            <a:off x="4146480" y="3406680"/>
            <a:ext cx="8064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832880" y="2846520"/>
            <a:ext cx="0" cy="739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7183440" y="4616280"/>
            <a:ext cx="649440" cy="1043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6479280" y="289872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tes to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590240" y="4799160"/>
            <a:ext cx="10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4BA-8E57-4A97-84FB-CFC78FA74C6B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grating to migrating co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2" name=""/>
          <p:cNvGrpSpPr/>
          <p:nvPr/>
        </p:nvGrpSpPr>
        <p:grpSpPr>
          <a:xfrm>
            <a:off x="399960" y="1197000"/>
            <a:ext cx="3395880" cy="4770360"/>
            <a:chOff x="399960" y="1197000"/>
            <a:chExt cx="3395880" cy="4770360"/>
          </a:xfrm>
        </p:grpSpPr>
        <p:sp>
          <p:nvSpPr>
            <p:cNvPr id="2563" name=""/>
            <p:cNvSpPr/>
            <p:nvPr/>
          </p:nvSpPr>
          <p:spPr>
            <a:xfrm>
              <a:off x="399960" y="1197000"/>
              <a:ext cx="1546200" cy="86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pp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249640" y="235584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xi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2246400" y="376560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020240" y="237672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x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vi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y ex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ISP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01760" y="5094360"/>
              <a:ext cx="1546200" cy="8730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952640" y="2036880"/>
              <a:ext cx="334800" cy="314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016080" y="3425760"/>
              <a:ext cx="0" cy="29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1936440" y="4788000"/>
              <a:ext cx="368280" cy="34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382640" y="1197000"/>
            <a:ext cx="4437360" cy="5135040"/>
            <a:chOff x="4382640" y="1197000"/>
            <a:chExt cx="4437360" cy="5135040"/>
          </a:xfrm>
        </p:grpSpPr>
        <p:grpSp>
          <p:nvGrpSpPr>
            <p:cNvPr id="2572" name=""/>
            <p:cNvGrpSpPr/>
            <p:nvPr/>
          </p:nvGrpSpPr>
          <p:grpSpPr>
            <a:xfrm>
              <a:off x="4920840" y="1197000"/>
              <a:ext cx="3362760" cy="957240"/>
              <a:chOff x="4920840" y="1197000"/>
              <a:chExt cx="3362760" cy="957240"/>
            </a:xfrm>
          </p:grpSpPr>
          <p:grpSp>
            <p:nvGrpSpPr>
              <p:cNvPr id="2573" name=""/>
              <p:cNvGrpSpPr/>
              <p:nvPr/>
            </p:nvGrpSpPr>
            <p:grpSpPr>
              <a:xfrm>
                <a:off x="5672160" y="1301760"/>
                <a:ext cx="2611440" cy="852480"/>
                <a:chOff x="5672160" y="1301760"/>
                <a:chExt cx="2611440" cy="85248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5672160" y="1301760"/>
                  <a:ext cx="2611440" cy="852480"/>
                </a:xfrm>
                <a:prstGeom prst="parallelogram">
                  <a:avLst>
                    <a:gd name="adj" fmla="val 11211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flipV="1">
                  <a:off x="6367320" y="1536480"/>
                  <a:ext cx="381240" cy="3474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6759360" y="1548000"/>
                  <a:ext cx="527040" cy="291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flipV="1">
                  <a:off x="6759360" y="1447560"/>
                  <a:ext cx="650880" cy="889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H="1">
                  <a:off x="7286040" y="1459080"/>
                  <a:ext cx="135000" cy="3697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6692760" y="1479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6296040" y="1844640"/>
                  <a:ext cx="12204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7221600" y="1784520"/>
                  <a:ext cx="122040" cy="1220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7340400" y="1398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3" name=""/>
              <p:cNvSpPr/>
              <p:nvPr/>
            </p:nvSpPr>
            <p:spPr>
              <a:xfrm>
                <a:off x="4920840" y="1197000"/>
                <a:ext cx="126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ra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4" name=""/>
            <p:cNvGrpSpPr/>
            <p:nvPr/>
          </p:nvGrpSpPr>
          <p:grpSpPr>
            <a:xfrm>
              <a:off x="4382640" y="3902040"/>
              <a:ext cx="4437360" cy="2430000"/>
              <a:chOff x="4382640" y="3902040"/>
              <a:chExt cx="4437360" cy="2430000"/>
            </a:xfrm>
          </p:grpSpPr>
          <p:grpSp>
            <p:nvGrpSpPr>
              <p:cNvPr id="2585" name=""/>
              <p:cNvGrpSpPr/>
              <p:nvPr/>
            </p:nvGrpSpPr>
            <p:grpSpPr>
              <a:xfrm>
                <a:off x="5700600" y="4412880"/>
                <a:ext cx="1165320" cy="380880"/>
                <a:chOff x="5700600" y="4412880"/>
                <a:chExt cx="1165320" cy="38088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5700600" y="441288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flipV="1">
                  <a:off x="6010560" y="451728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185520" y="45226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V="1">
                  <a:off x="6185520" y="44780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H="1">
                  <a:off x="6420600" y="448308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156000" y="4492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5978880" y="4655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391800" y="462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445080" y="4456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5" name=""/>
              <p:cNvGrpSpPr/>
              <p:nvPr/>
            </p:nvGrpSpPr>
            <p:grpSpPr>
              <a:xfrm>
                <a:off x="5649840" y="5719320"/>
                <a:ext cx="1165320" cy="380880"/>
                <a:chOff x="5649840" y="5719320"/>
                <a:chExt cx="1165320" cy="380880"/>
              </a:xfrm>
            </p:grpSpPr>
            <p:sp>
              <p:nvSpPr>
                <p:cNvPr id="2596" name=""/>
                <p:cNvSpPr/>
                <p:nvPr/>
              </p:nvSpPr>
              <p:spPr>
                <a:xfrm>
                  <a:off x="5649840" y="571932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V="1">
                  <a:off x="5959800" y="582372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6134760" y="582912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flipV="1">
                  <a:off x="6134760" y="578448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H="1">
                  <a:off x="6369840" y="578952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105240" y="579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5928120" y="5961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341040" y="5934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394320" y="5762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5" name=""/>
              <p:cNvGrpSpPr/>
              <p:nvPr/>
            </p:nvGrpSpPr>
            <p:grpSpPr>
              <a:xfrm>
                <a:off x="4603680" y="5073480"/>
                <a:ext cx="1165320" cy="380520"/>
                <a:chOff x="4603680" y="5073480"/>
                <a:chExt cx="1165320" cy="380520"/>
              </a:xfrm>
            </p:grpSpPr>
            <p:sp>
              <p:nvSpPr>
                <p:cNvPr id="2606" name=""/>
                <p:cNvSpPr/>
                <p:nvPr/>
              </p:nvSpPr>
              <p:spPr>
                <a:xfrm>
                  <a:off x="4603680" y="5073480"/>
                  <a:ext cx="1165320" cy="380520"/>
                </a:xfrm>
                <a:prstGeom prst="parallelogram">
                  <a:avLst>
                    <a:gd name="adj" fmla="val 112077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flipV="1">
                  <a:off x="4913640" y="5178240"/>
                  <a:ext cx="169920" cy="1548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5088600" y="51832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flipV="1">
                  <a:off x="5088600" y="51386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flipH="1">
                  <a:off x="5323680" y="5143680"/>
                  <a:ext cx="60120" cy="16488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5059080" y="5152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4881960" y="5315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5294880" y="5288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5348160" y="5116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7242120" y="4824000"/>
                <a:ext cx="1165320" cy="380880"/>
                <a:chOff x="7242120" y="4824000"/>
                <a:chExt cx="1165320" cy="38088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7242120" y="482400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V="1">
                  <a:off x="7552080" y="492840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7727040" y="493380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flipV="1">
                  <a:off x="7727040" y="488916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7962120" y="489420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7697520" y="4903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7520400" y="5066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7933320" y="5039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7986600" y="4867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5" name=""/>
              <p:cNvGrpSpPr/>
              <p:nvPr/>
            </p:nvGrpSpPr>
            <p:grpSpPr>
              <a:xfrm>
                <a:off x="7261200" y="3902040"/>
                <a:ext cx="1165320" cy="380880"/>
                <a:chOff x="7261200" y="3902040"/>
                <a:chExt cx="1165320" cy="380880"/>
              </a:xfrm>
            </p:grpSpPr>
            <p:sp>
              <p:nvSpPr>
                <p:cNvPr id="2626" name=""/>
                <p:cNvSpPr/>
                <p:nvPr/>
              </p:nvSpPr>
              <p:spPr>
                <a:xfrm>
                  <a:off x="7261200" y="390204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flipV="1">
                  <a:off x="7571160" y="400644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7746120" y="401184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flipV="1">
                  <a:off x="7746120" y="396720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7981200" y="397224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7716600" y="3981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7539480" y="4144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7952400" y="4117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8005680" y="3945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5" name=""/>
              <p:cNvSpPr/>
              <p:nvPr/>
            </p:nvSpPr>
            <p:spPr>
              <a:xfrm flipV="1">
                <a:off x="6859440" y="4281120"/>
                <a:ext cx="414360" cy="134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677000" y="4292280"/>
                <a:ext cx="281160" cy="515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680160" y="4595400"/>
                <a:ext cx="795240" cy="380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>
                <a:off x="5772240" y="4797000"/>
                <a:ext cx="336240" cy="2682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210360" y="4797000"/>
                <a:ext cx="201600" cy="919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8259840" y="4057200"/>
                <a:ext cx="537840" cy="5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137440" y="5054400"/>
                <a:ext cx="682560" cy="41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511680" y="5995800"/>
                <a:ext cx="358920" cy="3362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>
                <a:off x="4382640" y="5457600"/>
                <a:ext cx="235080" cy="2138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644360" y="3947760"/>
                <a:ext cx="124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er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5" name=""/>
            <p:cNvSpPr/>
            <p:nvPr/>
          </p:nvSpPr>
          <p:spPr>
            <a:xfrm>
              <a:off x="6208560" y="2566800"/>
              <a:ext cx="784440" cy="1043280"/>
            </a:xfrm>
            <a:prstGeom prst="downArrow">
              <a:avLst>
                <a:gd name="adj1" fmla="val 50000"/>
                <a:gd name="adj2" fmla="val 3324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E4A-50A0-4B74-9546-AE93CC0F9ADB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ercial fu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1053720" y="1617840"/>
            <a:ext cx="70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oftware industry is evolving toward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icult to predic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Java, JDK, free to users and develo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open systems must be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development of applications based on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s and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follow Web and Java 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7CD-2654-4300-A85C-EEA0A8E25502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flipH="1" flipV="1">
            <a:off x="4495680" y="1323360"/>
            <a:ext cx="1524240" cy="47242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200 h 4724280"/>
              <a:gd name="textAreaBottom" fmla="*/ 342468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628640"/>
            <a:ext cx="1524240" cy="472464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4121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5120" y="2797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7200" y="4295880"/>
            <a:ext cx="401760" cy="395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95680"/>
            <a:ext cx="401760" cy="388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581280" y="0"/>
            <a:ext cx="546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tmouth (Prime),  ALPHATECH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vard, Lockheed Mart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I, University of Illinois at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actcomm.dartmouth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905120" y="4981680"/>
            <a:ext cx="858600" cy="1218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28600" y="353376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0560" y="34844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21320" y="52848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400040"/>
            <a:ext cx="3276720" cy="1524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atile Network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3124080" y="568656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486400" y="2619360"/>
            <a:ext cx="479520" cy="990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709160" y="32623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5334120" y="437184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266360" y="4100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2880" y="5210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7840" y="5286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9840" y="3305160"/>
            <a:ext cx="2008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Informa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ing queri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us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92520" y="5175360"/>
            <a:ext cx="241344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Softwar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l, Java,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Scheme mo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 deliver data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89040" y="3533760"/>
            <a:ext cx="2666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Hybrid Networ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 and vola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 must recon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locate servers/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robustness and 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57200" y="1908000"/>
            <a:ext cx="28602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 itineraries must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 dynamically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chastic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286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Comm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 DoD M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1E86-06DF-4D68-8CDD-9CB3664C16E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ding opportun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27240" y="1177920"/>
            <a:ext cx="8488080" cy="48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ident’s Information Technology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ITAC) report is full of agent-type application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s, new ideas for global computing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disse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hpcc.gov/a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SF - KDI and advanced networking and computing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 - Strategic Simulation Initiative (S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RPA - several agent programs, perhaps mor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SA - Information Power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142-E4F2-45E2-972B-48DBDBF43DCC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: C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79240" y="1360440"/>
            <a:ext cx="768744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start something new…just evolve exis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backward compatible with Fortran, C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is too big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for moving code is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 will be so fast, performance not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not invented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2" name="" descr=""/>
          <p:cNvPicPr/>
          <p:nvPr/>
        </p:nvPicPr>
        <p:blipFill>
          <a:blip r:embed="rId1"/>
          <a:stretch/>
        </p:blipFill>
        <p:spPr>
          <a:xfrm>
            <a:off x="7286760" y="19605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880-B97A-42FA-9B95-75D049337D3B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: Pro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912960" y="1565280"/>
            <a:ext cx="75895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fying framework for making many applic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s data and code symmet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w computing paradigm, lots to think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ystems are evolving there anyway…get ou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-language suppor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disconnected networks in a way that o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can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er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5" name="" descr=""/>
          <p:cNvPicPr/>
          <p:nvPr/>
        </p:nvPicPr>
        <p:blipFill>
          <a:blip r:embed="rId1"/>
          <a:stretch/>
        </p:blipFill>
        <p:spPr>
          <a:xfrm>
            <a:off x="361800" y="349200"/>
            <a:ext cx="1641600" cy="1120680"/>
          </a:xfrm>
          <a:prstGeom prst="rect">
            <a:avLst/>
          </a:prstGeom>
          <a:ln w="0">
            <a:noFill/>
          </a:ln>
        </p:spPr>
      </p:pic>
      <p:pic>
        <p:nvPicPr>
          <p:cNvPr id="2656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D86-5041-4A15-BF33-449547D36422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more about it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215-195E-44C2-A8FE-F3F34231E259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7" name=""/>
          <p:cNvGrpSpPr/>
          <p:nvPr/>
        </p:nvGrpSpPr>
        <p:grpSpPr>
          <a:xfrm>
            <a:off x="853560" y="1306440"/>
            <a:ext cx="7439040" cy="4844520"/>
            <a:chOff x="853560" y="1306440"/>
            <a:chExt cx="7439040" cy="4844520"/>
          </a:xfrm>
        </p:grpSpPr>
        <p:sp>
          <p:nvSpPr>
            <p:cNvPr id="2668" name=""/>
            <p:cNvSpPr/>
            <p:nvPr/>
          </p:nvSpPr>
          <p:spPr>
            <a:xfrm>
              <a:off x="855000" y="1306440"/>
              <a:ext cx="53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erver and Tcl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459880" y="1897200"/>
              <a:ext cx="41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://agent.cs.dartmouth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53560" y="290340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Java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460240" y="345132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 (due to Sun licensing restrictions)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ct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obert.s.gray@dartmouth.ed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55720" y="5095800"/>
              <a:ext cx="43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cheme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462400" y="5691240"/>
              <a:ext cx="195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ing so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D03-848A-4941-AB47-6A1A5079C200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 flipH="1">
            <a:off x="2192400" y="1390680"/>
            <a:ext cx="115920" cy="111924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01760" y="136440"/>
            <a:ext cx="3849480" cy="1647360"/>
            <a:chOff x="401760" y="136440"/>
            <a:chExt cx="3849480" cy="1647360"/>
          </a:xfrm>
        </p:grpSpPr>
        <p:sp>
          <p:nvSpPr>
            <p:cNvPr id="267" name=""/>
            <p:cNvSpPr/>
            <p:nvPr/>
          </p:nvSpPr>
          <p:spPr>
            <a:xfrm rot="20580000">
              <a:off x="2048400" y="663480"/>
              <a:ext cx="582840" cy="5824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580000">
              <a:off x="2867400" y="319320"/>
              <a:ext cx="1333440" cy="542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0580000">
              <a:off x="451800" y="1057680"/>
              <a:ext cx="1333440" cy="54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7" idx="6"/>
              <a:endCxn id="268" idx="1"/>
            </p:cNvCxnSpPr>
            <p:nvPr/>
          </p:nvCxnSpPr>
          <p:spPr>
            <a:xfrm flipV="1">
              <a:off x="2630880" y="789840"/>
              <a:ext cx="254160" cy="77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71" name=""/>
            <p:cNvCxnSpPr>
              <a:stCxn id="267" idx="2"/>
              <a:endCxn id="269" idx="3"/>
            </p:cNvCxnSpPr>
            <p:nvPr/>
          </p:nvCxnSpPr>
          <p:spPr>
            <a:xfrm flipH="1">
              <a:off x="1768320" y="1044360"/>
              <a:ext cx="281160" cy="8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pplication: ActCom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humvee" descr=""/>
          <p:cNvPicPr/>
          <p:nvPr/>
        </p:nvPicPr>
        <p:blipFill>
          <a:blip r:embed="rId3"/>
          <a:stretch/>
        </p:blipFill>
        <p:spPr>
          <a:xfrm>
            <a:off x="4854600" y="2585880"/>
            <a:ext cx="1380960" cy="698760"/>
          </a:xfrm>
          <a:prstGeom prst="rect">
            <a:avLst/>
          </a:prstGeom>
          <a:ln w="0">
            <a:noFill/>
          </a:ln>
        </p:spPr>
      </p:pic>
      <p:pic>
        <p:nvPicPr>
          <p:cNvPr id="274" name="soldier1" descr=""/>
          <p:cNvPicPr/>
          <p:nvPr/>
        </p:nvPicPr>
        <p:blipFill>
          <a:blip r:embed="rId4"/>
          <a:stretch/>
        </p:blipFill>
        <p:spPr>
          <a:xfrm>
            <a:off x="7797960" y="3127320"/>
            <a:ext cx="542880" cy="995400"/>
          </a:xfrm>
          <a:prstGeom prst="rect">
            <a:avLst/>
          </a:prstGeom>
          <a:ln w="0">
            <a:noFill/>
          </a:ln>
        </p:spPr>
      </p:pic>
      <p:pic>
        <p:nvPicPr>
          <p:cNvPr id="275" name="soldier2" descr=""/>
          <p:cNvPicPr/>
          <p:nvPr/>
        </p:nvPicPr>
        <p:blipFill>
          <a:blip r:embed="rId5"/>
          <a:stretch/>
        </p:blipFill>
        <p:spPr>
          <a:xfrm>
            <a:off x="5780160" y="4168800"/>
            <a:ext cx="466560" cy="984240"/>
          </a:xfrm>
          <a:prstGeom prst="rect">
            <a:avLst/>
          </a:prstGeom>
          <a:ln w="0">
            <a:noFill/>
          </a:ln>
        </p:spPr>
      </p:pic>
      <p:pic>
        <p:nvPicPr>
          <p:cNvPr id="276" name="soldier1" descr=""/>
          <p:cNvPicPr/>
          <p:nvPr/>
        </p:nvPicPr>
        <p:blipFill>
          <a:blip r:embed="rId6"/>
          <a:stretch/>
        </p:blipFill>
        <p:spPr>
          <a:xfrm>
            <a:off x="7491240" y="5513400"/>
            <a:ext cx="543240" cy="995400"/>
          </a:xfrm>
          <a:prstGeom prst="rect">
            <a:avLst/>
          </a:prstGeom>
          <a:ln w="0">
            <a:noFill/>
          </a:ln>
        </p:spPr>
      </p:pic>
      <p:pic>
        <p:nvPicPr>
          <p:cNvPr id="277" name="soldier2" descr=""/>
          <p:cNvPicPr/>
          <p:nvPr/>
        </p:nvPicPr>
        <p:blipFill>
          <a:blip r:embed="rId7"/>
          <a:stretch/>
        </p:blipFill>
        <p:spPr>
          <a:xfrm>
            <a:off x="8542440" y="1374840"/>
            <a:ext cx="4665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5219640" y="4092480"/>
            <a:ext cx="492120" cy="942840"/>
            <a:chOff x="5219640" y="4092480"/>
            <a:chExt cx="492120" cy="942840"/>
          </a:xfrm>
        </p:grpSpPr>
        <p:pic>
          <p:nvPicPr>
            <p:cNvPr id="279" name="gateway" descr=""/>
            <p:cNvPicPr/>
            <p:nvPr/>
          </p:nvPicPr>
          <p:blipFill>
            <a:blip r:embed="rId8"/>
            <a:stretch/>
          </p:blipFill>
          <p:spPr>
            <a:xfrm>
              <a:off x="5219640" y="443052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5254200" y="4092480"/>
              <a:ext cx="319320" cy="374760"/>
              <a:chOff x="5254200" y="4092480"/>
              <a:chExt cx="319320" cy="37476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5406840" y="426708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460840" y="413532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89640" y="427212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5293800" y="430056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5254200" y="418644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5360760" y="409248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5532120" y="2235240"/>
            <a:ext cx="319320" cy="374760"/>
            <a:chOff x="5532120" y="2235240"/>
            <a:chExt cx="319320" cy="374760"/>
          </a:xfrm>
        </p:grpSpPr>
        <p:sp>
          <p:nvSpPr>
            <p:cNvPr id="288" name=""/>
            <p:cNvSpPr/>
            <p:nvPr/>
          </p:nvSpPr>
          <p:spPr>
            <a:xfrm flipV="1">
              <a:off x="5684760" y="240984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38760" y="2278080"/>
              <a:ext cx="85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67560" y="2414880"/>
              <a:ext cx="83880" cy="20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571720" y="2443320"/>
              <a:ext cx="33480" cy="15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532120" y="2329200"/>
              <a:ext cx="90360" cy="3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5638680" y="2235240"/>
              <a:ext cx="37800" cy="100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962840" y="1306440"/>
            <a:ext cx="492120" cy="942840"/>
            <a:chOff x="7962840" y="1306440"/>
            <a:chExt cx="492120" cy="942840"/>
          </a:xfrm>
        </p:grpSpPr>
        <p:pic>
          <p:nvPicPr>
            <p:cNvPr id="295" name="gateway" descr=""/>
            <p:cNvPicPr/>
            <p:nvPr/>
          </p:nvPicPr>
          <p:blipFill>
            <a:blip r:embed="rId9"/>
            <a:stretch/>
          </p:blipFill>
          <p:spPr>
            <a:xfrm>
              <a:off x="7962840" y="164448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6" name=""/>
            <p:cNvGrpSpPr/>
            <p:nvPr/>
          </p:nvGrpSpPr>
          <p:grpSpPr>
            <a:xfrm>
              <a:off x="7997400" y="1306440"/>
              <a:ext cx="319320" cy="374760"/>
              <a:chOff x="7997400" y="1306440"/>
              <a:chExt cx="319320" cy="37476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8150040" y="148104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8204040" y="134928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232840" y="148608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8037000" y="151452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7997400" y="140040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8103960" y="130644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7272360" y="2971800"/>
            <a:ext cx="492120" cy="942840"/>
            <a:chOff x="7272360" y="2971800"/>
            <a:chExt cx="492120" cy="942840"/>
          </a:xfrm>
        </p:grpSpPr>
        <p:pic>
          <p:nvPicPr>
            <p:cNvPr id="304" name="gateway" descr=""/>
            <p:cNvPicPr/>
            <p:nvPr/>
          </p:nvPicPr>
          <p:blipFill>
            <a:blip r:embed="rId10"/>
            <a:stretch/>
          </p:blipFill>
          <p:spPr>
            <a:xfrm>
              <a:off x="7272360" y="330984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"/>
            <p:cNvGrpSpPr/>
            <p:nvPr/>
          </p:nvGrpSpPr>
          <p:grpSpPr>
            <a:xfrm>
              <a:off x="7306920" y="2971800"/>
              <a:ext cx="319320" cy="374760"/>
              <a:chOff x="7306920" y="2971800"/>
              <a:chExt cx="319320" cy="374760"/>
            </a:xfrm>
          </p:grpSpPr>
          <p:sp>
            <p:nvSpPr>
              <p:cNvPr id="306" name=""/>
              <p:cNvSpPr/>
              <p:nvPr/>
            </p:nvSpPr>
            <p:spPr>
              <a:xfrm flipV="1">
                <a:off x="7459560" y="314640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513560" y="301464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42360" y="315144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346520" y="317988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flipV="1">
                <a:off x="7306920" y="306576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7413480" y="297180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6954840" y="5402160"/>
            <a:ext cx="492120" cy="942840"/>
            <a:chOff x="6954840" y="5402160"/>
            <a:chExt cx="492120" cy="942840"/>
          </a:xfrm>
        </p:grpSpPr>
        <p:pic>
          <p:nvPicPr>
            <p:cNvPr id="313" name="gateway" descr=""/>
            <p:cNvPicPr/>
            <p:nvPr/>
          </p:nvPicPr>
          <p:blipFill>
            <a:blip r:embed="rId11"/>
            <a:stretch/>
          </p:blipFill>
          <p:spPr>
            <a:xfrm>
              <a:off x="6954840" y="574020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"/>
            <p:cNvGrpSpPr/>
            <p:nvPr/>
          </p:nvGrpSpPr>
          <p:grpSpPr>
            <a:xfrm>
              <a:off x="6989400" y="5402160"/>
              <a:ext cx="319320" cy="374760"/>
              <a:chOff x="6989400" y="5402160"/>
              <a:chExt cx="319320" cy="37476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7142040" y="557676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7196040" y="544500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224840" y="558180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029000" y="561024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989400" y="549612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7095960" y="540216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5737320" y="3294000"/>
            <a:ext cx="179280" cy="8301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148080" y="3809880"/>
            <a:ext cx="1098360" cy="5731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67600" y="3038400"/>
            <a:ext cx="1079280" cy="39060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7246440" y="3914640"/>
            <a:ext cx="295560" cy="14385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76880" y="5172120"/>
            <a:ext cx="762120" cy="2937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50280" y="448308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764120" y="2278080"/>
            <a:ext cx="420840" cy="8683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63600" y="1368360"/>
            <a:ext cx="293400" cy="2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12124"/>
                </a:moveTo>
                <a:arcTo wR="10800" hR="10800" stAng="10377395" swAng="11089347"/>
                <a:lnTo>
                  <a:pt x="10800" y="10800"/>
                </a:lnTo>
                <a:close/>
              </a:path>
              <a:path fill="none" w="21600" h="21600">
                <a:moveTo>
                  <a:pt x="82" y="12124"/>
                </a:moveTo>
                <a:arcTo wR="10800" hR="10800" stAng="10377395" swAng="1108934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84520" y="1168560"/>
            <a:ext cx="295200" cy="29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0" y="19833"/>
                </a:moveTo>
                <a:arcTo wR="10800" hR="10800" stAng="7394301" swAng="10659812"/>
                <a:lnTo>
                  <a:pt x="10800" y="10800"/>
                </a:lnTo>
                <a:close/>
              </a:path>
              <a:path fill="none" w="21600" h="21600">
                <a:moveTo>
                  <a:pt x="4880" y="19833"/>
                </a:moveTo>
                <a:arcTo wR="10800" hR="10800" stAng="7394301" swAng="1065981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63240" y="2280600"/>
            <a:ext cx="290880" cy="29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95" y="78"/>
                </a:moveTo>
                <a:arcTo wR="10800" hR="10800" stAng="-4986890" swAng="13143183"/>
                <a:lnTo>
                  <a:pt x="10800" y="10800"/>
                </a:lnTo>
                <a:close/>
              </a:path>
              <a:path fill="none" w="21600" h="21600">
                <a:moveTo>
                  <a:pt x="12095" y="78"/>
                </a:moveTo>
                <a:arcTo wR="10800" hR="10800" stAng="-4986890" swAng="1314318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17640" y="1251000"/>
            <a:ext cx="2403720" cy="123012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21360" y="2521080"/>
            <a:ext cx="223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65360" y="1131840"/>
            <a:ext cx="1238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307960" y="1231920"/>
            <a:ext cx="2196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440" y="471168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39880" y="558792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16240" y="471024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20640" y="2260440"/>
            <a:ext cx="2816280" cy="1427400"/>
            <a:chOff x="620640" y="2260440"/>
            <a:chExt cx="2816280" cy="1427400"/>
          </a:xfrm>
        </p:grpSpPr>
        <p:pic>
          <p:nvPicPr>
            <p:cNvPr id="339" name="" descr=""/>
            <p:cNvPicPr/>
            <p:nvPr/>
          </p:nvPicPr>
          <p:blipFill>
            <a:blip r:embed="rId15"/>
            <a:stretch/>
          </p:blipFill>
          <p:spPr>
            <a:xfrm>
              <a:off x="620640" y="2260440"/>
              <a:ext cx="28162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08600" y="2790720"/>
              <a:ext cx="184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red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281320" y="3695760"/>
            <a:ext cx="129960" cy="18349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78240" y="3679920"/>
            <a:ext cx="758520" cy="10173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28560" y="3665520"/>
            <a:ext cx="563400" cy="10288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D46-09D4-463F-9A74-8C70DB96B69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e node setu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03200" y="1546200"/>
            <a:ext cx="8330040" cy="4041360"/>
            <a:chOff x="403200" y="1546200"/>
            <a:chExt cx="8330040" cy="404136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1790640" y="1760400"/>
              <a:ext cx="5105520" cy="38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07760" y="3839760"/>
              <a:ext cx="69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GPS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75240" y="2952360"/>
              <a:ext cx="145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abletr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oamab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70280" y="4727160"/>
              <a:ext cx="125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etri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icoch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3200" y="1546200"/>
              <a:ext cx="97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n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ap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85720" y="2141280"/>
              <a:ext cx="10670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409760" y="4046400"/>
              <a:ext cx="76176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5981760" y="465588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5981760" y="3132000"/>
              <a:ext cx="1218960" cy="7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ACF-CEC1-400A-BC6A-9B2422F73CE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lication: Distributed simul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70880" y="1158840"/>
            <a:ext cx="8230320" cy="5073480"/>
            <a:chOff x="470880" y="1158840"/>
            <a:chExt cx="8230320" cy="507348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1679400" y="3344760"/>
              <a:ext cx="605160" cy="5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284560" y="2238480"/>
              <a:ext cx="4235400" cy="291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97160" y="2246400"/>
              <a:ext cx="4205160" cy="2898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13000" y="2255760"/>
              <a:ext cx="4173480" cy="28782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30280" y="2268360"/>
              <a:ext cx="4138920" cy="28530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46480" y="2279520"/>
              <a:ext cx="4106880" cy="28306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63760" y="2292480"/>
              <a:ext cx="4071960" cy="280656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1400" y="2301840"/>
              <a:ext cx="4038480" cy="27860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97240" y="2314440"/>
              <a:ext cx="4005000" cy="27608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14520" y="2325600"/>
              <a:ext cx="3970440" cy="27385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28920" y="2338560"/>
              <a:ext cx="3941640" cy="271296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46200" y="2349360"/>
              <a:ext cx="3907080" cy="2692440"/>
            </a:xfrm>
            <a:prstGeom prst="ellipse">
              <a:avLst/>
            </a:prstGeom>
            <a:solidFill>
              <a:srgbClr val="fc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62040" y="2359080"/>
              <a:ext cx="3875400" cy="26715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79680" y="2371680"/>
              <a:ext cx="3840120" cy="26463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95520" y="2382840"/>
              <a:ext cx="3808440" cy="262584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13160" y="2395440"/>
              <a:ext cx="3773520" cy="260028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29000" y="2405160"/>
              <a:ext cx="3741480" cy="257976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46280" y="2417760"/>
              <a:ext cx="3706920" cy="255420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63920" y="2428920"/>
              <a:ext cx="3671640" cy="25336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77960" y="2441520"/>
              <a:ext cx="3643560" cy="25084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93800" y="2451240"/>
              <a:ext cx="3611880" cy="248760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11440" y="2462040"/>
              <a:ext cx="3576600" cy="246708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29080" y="2475000"/>
              <a:ext cx="3541680" cy="2441520"/>
            </a:xfrm>
            <a:prstGeom prst="ellipse">
              <a:avLst/>
            </a:prstGeom>
            <a:solidFill>
              <a:srgbClr val="f6f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44920" y="2484360"/>
              <a:ext cx="3509640" cy="24210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62200" y="2496960"/>
              <a:ext cx="3475080" cy="23958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78040" y="2508120"/>
              <a:ext cx="3443400" cy="2374920"/>
            </a:xfrm>
            <a:prstGeom prst="ellipse">
              <a:avLst/>
            </a:prstGeom>
            <a:solidFill>
              <a:srgbClr val="f4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95680" y="2521080"/>
              <a:ext cx="3408120" cy="2349360"/>
            </a:xfrm>
            <a:prstGeom prst="ellipse">
              <a:avLst/>
            </a:prstGeom>
            <a:solidFill>
              <a:srgbClr val="f3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09720" y="2530440"/>
              <a:ext cx="3380040" cy="23288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27360" y="2543040"/>
              <a:ext cx="3344760" cy="23036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43200" y="2554200"/>
              <a:ext cx="3313080" cy="2281320"/>
            </a:xfrm>
            <a:prstGeom prst="ellipse">
              <a:avLst/>
            </a:prstGeom>
            <a:solidFill>
              <a:srgbClr val="f1f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60840" y="2563920"/>
              <a:ext cx="3278160" cy="2262240"/>
            </a:xfrm>
            <a:prstGeom prst="ellipse">
              <a:avLst/>
            </a:prstGeom>
            <a:solidFill>
              <a:srgbClr val="f0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78120" y="2576520"/>
              <a:ext cx="3243240" cy="2236680"/>
            </a:xfrm>
            <a:prstGeom prst="ellipse">
              <a:avLst/>
            </a:prstGeom>
            <a:solidFill>
              <a:srgbClr val="e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93960" y="2587680"/>
              <a:ext cx="3211560" cy="2214360"/>
            </a:xfrm>
            <a:prstGeom prst="ellipse">
              <a:avLst/>
            </a:prstGeom>
            <a:solidFill>
              <a:srgbClr val="ee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11600" y="2600280"/>
              <a:ext cx="3176280" cy="2189160"/>
            </a:xfrm>
            <a:prstGeom prst="ellipse">
              <a:avLst/>
            </a:prstGeom>
            <a:solidFill>
              <a:srgbClr val="ede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27440" y="2611440"/>
              <a:ext cx="3144600" cy="2168640"/>
            </a:xfrm>
            <a:prstGeom prst="ellipse">
              <a:avLst/>
            </a:prstGeom>
            <a:solidFill>
              <a:srgbClr val="ece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844720" y="2622600"/>
              <a:ext cx="3110040" cy="2144520"/>
            </a:xfrm>
            <a:prstGeom prst="ellipse">
              <a:avLst/>
            </a:prstGeom>
            <a:solidFill>
              <a:srgbClr val="eb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59120" y="2633760"/>
              <a:ext cx="3081240" cy="2122560"/>
            </a:xfrm>
            <a:prstGeom prst="ellipse">
              <a:avLst/>
            </a:prstGeom>
            <a:solidFill>
              <a:srgbClr val="eae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6400" y="2646360"/>
              <a:ext cx="3046680" cy="2097000"/>
            </a:xfrm>
            <a:prstGeom prst="ellipse">
              <a:avLst/>
            </a:prstGeom>
            <a:solidFill>
              <a:srgbClr val="e8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92600" y="2657520"/>
              <a:ext cx="3014640" cy="2076480"/>
            </a:xfrm>
            <a:prstGeom prst="ellipse">
              <a:avLst/>
            </a:prstGeom>
            <a:solidFill>
              <a:srgbClr val="e7e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09880" y="2666880"/>
              <a:ext cx="2979720" cy="2055960"/>
            </a:xfrm>
            <a:prstGeom prst="ellipse">
              <a:avLst/>
            </a:prstGeom>
            <a:solidFill>
              <a:srgbClr val="e6e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25720" y="2679840"/>
              <a:ext cx="2948040" cy="2030400"/>
            </a:xfrm>
            <a:prstGeom prst="ellipse">
              <a:avLst/>
            </a:prstGeom>
            <a:solidFill>
              <a:srgbClr val="e5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43360" y="2690640"/>
              <a:ext cx="2912760" cy="2009880"/>
            </a:xfrm>
            <a:prstGeom prst="ellipse">
              <a:avLst/>
            </a:prstGeom>
            <a:solidFill>
              <a:srgbClr val="e3e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60640" y="2703600"/>
              <a:ext cx="2878200" cy="1984320"/>
            </a:xfrm>
            <a:prstGeom prst="ellipse">
              <a:avLst/>
            </a:prstGeom>
            <a:solidFill>
              <a:srgbClr val="e2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76480" y="2712960"/>
              <a:ext cx="2846520" cy="1963800"/>
            </a:xfrm>
            <a:prstGeom prst="ellipse">
              <a:avLst/>
            </a:prstGeom>
            <a:solidFill>
              <a:srgbClr val="e1e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90880" y="2725560"/>
              <a:ext cx="2817720" cy="1938600"/>
            </a:xfrm>
            <a:prstGeom prst="ellipse">
              <a:avLst/>
            </a:prstGeom>
            <a:solidFill>
              <a:srgbClr val="dfd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08160" y="2736720"/>
              <a:ext cx="2783160" cy="1917720"/>
            </a:xfrm>
            <a:prstGeom prst="ellipse">
              <a:avLst/>
            </a:prstGeom>
            <a:solidFill>
              <a:srgbClr val="d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25800" y="2749680"/>
              <a:ext cx="2747880" cy="1892160"/>
            </a:xfrm>
            <a:prstGeom prst="ellipse">
              <a:avLst/>
            </a:prstGeom>
            <a:solidFill>
              <a:srgbClr val="dc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41640" y="2759040"/>
              <a:ext cx="2716200" cy="1871640"/>
            </a:xfrm>
            <a:prstGeom prst="ellipse">
              <a:avLst/>
            </a:prstGeom>
            <a:solidFill>
              <a:srgbClr val="db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59280" y="2770200"/>
              <a:ext cx="2681280" cy="1851120"/>
            </a:xfrm>
            <a:prstGeom prst="ellipse">
              <a:avLst/>
            </a:prstGeom>
            <a:solidFill>
              <a:srgbClr val="d9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75120" y="2782800"/>
              <a:ext cx="2649240" cy="1825560"/>
            </a:xfrm>
            <a:prstGeom prst="ellipse">
              <a:avLst/>
            </a:prstGeom>
            <a:solidFill>
              <a:srgbClr val="d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92400" y="2792520"/>
              <a:ext cx="2614680" cy="180504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10040" y="2805120"/>
              <a:ext cx="2579400" cy="1779480"/>
            </a:xfrm>
            <a:prstGeom prst="ellipse">
              <a:avLst/>
            </a:prstGeom>
            <a:solidFill>
              <a:srgbClr val="d4d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25880" y="2816280"/>
              <a:ext cx="2547720" cy="1757160"/>
            </a:xfrm>
            <a:prstGeom prst="ellipse">
              <a:avLst/>
            </a:prstGeom>
            <a:solidFill>
              <a:srgbClr val="d2d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39920" y="2828880"/>
              <a:ext cx="2519640" cy="1733760"/>
            </a:xfrm>
            <a:prstGeom prst="ellipse">
              <a:avLst/>
            </a:prstGeom>
            <a:solidFill>
              <a:srgbClr val="d0d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57560" y="2838600"/>
              <a:ext cx="2484360" cy="1712880"/>
            </a:xfrm>
            <a:prstGeom prst="ellipse">
              <a:avLst/>
            </a:prstGeom>
            <a:solidFill>
              <a:srgbClr val="cec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74840" y="2851200"/>
              <a:ext cx="2449800" cy="1687320"/>
            </a:xfrm>
            <a:prstGeom prst="ellipse">
              <a:avLst/>
            </a:prstGeom>
            <a:solidFill>
              <a:srgbClr val="cdc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91040" y="2862360"/>
              <a:ext cx="2417760" cy="1665360"/>
            </a:xfrm>
            <a:prstGeom prst="ellipse">
              <a:avLst/>
            </a:prstGeom>
            <a:solidFill>
              <a:srgbClr val="cb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8320" y="2873520"/>
              <a:ext cx="2382840" cy="1644480"/>
            </a:xfrm>
            <a:prstGeom prst="ellipse">
              <a:avLst/>
            </a:prstGeom>
            <a:solidFill>
              <a:srgbClr val="c9c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24160" y="2884320"/>
              <a:ext cx="2351160" cy="1621080"/>
            </a:xfrm>
            <a:prstGeom prst="ellipse">
              <a:avLst/>
            </a:prstGeom>
            <a:solidFill>
              <a:srgbClr val="c7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1800" y="2895480"/>
              <a:ext cx="2315880" cy="1598760"/>
            </a:xfrm>
            <a:prstGeom prst="ellipse">
              <a:avLst/>
            </a:prstGeom>
            <a:solidFill>
              <a:srgbClr val="c5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57640" y="2908440"/>
              <a:ext cx="2284200" cy="1573200"/>
            </a:xfrm>
            <a:prstGeom prst="ellipse">
              <a:avLst/>
            </a:prstGeom>
            <a:solidFill>
              <a:srgbClr val="c3c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73480" y="2919240"/>
              <a:ext cx="2252520" cy="1552680"/>
            </a:xfrm>
            <a:prstGeom prst="ellipse">
              <a:avLst/>
            </a:prstGeom>
            <a:solidFill>
              <a:srgbClr val="c1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89320" y="2932200"/>
              <a:ext cx="2220840" cy="1527120"/>
            </a:xfrm>
            <a:prstGeom prst="ellipse">
              <a:avLst/>
            </a:prstGeom>
            <a:solidFill>
              <a:srgbClr val="be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06600" y="2941560"/>
              <a:ext cx="2186280" cy="1506600"/>
            </a:xfrm>
            <a:prstGeom prst="ellipse">
              <a:avLst/>
            </a:prstGeom>
            <a:solidFill>
              <a:srgbClr val="bc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24240" y="2954160"/>
              <a:ext cx="2152800" cy="1481400"/>
            </a:xfrm>
            <a:prstGeom prst="ellipse">
              <a:avLst/>
            </a:prstGeom>
            <a:solidFill>
              <a:srgbClr val="bab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40080" y="2965320"/>
              <a:ext cx="2119320" cy="1460520"/>
            </a:xfrm>
            <a:prstGeom prst="ellipse">
              <a:avLst/>
            </a:prstGeom>
            <a:solidFill>
              <a:srgbClr val="b8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57720" y="2975040"/>
              <a:ext cx="2087280" cy="1441440"/>
            </a:xfrm>
            <a:prstGeom prst="ellipse">
              <a:avLst/>
            </a:prstGeom>
            <a:solidFill>
              <a:srgbClr val="b6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73560" y="2987640"/>
              <a:ext cx="2054160" cy="1417680"/>
            </a:xfrm>
            <a:prstGeom prst="ellipse">
              <a:avLst/>
            </a:prstGeom>
            <a:solidFill>
              <a:srgbClr val="b3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90840" y="2998800"/>
              <a:ext cx="2019240" cy="1395360"/>
            </a:xfrm>
            <a:prstGeom prst="ellipse">
              <a:avLst/>
            </a:prstGeom>
            <a:solidFill>
              <a:srgbClr val="b1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06680" y="3011400"/>
              <a:ext cx="1987560" cy="1370160"/>
            </a:xfrm>
            <a:prstGeom prst="ellipse">
              <a:avLst/>
            </a:prstGeom>
            <a:solidFill>
              <a:srgbClr val="af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22520" y="3021120"/>
              <a:ext cx="1957680" cy="1349280"/>
            </a:xfrm>
            <a:prstGeom prst="ellipse">
              <a:avLst/>
            </a:prstGeom>
            <a:solidFill>
              <a:srgbClr val="ad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38360" y="3033720"/>
              <a:ext cx="1924200" cy="1325520"/>
            </a:xfrm>
            <a:prstGeom prst="ellipse">
              <a:avLst/>
            </a:prstGeom>
            <a:solidFill>
              <a:srgbClr val="aaaa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56000" y="3044880"/>
              <a:ext cx="1889280" cy="1303200"/>
            </a:xfrm>
            <a:prstGeom prst="ellipse">
              <a:avLst/>
            </a:prstGeom>
            <a:solidFill>
              <a:srgbClr val="a8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1840" y="3057480"/>
              <a:ext cx="1857240" cy="1278000"/>
            </a:xfrm>
            <a:prstGeom prst="ellipse">
              <a:avLst/>
            </a:prstGeom>
            <a:solidFill>
              <a:srgbClr val="a5a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89480" y="3067200"/>
              <a:ext cx="1822320" cy="1257120"/>
            </a:xfrm>
            <a:prstGeom prst="ellipse">
              <a:avLst/>
            </a:prstGeom>
            <a:solidFill>
              <a:srgbClr val="a3a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06760" y="3078000"/>
              <a:ext cx="1789200" cy="1236960"/>
            </a:xfrm>
            <a:prstGeom prst="ellipse">
              <a:avLst/>
            </a:prstGeom>
            <a:solidFill>
              <a:srgbClr val="a1a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22600" y="3090960"/>
              <a:ext cx="1755720" cy="1211040"/>
            </a:xfrm>
            <a:prstGeom prst="ellipse">
              <a:avLst/>
            </a:prstGeom>
            <a:solidFill>
              <a:srgbClr val="9e9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40240" y="3100320"/>
              <a:ext cx="1722240" cy="1190520"/>
            </a:xfrm>
            <a:prstGeom prst="ellipse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54280" y="3112920"/>
              <a:ext cx="1692360" cy="1165320"/>
            </a:xfrm>
            <a:prstGeom prst="ellipse">
              <a:avLst/>
            </a:prstGeom>
            <a:solidFill>
              <a:srgbClr val="99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1920" y="3124080"/>
              <a:ext cx="1658880" cy="1144800"/>
            </a:xfrm>
            <a:prstGeom prst="ellipse">
              <a:avLst/>
            </a:prstGeom>
            <a:solidFill>
              <a:srgbClr val="979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87760" y="3137040"/>
              <a:ext cx="1625760" cy="1118880"/>
            </a:xfrm>
            <a:prstGeom prst="ellipse">
              <a:avLst/>
            </a:prstGeom>
            <a:solidFill>
              <a:srgbClr val="949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05040" y="3146400"/>
              <a:ext cx="1592280" cy="1098720"/>
            </a:xfrm>
            <a:prstGeom prst="ellipse">
              <a:avLst/>
            </a:prstGeom>
            <a:solidFill>
              <a:srgbClr val="929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21240" y="3159000"/>
              <a:ext cx="1558800" cy="1073160"/>
            </a:xfrm>
            <a:prstGeom prst="ellipse">
              <a:avLst/>
            </a:prstGeom>
            <a:solidFill>
              <a:srgbClr val="8f8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38520" y="3170160"/>
              <a:ext cx="1523880" cy="1052640"/>
            </a:xfrm>
            <a:prstGeom prst="ellipse">
              <a:avLst/>
            </a:prstGeom>
            <a:solidFill>
              <a:srgbClr val="8d8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56160" y="3181320"/>
              <a:ext cx="1490400" cy="1030320"/>
            </a:xfrm>
            <a:prstGeom prst="ellipse">
              <a:avLst/>
            </a:prstGeom>
            <a:solidFill>
              <a:srgbClr val="8a8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72000" y="3193920"/>
              <a:ext cx="1457280" cy="1005120"/>
            </a:xfrm>
            <a:prstGeom prst="ellipse">
              <a:avLst/>
            </a:prstGeom>
            <a:solidFill>
              <a:srgbClr val="888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89280" y="3203640"/>
              <a:ext cx="1424160" cy="985680"/>
            </a:xfrm>
            <a:prstGeom prst="ellipse">
              <a:avLst/>
            </a:prstGeom>
            <a:solidFill>
              <a:srgbClr val="858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03680" y="3216240"/>
              <a:ext cx="1393920" cy="960480"/>
            </a:xfrm>
            <a:prstGeom prst="ellipse">
              <a:avLst/>
            </a:prstGeom>
            <a:solidFill>
              <a:srgbClr val="838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0960" y="3227400"/>
              <a:ext cx="1360800" cy="938160"/>
            </a:xfrm>
            <a:prstGeom prst="ellipse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36800" y="3240000"/>
              <a:ext cx="1327320" cy="912960"/>
            </a:xfrm>
            <a:prstGeom prst="ellipse">
              <a:avLst/>
            </a:prstGeom>
            <a:solidFill>
              <a:srgbClr val="7e7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54440" y="3249720"/>
              <a:ext cx="1293840" cy="893520"/>
            </a:xfrm>
            <a:prstGeom prst="ellipse">
              <a:avLst/>
            </a:prstGeom>
            <a:solidFill>
              <a:srgbClr val="7c7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70280" y="3262320"/>
              <a:ext cx="1260360" cy="868320"/>
            </a:xfrm>
            <a:prstGeom prst="ellipse">
              <a:avLst/>
            </a:prstGeom>
            <a:solidFill>
              <a:srgbClr val="797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87920" y="3273480"/>
              <a:ext cx="1225440" cy="846000"/>
            </a:xfrm>
            <a:prstGeom prst="ellipse">
              <a:avLst/>
            </a:prstGeom>
            <a:solidFill>
              <a:srgbClr val="777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03760" y="3282840"/>
              <a:ext cx="1193760" cy="825480"/>
            </a:xfrm>
            <a:prstGeom prst="ellipse">
              <a:avLst/>
            </a:prstGeom>
            <a:solidFill>
              <a:srgbClr val="747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21040" y="3295800"/>
              <a:ext cx="1158840" cy="799920"/>
            </a:xfrm>
            <a:prstGeom prst="ellipse">
              <a:avLst/>
            </a:prstGeom>
            <a:solidFill>
              <a:srgbClr val="727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35440" y="3306600"/>
              <a:ext cx="1130400" cy="779760"/>
            </a:xfrm>
            <a:prstGeom prst="ellipse">
              <a:avLst/>
            </a:prstGeom>
            <a:solidFill>
              <a:srgbClr val="707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2720" y="3319560"/>
              <a:ext cx="1095480" cy="753840"/>
            </a:xfrm>
            <a:prstGeom prst="ellipse">
              <a:avLst/>
            </a:prstGeom>
            <a:solidFill>
              <a:srgbClr val="6d6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3328920"/>
              <a:ext cx="1063800" cy="733320"/>
            </a:xfrm>
            <a:prstGeom prst="ellipse">
              <a:avLst/>
            </a:prstGeom>
            <a:solidFill>
              <a:srgbClr val="6b6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86200" y="3341520"/>
              <a:ext cx="1028880" cy="708120"/>
            </a:xfrm>
            <a:prstGeom prst="ellipse">
              <a:avLst/>
            </a:prstGeom>
            <a:solidFill>
              <a:srgbClr val="696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03840" y="3352680"/>
              <a:ext cx="995040" cy="687600"/>
            </a:xfrm>
            <a:prstGeom prst="ellipse">
              <a:avLst/>
            </a:prstGeom>
            <a:solidFill>
              <a:srgbClr val="666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19680" y="3365640"/>
              <a:ext cx="961920" cy="661680"/>
            </a:xfrm>
            <a:prstGeom prst="ellipse">
              <a:avLst/>
            </a:prstGeom>
            <a:solidFill>
              <a:srgbClr val="646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36960" y="3375000"/>
              <a:ext cx="928800" cy="641520"/>
            </a:xfrm>
            <a:prstGeom prst="ellipse">
              <a:avLst/>
            </a:prstGeom>
            <a:solidFill>
              <a:srgbClr val="626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52800" y="3386160"/>
              <a:ext cx="895320" cy="620640"/>
            </a:xfrm>
            <a:prstGeom prst="ellipse">
              <a:avLst/>
            </a:prstGeom>
            <a:solidFill>
              <a:srgbClr val="606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70440" y="3398760"/>
              <a:ext cx="860400" cy="595440"/>
            </a:xfrm>
            <a:prstGeom prst="ellipse">
              <a:avLst/>
            </a:prstGeom>
            <a:solidFill>
              <a:srgbClr val="5e5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84480" y="3409920"/>
              <a:ext cx="831960" cy="573120"/>
            </a:xfrm>
            <a:prstGeom prst="ellipse">
              <a:avLst/>
            </a:prstGeom>
            <a:solidFill>
              <a:srgbClr val="5b5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02120" y="3421080"/>
              <a:ext cx="798480" cy="549360"/>
            </a:xfrm>
            <a:prstGeom prst="ellipse">
              <a:avLst/>
            </a:prstGeom>
            <a:solidFill>
              <a:srgbClr val="595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17960" y="3432240"/>
              <a:ext cx="765000" cy="528480"/>
            </a:xfrm>
            <a:prstGeom prst="ellipse">
              <a:avLst/>
            </a:prstGeom>
            <a:solidFill>
              <a:srgbClr val="575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35600" y="3444840"/>
              <a:ext cx="730080" cy="503280"/>
            </a:xfrm>
            <a:prstGeom prst="ellipse">
              <a:avLst/>
            </a:prstGeom>
            <a:solidFill>
              <a:srgbClr val="555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52880" y="3456000"/>
              <a:ext cx="696960" cy="480960"/>
            </a:xfrm>
            <a:prstGeom prst="ellipse">
              <a:avLst/>
            </a:prstGeom>
            <a:solidFill>
              <a:srgbClr val="535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68720" y="3467160"/>
              <a:ext cx="663480" cy="457200"/>
            </a:xfrm>
            <a:prstGeom prst="ellipse">
              <a:avLst/>
            </a:prstGeom>
            <a:solidFill>
              <a:srgbClr val="515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86360" y="3478320"/>
              <a:ext cx="630000" cy="436320"/>
            </a:xfrm>
            <a:prstGeom prst="ellipse">
              <a:avLst/>
            </a:prstGeom>
            <a:solidFill>
              <a:srgbClr val="4f4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02200" y="3489480"/>
              <a:ext cx="596880" cy="414360"/>
            </a:xfrm>
            <a:prstGeom prst="ellipse">
              <a:avLst/>
            </a:prstGeom>
            <a:solidFill>
              <a:srgbClr val="4d4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18040" y="3502080"/>
              <a:ext cx="566640" cy="388800"/>
            </a:xfrm>
            <a:prstGeom prst="ellipse">
              <a:avLst/>
            </a:prstGeom>
            <a:solidFill>
              <a:srgbClr val="4b4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3880" y="3511440"/>
              <a:ext cx="533520" cy="370080"/>
            </a:xfrm>
            <a:prstGeom prst="ellipse">
              <a:avLst/>
            </a:prstGeom>
            <a:solidFill>
              <a:srgbClr val="4a4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51160" y="3524400"/>
              <a:ext cx="500040" cy="344160"/>
            </a:xfrm>
            <a:prstGeom prst="ellipse">
              <a:avLst/>
            </a:prstGeom>
            <a:solidFill>
              <a:srgbClr val="484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67360" y="3535200"/>
              <a:ext cx="466560" cy="322560"/>
            </a:xfrm>
            <a:prstGeom prst="ellipse">
              <a:avLst/>
            </a:prstGeom>
            <a:solidFill>
              <a:srgbClr val="464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84640" y="3548160"/>
              <a:ext cx="431640" cy="296640"/>
            </a:xfrm>
            <a:prstGeom prst="ellipse">
              <a:avLst/>
            </a:prstGeom>
            <a:solidFill>
              <a:srgbClr val="444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00480" y="3557520"/>
              <a:ext cx="399960" cy="276120"/>
            </a:xfrm>
            <a:prstGeom prst="ellipse">
              <a:avLst/>
            </a:prstGeom>
            <a:solidFill>
              <a:srgbClr val="434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18120" y="3570120"/>
              <a:ext cx="365040" cy="252720"/>
            </a:xfrm>
            <a:prstGeom prst="ellipse">
              <a:avLst/>
            </a:prstGeom>
            <a:solidFill>
              <a:srgbClr val="414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35400" y="3581280"/>
              <a:ext cx="331920" cy="230400"/>
            </a:xfrm>
            <a:prstGeom prst="ellipse">
              <a:avLst/>
            </a:prstGeom>
            <a:solidFill>
              <a:srgbClr val="404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51240" y="3591000"/>
              <a:ext cx="298440" cy="209520"/>
            </a:xfrm>
            <a:prstGeom prst="ellipse">
              <a:avLst/>
            </a:prstGeom>
            <a:solidFill>
              <a:srgbClr val="3e3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67080" y="3603600"/>
              <a:ext cx="268560" cy="184320"/>
            </a:xfrm>
            <a:prstGeom prst="ellipse">
              <a:avLst/>
            </a:prstGeom>
            <a:solidFill>
              <a:srgbClr val="3d3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82920" y="3614760"/>
              <a:ext cx="235080" cy="163440"/>
            </a:xfrm>
            <a:prstGeom prst="ellipse">
              <a:avLst/>
            </a:prstGeom>
            <a:solidFill>
              <a:srgbClr val="3b3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00560" y="3627360"/>
              <a:ext cx="201600" cy="138240"/>
            </a:xfrm>
            <a:prstGeom prst="ellipse">
              <a:avLst/>
            </a:prstGeom>
            <a:solidFill>
              <a:srgbClr val="3a3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16400" y="3637080"/>
              <a:ext cx="168120" cy="117360"/>
            </a:xfrm>
            <a:prstGeom prst="ellipse">
              <a:avLst/>
            </a:prstGeom>
            <a:solidFill>
              <a:srgbClr val="383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34040" y="3649680"/>
              <a:ext cx="134640" cy="92160"/>
            </a:xfrm>
            <a:prstGeom prst="ellipse">
              <a:avLst/>
            </a:prstGeom>
            <a:solidFill>
              <a:srgbClr val="373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49880" y="3660840"/>
              <a:ext cx="101520" cy="71280"/>
            </a:xfrm>
            <a:prstGeom prst="ellipse">
              <a:avLst/>
            </a:prstGeom>
            <a:solidFill>
              <a:srgbClr val="363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67160" y="3673440"/>
              <a:ext cx="66600" cy="46080"/>
            </a:xfrm>
            <a:prstGeom prst="ellipse">
              <a:avLst/>
            </a:prstGeom>
            <a:solidFill>
              <a:srgbClr val="353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84800" y="3683160"/>
              <a:ext cx="33120" cy="25200"/>
            </a:xfrm>
            <a:prstGeom prst="ellipse">
              <a:avLst/>
            </a:prstGeom>
            <a:solidFill>
              <a:srgbClr val="343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27000" y="32418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1752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95360" y="32418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624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85520" y="32418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8596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64880" y="32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866480" y="32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68080" y="32418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52800" y="372420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0796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18480" y="372420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313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336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44520" y="37242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2416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350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459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5475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9120" y="37242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49200" y="37242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288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397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413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429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2"/>
            <a:stretch/>
          </p:blipFill>
          <p:spPr>
            <a:xfrm>
              <a:off x="6013440" y="4651200"/>
              <a:ext cx="6048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3"/>
            <a:stretch/>
          </p:blipFill>
          <p:spPr>
            <a:xfrm>
              <a:off x="2486160" y="1633680"/>
              <a:ext cx="80640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4"/>
            <a:stretch/>
          </p:blipFill>
          <p:spPr>
            <a:xfrm>
              <a:off x="6518160" y="1533600"/>
              <a:ext cx="53496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5"/>
            <a:stretch/>
          </p:blipFill>
          <p:spPr>
            <a:xfrm>
              <a:off x="2798640" y="4853160"/>
              <a:ext cx="908280" cy="8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511360" y="3646440"/>
              <a:ext cx="452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84280" y="3578400"/>
              <a:ext cx="130320" cy="1332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82" y="0"/>
                  </a:moveTo>
                  <a:lnTo>
                    <a:pt x="0" y="43"/>
                  </a:lnTo>
                  <a:lnTo>
                    <a:pt x="82" y="8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60640" y="3581280"/>
              <a:ext cx="13032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3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3664080" y="4656240"/>
              <a:ext cx="64800" cy="93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70200" y="455148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0" y="91"/>
                  </a:moveTo>
                  <a:lnTo>
                    <a:pt x="79" y="0"/>
                  </a:lnTo>
                  <a:lnTo>
                    <a:pt x="0" y="46"/>
                  </a:lnTo>
                  <a:lnTo>
                    <a:pt x="7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94240" y="4708440"/>
              <a:ext cx="128520" cy="14472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12" y="0"/>
                  </a:moveTo>
                  <a:lnTo>
                    <a:pt x="0" y="91"/>
                  </a:lnTo>
                  <a:lnTo>
                    <a:pt x="81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13320" y="4518000"/>
              <a:ext cx="397080" cy="264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08560" y="445140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1" y="9"/>
                  </a:moveTo>
                  <a:lnTo>
                    <a:pt x="0" y="0"/>
                  </a:lnTo>
                  <a:lnTo>
                    <a:pt x="46" y="79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67560" y="4726080"/>
              <a:ext cx="145800" cy="12708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68"/>
                  </a:moveTo>
                  <a:lnTo>
                    <a:pt x="92" y="80"/>
                  </a:lnTo>
                  <a:lnTo>
                    <a:pt x="4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603760" y="2517840"/>
              <a:ext cx="517680" cy="444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75360" y="2438280"/>
              <a:ext cx="139680" cy="13680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54" y="86"/>
                  </a:moveTo>
                  <a:lnTo>
                    <a:pt x="88" y="0"/>
                  </a:lnTo>
                  <a:lnTo>
                    <a:pt x="0" y="23"/>
                  </a:lnTo>
                  <a:lnTo>
                    <a:pt x="5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10160" y="290664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34" y="0"/>
                  </a:moveTo>
                  <a:lnTo>
                    <a:pt x="0" y="85"/>
                  </a:lnTo>
                  <a:lnTo>
                    <a:pt x="88" y="6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70400" y="2435400"/>
              <a:ext cx="247680" cy="309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92640" y="2338560"/>
              <a:ext cx="13464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37"/>
                  </a:moveTo>
                  <a:lnTo>
                    <a:pt x="0" y="0"/>
                  </a:lnTo>
                  <a:lnTo>
                    <a:pt x="20" y="90"/>
                  </a:lnTo>
                  <a:lnTo>
                    <a:pt x="8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60840" y="2698920"/>
              <a:ext cx="13500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3"/>
                  </a:moveTo>
                  <a:lnTo>
                    <a:pt x="85" y="90"/>
                  </a:lnTo>
                  <a:lnTo>
                    <a:pt x="65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70880" y="1512720"/>
              <a:ext cx="144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SF 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D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97800" y="2925720"/>
              <a:ext cx="2003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bile 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nk weak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upl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40560" y="1292400"/>
              <a:ext cx="16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inuous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86240" y="1158840"/>
              <a:ext cx="1425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mittent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91240" y="5213520"/>
              <a:ext cx="130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perational simulat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60440" y="3954600"/>
              <a:ext cx="130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perational simulat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95560" y="5651640"/>
              <a:ext cx="239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expected (such as emergency relief) u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0B8-2E7C-4AA8-8764-96672959069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6000" y="2962440"/>
            <a:ext cx="11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351000" y="1892160"/>
            <a:ext cx="2566800" cy="1004760"/>
            <a:chOff x="351000" y="1892160"/>
            <a:chExt cx="2566800" cy="1004760"/>
          </a:xfrm>
        </p:grpSpPr>
        <p:sp>
          <p:nvSpPr>
            <p:cNvPr id="540" name=""/>
            <p:cNvSpPr/>
            <p:nvPr/>
          </p:nvSpPr>
          <p:spPr>
            <a:xfrm>
              <a:off x="351000" y="229536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28520" y="1892160"/>
              <a:ext cx="108720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297480" y="1892160"/>
            <a:ext cx="2567160" cy="898560"/>
            <a:chOff x="6297480" y="1892160"/>
            <a:chExt cx="2567160" cy="898560"/>
          </a:xfrm>
        </p:grpSpPr>
        <p:sp>
          <p:nvSpPr>
            <p:cNvPr id="543" name=""/>
            <p:cNvSpPr/>
            <p:nvPr/>
          </p:nvSpPr>
          <p:spPr>
            <a:xfrm>
              <a:off x="6297480" y="21891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70680" y="18921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363600" y="113040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 docu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dat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35880" y="28843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36960" y="191628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36960" y="21351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36960" y="23763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36960" y="261792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36960" y="2960640"/>
            <a:ext cx="3103560" cy="0"/>
          </a:xfrm>
          <a:prstGeom prst="line">
            <a:avLst/>
          </a:prstGeom>
          <a:ln w="2030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215040" y="4441680"/>
            <a:ext cx="2567160" cy="898560"/>
            <a:chOff x="6215040" y="4441680"/>
            <a:chExt cx="2567160" cy="898560"/>
          </a:xfrm>
        </p:grpSpPr>
        <p:sp>
          <p:nvSpPr>
            <p:cNvPr id="553" name=""/>
            <p:cNvSpPr/>
            <p:nvPr/>
          </p:nvSpPr>
          <p:spPr>
            <a:xfrm>
              <a:off x="6215040" y="473868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88240" y="4441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97720" y="5433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336680" y="5580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9720" y="4924440"/>
            <a:ext cx="3934080" cy="601560"/>
          </a:xfrm>
          <a:prstGeom prst="parallelogram">
            <a:avLst>
              <a:gd name="adj" fmla="val 1929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93600" y="4519440"/>
            <a:ext cx="104004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agentred" descr=""/>
          <p:cNvPicPr/>
          <p:nvPr/>
        </p:nvPicPr>
        <p:blipFill>
          <a:blip r:embed="rId1"/>
          <a:stretch/>
        </p:blipFill>
        <p:spPr>
          <a:xfrm>
            <a:off x="2674800" y="4622760"/>
            <a:ext cx="663840" cy="685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127240" y="4757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27240" y="4865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27240" y="496260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27240" y="5059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27240" y="5167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73280" y="47750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73280" y="50846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FC3-145E-442F-A7AC-72C6BEC080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6520" y="76320"/>
            <a:ext cx="804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95960" y="340668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gateway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828720" cy="101916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6642000" y="13622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67520" y="53006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78520" y="3268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99320" y="51814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02240" y="2017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63800" y="22478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7480" y="24876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70480" y="40514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49440" y="32068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1301400" y="2522160"/>
            <a:ext cx="1413000" cy="950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2730600" y="3446640"/>
            <a:ext cx="2006640" cy="88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4710240" y="4293720"/>
            <a:ext cx="1457280" cy="11746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795560" y="2282760"/>
            <a:ext cx="1847880" cy="451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806720" y="3583080"/>
            <a:ext cx="229860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4733640" y="2771280"/>
            <a:ext cx="11160" cy="1567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agentred" descr=""/>
          <p:cNvPicPr/>
          <p:nvPr/>
        </p:nvPicPr>
        <p:blipFill>
          <a:blip r:embed="rId2"/>
          <a:stretch/>
        </p:blipFill>
        <p:spPr>
          <a:xfrm>
            <a:off x="4181400" y="3751200"/>
            <a:ext cx="636840" cy="658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flipH="1">
            <a:off x="4928760" y="3537000"/>
            <a:ext cx="18464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5092560" y="4336920"/>
            <a:ext cx="151128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1456920" y="2046240"/>
            <a:ext cx="2621160" cy="164952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98880" y="2475000"/>
            <a:ext cx="1468440" cy="1187280"/>
          </a:xfrm>
          <a:custGeom>
            <a:avLst/>
            <a:gdLst/>
            <a:ahLst/>
            <a:rect l="l" t="t" r="r" b="b"/>
            <a:pathLst>
              <a:path w="925" h="748">
                <a:moveTo>
                  <a:pt x="925" y="0"/>
                </a:moveTo>
                <a:cubicBezTo>
                  <a:pt x="659" y="57"/>
                  <a:pt x="394" y="115"/>
                  <a:pt x="240" y="240"/>
                </a:cubicBezTo>
                <a:cubicBezTo>
                  <a:pt x="86" y="365"/>
                  <a:pt x="43" y="556"/>
                  <a:pt x="0" y="7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62320" y="462744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ynamically selected proxy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E0CE-FD86-4BBE-A0E8-BA1EF900015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Bandwidth usa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bandwidth-documents" descr=""/>
          <p:cNvPicPr/>
          <p:nvPr/>
        </p:nvPicPr>
        <p:blipFill>
          <a:blip r:embed="rId1"/>
          <a:stretch/>
        </p:blipFill>
        <p:spPr>
          <a:xfrm>
            <a:off x="1157400" y="1135080"/>
            <a:ext cx="68292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D4F-C465-49FE-AEA1-7C3A0FD13EA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agentred" descr=""/>
          <p:cNvPicPr/>
          <p:nvPr/>
        </p:nvPicPr>
        <p:blipFill>
          <a:blip r:embed="rId1"/>
          <a:stretch/>
        </p:blipFill>
        <p:spPr>
          <a:xfrm>
            <a:off x="6269040" y="392760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6175440" y="1825560"/>
            <a:ext cx="493560" cy="5032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1765440" y="2336400"/>
            <a:ext cx="56016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851120" y="3463560"/>
            <a:ext cx="49356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1847520" y="4446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874880" y="4206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2332080" y="3462480"/>
            <a:ext cx="75888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3050640" y="4227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39800" y="4458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2: Reduce latenc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gateway" descr=""/>
          <p:cNvPicPr/>
          <p:nvPr/>
        </p:nvPicPr>
        <p:blipFill>
          <a:blip r:embed="rId2"/>
          <a:stretch/>
        </p:blipFill>
        <p:spPr>
          <a:xfrm>
            <a:off x="250920" y="4983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584280" y="50022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16120" y="4300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agentred" descr=""/>
          <p:cNvPicPr/>
          <p:nvPr/>
        </p:nvPicPr>
        <p:blipFill>
          <a:blip r:embed="rId3"/>
          <a:stretch/>
        </p:blipFill>
        <p:spPr>
          <a:xfrm>
            <a:off x="1300320" y="1825560"/>
            <a:ext cx="495000" cy="513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25760" y="2198520"/>
            <a:ext cx="29196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08440" y="407052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197080" y="3322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gateway" descr=""/>
          <p:cNvPicPr/>
          <p:nvPr/>
        </p:nvPicPr>
        <p:blipFill>
          <a:blip r:embed="rId4"/>
          <a:stretch/>
        </p:blipFill>
        <p:spPr>
          <a:xfrm>
            <a:off x="3565440" y="4573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3521160" y="44704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gateway" descr=""/>
          <p:cNvPicPr/>
          <p:nvPr/>
        </p:nvPicPr>
        <p:blipFill>
          <a:blip r:embed="rId5"/>
          <a:stretch/>
        </p:blipFill>
        <p:spPr>
          <a:xfrm>
            <a:off x="1636560" y="5513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959120" y="54658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3280" y="1092240"/>
            <a:ext cx="26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matra ch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a “reflecto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3640" y="2443320"/>
            <a:ext cx="1492200" cy="2531880"/>
          </a:xfrm>
          <a:custGeom>
            <a:avLst/>
            <a:gdLst/>
            <a:ahLst/>
            <a:rect l="l" t="t" r="r" b="b"/>
            <a:pathLst>
              <a:path w="940" h="1595">
                <a:moveTo>
                  <a:pt x="0" y="1595"/>
                </a:moveTo>
                <a:cubicBezTo>
                  <a:pt x="251" y="1482"/>
                  <a:pt x="502" y="1369"/>
                  <a:pt x="657" y="1207"/>
                </a:cubicBezTo>
                <a:cubicBezTo>
                  <a:pt x="812" y="1045"/>
                  <a:pt x="940" y="822"/>
                  <a:pt x="932" y="621"/>
                </a:cubicBezTo>
                <a:cubicBezTo>
                  <a:pt x="924" y="420"/>
                  <a:pt x="765" y="210"/>
                  <a:pt x="6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71640" y="2128680"/>
            <a:ext cx="2005200" cy="2432160"/>
          </a:xfrm>
          <a:custGeom>
            <a:avLst/>
            <a:gdLst/>
            <a:ahLst/>
            <a:rect l="l" t="t" r="r" b="b"/>
            <a:pathLst>
              <a:path w="1263" h="1532">
                <a:moveTo>
                  <a:pt x="0" y="0"/>
                </a:moveTo>
                <a:cubicBezTo>
                  <a:pt x="81" y="56"/>
                  <a:pt x="163" y="112"/>
                  <a:pt x="219" y="163"/>
                </a:cubicBezTo>
                <a:cubicBezTo>
                  <a:pt x="275" y="214"/>
                  <a:pt x="299" y="221"/>
                  <a:pt x="339" y="304"/>
                </a:cubicBezTo>
                <a:cubicBezTo>
                  <a:pt x="379" y="387"/>
                  <a:pt x="435" y="584"/>
                  <a:pt x="459" y="664"/>
                </a:cubicBezTo>
                <a:cubicBezTo>
                  <a:pt x="483" y="744"/>
                  <a:pt x="455" y="718"/>
                  <a:pt x="480" y="784"/>
                </a:cubicBezTo>
                <a:cubicBezTo>
                  <a:pt x="505" y="850"/>
                  <a:pt x="546" y="985"/>
                  <a:pt x="607" y="1059"/>
                </a:cubicBezTo>
                <a:cubicBezTo>
                  <a:pt x="668" y="1133"/>
                  <a:pt x="776" y="1184"/>
                  <a:pt x="847" y="1228"/>
                </a:cubicBezTo>
                <a:cubicBezTo>
                  <a:pt x="918" y="1272"/>
                  <a:pt x="980" y="1298"/>
                  <a:pt x="1030" y="1320"/>
                </a:cubicBezTo>
                <a:cubicBezTo>
                  <a:pt x="1080" y="1342"/>
                  <a:pt x="1117" y="1346"/>
                  <a:pt x="1150" y="1363"/>
                </a:cubicBezTo>
                <a:cubicBezTo>
                  <a:pt x="1183" y="1380"/>
                  <a:pt x="1209" y="1391"/>
                  <a:pt x="1228" y="1419"/>
                </a:cubicBezTo>
                <a:cubicBezTo>
                  <a:pt x="1247" y="1447"/>
                  <a:pt x="1255" y="1489"/>
                  <a:pt x="1263" y="15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6633720" y="2309400"/>
            <a:ext cx="56052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719760" y="3436560"/>
            <a:ext cx="49392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6716520" y="4419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743880" y="4179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7200720" y="3435480"/>
            <a:ext cx="7585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919640" y="4200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608800" y="4431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gateway" descr=""/>
          <p:cNvPicPr/>
          <p:nvPr/>
        </p:nvPicPr>
        <p:blipFill>
          <a:blip r:embed="rId6"/>
          <a:stretch/>
        </p:blipFill>
        <p:spPr>
          <a:xfrm>
            <a:off x="5119560" y="4956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5452920" y="497520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85120" y="4273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94400" y="2171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777080" y="404352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6080" y="3295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gateway" descr=""/>
          <p:cNvPicPr/>
          <p:nvPr/>
        </p:nvPicPr>
        <p:blipFill>
          <a:blip r:embed="rId7"/>
          <a:stretch/>
        </p:blipFill>
        <p:spPr>
          <a:xfrm>
            <a:off x="8434440" y="4546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8389800" y="44434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gateway" descr=""/>
          <p:cNvPicPr/>
          <p:nvPr/>
        </p:nvPicPr>
        <p:blipFill>
          <a:blip r:embed="rId8"/>
          <a:stretch/>
        </p:blipFill>
        <p:spPr>
          <a:xfrm>
            <a:off x="6505560" y="5486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827760" y="5438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408720" y="2376360"/>
            <a:ext cx="579600" cy="1500480"/>
          </a:xfrm>
          <a:custGeom>
            <a:avLst/>
            <a:gdLst/>
            <a:ahLst/>
            <a:rect l="l" t="t" r="r" b="b"/>
            <a:pathLst>
              <a:path w="365" h="945">
                <a:moveTo>
                  <a:pt x="0" y="0"/>
                </a:moveTo>
                <a:cubicBezTo>
                  <a:pt x="142" y="214"/>
                  <a:pt x="285" y="428"/>
                  <a:pt x="325" y="585"/>
                </a:cubicBezTo>
                <a:cubicBezTo>
                  <a:pt x="365" y="742"/>
                  <a:pt x="302" y="843"/>
                  <a:pt x="240" y="9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8520" y="2736720"/>
            <a:ext cx="16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bserve high average latency to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53160" y="28004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ove to bette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93960" y="2139840"/>
            <a:ext cx="738000" cy="3765600"/>
          </a:xfrm>
          <a:custGeom>
            <a:avLst/>
            <a:gdLst/>
            <a:ahLst/>
            <a:rect l="l" t="t" r="r" b="b"/>
            <a:pathLst>
              <a:path w="465" h="2372">
                <a:moveTo>
                  <a:pt x="0" y="0"/>
                </a:moveTo>
                <a:cubicBezTo>
                  <a:pt x="110" y="52"/>
                  <a:pt x="221" y="104"/>
                  <a:pt x="296" y="233"/>
                </a:cubicBezTo>
                <a:cubicBezTo>
                  <a:pt x="371" y="362"/>
                  <a:pt x="465" y="565"/>
                  <a:pt x="452" y="777"/>
                </a:cubicBezTo>
                <a:cubicBezTo>
                  <a:pt x="439" y="989"/>
                  <a:pt x="252" y="1296"/>
                  <a:pt x="219" y="1504"/>
                </a:cubicBezTo>
                <a:cubicBezTo>
                  <a:pt x="186" y="1712"/>
                  <a:pt x="216" y="1904"/>
                  <a:pt x="254" y="2026"/>
                </a:cubicBezTo>
                <a:cubicBezTo>
                  <a:pt x="292" y="2148"/>
                  <a:pt x="463" y="2180"/>
                  <a:pt x="445" y="2238"/>
                </a:cubicBezTo>
                <a:cubicBezTo>
                  <a:pt x="427" y="2296"/>
                  <a:pt x="287" y="2334"/>
                  <a:pt x="148" y="23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5524560" y="4471920"/>
            <a:ext cx="717480" cy="42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88280" y="4516560"/>
            <a:ext cx="257040" cy="90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791400" y="4087800"/>
            <a:ext cx="1623960" cy="719280"/>
          </a:xfrm>
          <a:custGeom>
            <a:avLst/>
            <a:gdLst/>
            <a:ahLst/>
            <a:rect l="l" t="t" r="r" b="b"/>
            <a:pathLst>
              <a:path w="1023" h="453">
                <a:moveTo>
                  <a:pt x="0" y="23"/>
                </a:moveTo>
                <a:cubicBezTo>
                  <a:pt x="151" y="11"/>
                  <a:pt x="302" y="0"/>
                  <a:pt x="472" y="72"/>
                </a:cubicBezTo>
                <a:cubicBezTo>
                  <a:pt x="642" y="144"/>
                  <a:pt x="832" y="298"/>
                  <a:pt x="1023" y="45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903-B159-4063-B98B-AB5BC5BD15A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51000" y="1762200"/>
            <a:ext cx="6645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Kotz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a Rus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da Wilson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4680" y="12142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labo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27880" y="363384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8600" y="4329000"/>
            <a:ext cx="2238480" cy="1733400"/>
            <a:chOff x="228600" y="4329000"/>
            <a:chExt cx="2238480" cy="1733400"/>
          </a:xfrm>
        </p:grpSpPr>
        <p:pic>
          <p:nvPicPr>
            <p:cNvPr id="49" name="darpa" descr=""/>
            <p:cNvPicPr/>
            <p:nvPr/>
          </p:nvPicPr>
          <p:blipFill>
            <a:blip r:embed="rId1"/>
            <a:stretch/>
          </p:blipFill>
          <p:spPr>
            <a:xfrm>
              <a:off x="433440" y="4329000"/>
              <a:ext cx="18288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28600" y="5419800"/>
              <a:ext cx="223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RPA contr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30602-98-2-010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611680" y="4172040"/>
            <a:ext cx="3113280" cy="2047680"/>
            <a:chOff x="5611680" y="4172040"/>
            <a:chExt cx="3113280" cy="2047680"/>
          </a:xfrm>
        </p:grpSpPr>
        <p:pic>
          <p:nvPicPr>
            <p:cNvPr id="52" name="muri-dod" descr=""/>
            <p:cNvPicPr/>
            <p:nvPr/>
          </p:nvPicPr>
          <p:blipFill>
            <a:blip r:embed="rId2"/>
            <a:stretch/>
          </p:blipFill>
          <p:spPr>
            <a:xfrm>
              <a:off x="6483240" y="4172040"/>
              <a:ext cx="137160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611680" y="5577120"/>
              <a:ext cx="311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D MURI (AFOSR contract F49620-97-1-0382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051000" y="4498920"/>
            <a:ext cx="2155680" cy="1395000"/>
            <a:chOff x="3051000" y="4498920"/>
            <a:chExt cx="2155680" cy="1395000"/>
          </a:xfrm>
        </p:grpSpPr>
        <p:pic>
          <p:nvPicPr>
            <p:cNvPr id="55" name="nsf" descr=""/>
            <p:cNvPicPr/>
            <p:nvPr/>
          </p:nvPicPr>
          <p:blipFill>
            <a:blip r:embed="rId3"/>
            <a:stretch/>
          </p:blipFill>
          <p:spPr>
            <a:xfrm>
              <a:off x="3051000" y="4498920"/>
              <a:ext cx="21556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063600" y="5251320"/>
              <a:ext cx="212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SF KDI Grant 9873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190D-7547-47E0-A051-B65E55096E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3: Reduce Completion Ti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86920" y="15494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7480" y="4005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51400" y="36352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51400" y="18064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3813120" y="4778280"/>
            <a:ext cx="1103400" cy="121932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612720" y="27208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289240" y="348300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17840" y="25686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41880" y="22035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Send code with uniqu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404040" y="2187720"/>
            <a:ext cx="1724040" cy="6667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4"/>
          <a:stretch/>
        </p:blipFill>
        <p:spPr>
          <a:xfrm>
            <a:off x="6327720" y="4245120"/>
            <a:ext cx="1905120" cy="47772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869080" y="508464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erform multi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ies on large, remo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517480" y="47023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06920" y="43369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 Return reques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5"/>
          <a:stretch/>
        </p:blipFill>
        <p:spPr>
          <a:xfrm>
            <a:off x="3584520" y="150192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7165800" y="30258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94600" y="30592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bandwid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02A-F233-43E8-B551-1062371C743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Total completion ti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documents-roamabout" descr=""/>
          <p:cNvPicPr/>
          <p:nvPr/>
        </p:nvPicPr>
        <p:blipFill>
          <a:blip r:embed="rId1"/>
          <a:stretch/>
        </p:blipFill>
        <p:spPr>
          <a:xfrm>
            <a:off x="1066680" y="1112760"/>
            <a:ext cx="701064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29D-233A-4DA5-B500-8AD343507A6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2444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8160" y="878040"/>
            <a:ext cx="78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nnected communication an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542880" y="205740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 flipV="1">
            <a:off x="2295360" y="2209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27432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3514680" y="2895480"/>
            <a:ext cx="1905120" cy="8668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3133800" y="167652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7248600" y="190512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5"/>
          <a:stretch/>
        </p:blipFill>
        <p:spPr>
          <a:xfrm>
            <a:off x="2371680" y="198108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2752560" y="3124080"/>
            <a:ext cx="427320" cy="255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314280" y="152388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7"/>
          <a:stretch/>
        </p:blipFill>
        <p:spPr>
          <a:xfrm>
            <a:off x="542880" y="441972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V="1">
            <a:off x="2295360" y="44953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8"/>
          <a:stretch/>
        </p:blipFill>
        <p:spPr>
          <a:xfrm>
            <a:off x="4734000" y="5257800"/>
            <a:ext cx="1904760" cy="86688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9"/>
          <a:stretch/>
        </p:blipFill>
        <p:spPr>
          <a:xfrm>
            <a:off x="3971880" y="403848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10"/>
          <a:stretch/>
        </p:blipFill>
        <p:spPr>
          <a:xfrm>
            <a:off x="7248600" y="4267080"/>
            <a:ext cx="1295280" cy="119088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11"/>
          <a:stretch/>
        </p:blipFill>
        <p:spPr>
          <a:xfrm>
            <a:off x="3438360" y="419112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12"/>
          <a:stretch/>
        </p:blipFill>
        <p:spPr>
          <a:xfrm>
            <a:off x="6791400" y="54864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314280" y="388620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334200" y="5257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5419800" y="2819520"/>
            <a:ext cx="17524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106680" y="2670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66760" y="5105520"/>
            <a:ext cx="281952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11200" y="50324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92280" y="1908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52760" y="2209680"/>
            <a:ext cx="289584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49480" y="41180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38560" y="4419720"/>
            <a:ext cx="236232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5480" y="3317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9360" y="571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4FE-0C9C-43AB-94FC-D482EA2E07E2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31840" y="260352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36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connected operations - som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hematical justific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01400" y="139392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gents are persistent objects within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5552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51160" y="24512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4644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4172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237360" y="24512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53264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31840" y="412740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05552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51160" y="3975120"/>
            <a:ext cx="30456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4644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4172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237360" y="3975120"/>
            <a:ext cx="30456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3264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0960" y="2146320"/>
            <a:ext cx="74674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50960" y="3822840"/>
            <a:ext cx="746748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31840" y="531972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5552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51160" y="51674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64644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4172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237360" y="51674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53264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885760" y="5243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57320" y="26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97240" y="26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534800" y="26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43200" y="310212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time    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51600" y="389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38760" y="50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5732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39724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534800" y="420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57560" y="4086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067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30236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5213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92496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7431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743120" y="36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30760" y="36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83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213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929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00680" y="5803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time    1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4027320" y="275580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3494160" y="428004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4408560" y="54720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808360" y="43560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865760" y="55753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A0F-4908-4F33-873D-FFD7034DB2C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5: Load balanc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22640" y="1924200"/>
            <a:ext cx="811440" cy="68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28920" y="1300320"/>
            <a:ext cx="811080" cy="6872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80240" y="1436760"/>
            <a:ext cx="811080" cy="68724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28840" y="1677960"/>
            <a:ext cx="1693800" cy="439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4834080" y="1817280"/>
            <a:ext cx="193968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76280" y="3529080"/>
            <a:ext cx="8362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86280" y="282420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416400" y="251784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90960" y="2371680"/>
            <a:ext cx="478080" cy="42408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61240" y="225900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603440" y="204624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36760" y="20764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91160" y="282240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83640" y="27655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30480" y="4367160"/>
            <a:ext cx="811440" cy="68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36760" y="3743280"/>
            <a:ext cx="811080" cy="6876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88080" y="3879720"/>
            <a:ext cx="811440" cy="68760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36680" y="4121280"/>
            <a:ext cx="1693800" cy="4395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741920" y="4260600"/>
            <a:ext cx="194004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95320" y="43498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324240" y="496080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033960" y="449748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69080" y="470232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511280" y="448956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992400" y="506556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16280" y="501984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63840" y="550872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 migrate in a heterogeneous network of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B74-F3BE-46C5-B834-3D2CAE7DB2B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269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6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349800" y="12240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ynamic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304920" y="1143000"/>
            <a:ext cx="8534160" cy="5018040"/>
            <a:chOff x="304920" y="1143000"/>
            <a:chExt cx="8534160" cy="5018040"/>
          </a:xfrm>
        </p:grpSpPr>
        <p:pic>
          <p:nvPicPr>
            <p:cNvPr id="774" name="" descr=""/>
            <p:cNvPicPr/>
            <p:nvPr/>
          </p:nvPicPr>
          <p:blipFill>
            <a:blip r:embed="rId1"/>
            <a:stretch/>
          </p:blipFill>
          <p:spPr>
            <a:xfrm>
              <a:off x="6477120" y="2438280"/>
              <a:ext cx="1371600" cy="12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6788160" y="3735360"/>
              <a:ext cx="189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ique nee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ather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tical updates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6" name="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14479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3"/>
            <a:stretch/>
          </p:blipFill>
          <p:spPr>
            <a:xfrm>
              <a:off x="3124080" y="4800600"/>
              <a:ext cx="1219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4"/>
            <a:stretch/>
          </p:blipFill>
          <p:spPr>
            <a:xfrm>
              <a:off x="380880" y="1828800"/>
              <a:ext cx="18288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5"/>
            <a:stretch/>
          </p:blipFill>
          <p:spPr>
            <a:xfrm>
              <a:off x="304920" y="3886200"/>
              <a:ext cx="1725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6477120" y="2438280"/>
              <a:ext cx="236196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905120" y="2971800"/>
              <a:ext cx="114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33920" y="2514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81080" y="3962160"/>
              <a:ext cx="11430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733920" y="41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" descr=""/>
            <p:cNvPicPr/>
            <p:nvPr/>
          </p:nvPicPr>
          <p:blipFill>
            <a:blip r:embed="rId6"/>
            <a:stretch/>
          </p:blipFill>
          <p:spPr>
            <a:xfrm>
              <a:off x="3124080" y="2971800"/>
              <a:ext cx="190512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367560" y="30099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 p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06000" y="579276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ctical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20080" y="1144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p, terrain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44480" y="533556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52880" y="365760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52880" y="403848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4952880" y="274320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D03-1133-483F-8A93-4077B2C3BDE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techniques work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36560" y="1165320"/>
            <a:ext cx="74055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 ( eg. adaptive me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document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 we will take a quick look at the o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D06-F39E-487C-BAF8-A1D57BFF6CB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PC and queued RP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299880" y="1092240"/>
            <a:ext cx="8536320" cy="1545840"/>
            <a:chOff x="299880" y="1092240"/>
            <a:chExt cx="8536320" cy="1545840"/>
          </a:xfrm>
        </p:grpSpPr>
        <p:sp>
          <p:nvSpPr>
            <p:cNvPr id="797" name=""/>
            <p:cNvSpPr/>
            <p:nvPr/>
          </p:nvSpPr>
          <p:spPr>
            <a:xfrm>
              <a:off x="299880" y="1636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1389240" y="1092240"/>
              <a:ext cx="7446960" cy="1545840"/>
              <a:chOff x="1389240" y="1092240"/>
              <a:chExt cx="7446960" cy="1545840"/>
            </a:xfrm>
          </p:grpSpPr>
          <p:sp>
            <p:nvSpPr>
              <p:cNvPr id="799" name=""/>
              <p:cNvSpPr/>
              <p:nvPr/>
            </p:nvSpPr>
            <p:spPr>
              <a:xfrm>
                <a:off x="3419640" y="1092240"/>
                <a:ext cx="203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all to server 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339160" y="1893960"/>
                <a:ext cx="3497040" cy="601560"/>
              </a:xfrm>
              <a:prstGeom prst="parallelogram">
                <a:avLst>
                  <a:gd name="adj" fmla="val 14118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013880" y="1490760"/>
                <a:ext cx="108756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389240" y="1893960"/>
                <a:ext cx="2567160" cy="601560"/>
              </a:xfrm>
              <a:prstGeom prst="parallelogram">
                <a:avLst>
                  <a:gd name="adj" fmla="val 1720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251440" y="154620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70880" y="15476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138840" y="1784160"/>
                <a:ext cx="2690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3173760" y="2004840"/>
                <a:ext cx="26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712200" y="19303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37440" y="1995480"/>
                <a:ext cx="159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9" name=""/>
          <p:cNvGrpSpPr/>
          <p:nvPr/>
        </p:nvGrpSpPr>
        <p:grpSpPr>
          <a:xfrm>
            <a:off x="212760" y="2846520"/>
            <a:ext cx="8704080" cy="1733400"/>
            <a:chOff x="212760" y="2846520"/>
            <a:chExt cx="8704080" cy="1733400"/>
          </a:xfrm>
        </p:grpSpPr>
        <p:grpSp>
          <p:nvGrpSpPr>
            <p:cNvPr id="810" name=""/>
            <p:cNvGrpSpPr/>
            <p:nvPr/>
          </p:nvGrpSpPr>
          <p:grpSpPr>
            <a:xfrm>
              <a:off x="1469880" y="2846520"/>
              <a:ext cx="7446960" cy="1733400"/>
              <a:chOff x="1469880" y="2846520"/>
              <a:chExt cx="7446960" cy="1733400"/>
            </a:xfrm>
          </p:grpSpPr>
          <p:sp>
            <p:nvSpPr>
              <p:cNvPr id="811" name=""/>
              <p:cNvSpPr/>
              <p:nvPr/>
            </p:nvSpPr>
            <p:spPr>
              <a:xfrm>
                <a:off x="5419800" y="3860640"/>
                <a:ext cx="3497040" cy="601920"/>
              </a:xfrm>
              <a:prstGeom prst="parallelogram">
                <a:avLst>
                  <a:gd name="adj" fmla="val 14110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094520" y="3457440"/>
                <a:ext cx="108720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69880" y="3860640"/>
                <a:ext cx="2567160" cy="601920"/>
              </a:xfrm>
              <a:prstGeom prst="parallelogram">
                <a:avLst>
                  <a:gd name="adj" fmla="val 171921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332080" y="35132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951520" y="351468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792840" y="389736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446360" y="3317760"/>
                <a:ext cx="455760" cy="1262160"/>
              </a:xfrm>
              <a:prstGeom prst="lightningBol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217680" y="3740040"/>
                <a:ext cx="123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3268440" y="3286080"/>
                <a:ext cx="1000440" cy="378000"/>
                <a:chOff x="3268440" y="3286080"/>
                <a:chExt cx="1000440" cy="37800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393552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26844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59568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5113080" y="3516480"/>
                <a:ext cx="665280" cy="378720"/>
                <a:chOff x="5113080" y="3516480"/>
                <a:chExt cx="665280" cy="3787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5113080" y="3517920"/>
                  <a:ext cx="333360" cy="37728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445000" y="3516480"/>
                  <a:ext cx="333360" cy="37764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 flipH="1">
                <a:off x="4862520" y="3970440"/>
                <a:ext cx="1015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832120" y="2846520"/>
                <a:ext cx="16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871880" y="3098880"/>
                <a:ext cx="185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12760" y="3301920"/>
              <a:ext cx="132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ue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793080" y="4888080"/>
            <a:ext cx="756756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obi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constrained to server’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requests and results over client’s network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latency or bandwidth reduction, and blocked if link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A6C-5CE6-43D1-9ADC-F38DDE98EF6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ored procedures and REV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012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057480" y="3186000"/>
            <a:ext cx="15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e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38240" y="1668600"/>
            <a:ext cx="3863880" cy="2952720"/>
            <a:chOff x="138240" y="1668600"/>
            <a:chExt cx="3863880" cy="2952720"/>
          </a:xfrm>
        </p:grpSpPr>
        <p:sp>
          <p:nvSpPr>
            <p:cNvPr id="835" name=""/>
            <p:cNvSpPr/>
            <p:nvPr/>
          </p:nvSpPr>
          <p:spPr>
            <a:xfrm>
              <a:off x="200160" y="2071800"/>
              <a:ext cx="3497040" cy="601920"/>
            </a:xfrm>
            <a:prstGeom prst="parallelogram">
              <a:avLst>
                <a:gd name="adj" fmla="val 1411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07920" y="1668600"/>
              <a:ext cx="108756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34960" y="40197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41720" y="37515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00400" y="1714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00160" y="210852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2486160" y="2779560"/>
              <a:ext cx="353880" cy="1015920"/>
              <a:chOff x="2486160" y="2779560"/>
              <a:chExt cx="353880" cy="1015920"/>
            </a:xfrm>
          </p:grpSpPr>
          <p:sp>
            <p:nvSpPr>
              <p:cNvPr id="842" name=""/>
              <p:cNvSpPr/>
              <p:nvPr/>
            </p:nvSpPr>
            <p:spPr>
              <a:xfrm flipV="1">
                <a:off x="2486160" y="2785320"/>
                <a:ext cx="2880" cy="99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2651040" y="2779560"/>
                <a:ext cx="7920" cy="98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835360" y="2807640"/>
                <a:ext cx="4680" cy="98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2363760" y="2259360"/>
              <a:ext cx="67788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5240" y="28227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procedure code to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8240" y="35244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Call proced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095560" y="3079800"/>
              <a:ext cx="39204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2006640" y="3483000"/>
              <a:ext cx="64908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2835360" y="3281760"/>
              <a:ext cx="2570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616896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21320" y="2071800"/>
            <a:ext cx="3497040" cy="601560"/>
          </a:xfrm>
          <a:prstGeom prst="parallelogram">
            <a:avLst>
              <a:gd name="adj" fmla="val 1411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329080" y="1668600"/>
            <a:ext cx="108756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56120" y="4019400"/>
            <a:ext cx="2567160" cy="601920"/>
          </a:xfrm>
          <a:prstGeom prst="parallelogram">
            <a:avLst>
              <a:gd name="adj" fmla="val 171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662880" y="3751200"/>
            <a:ext cx="841320" cy="7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721560" y="1714680"/>
            <a:ext cx="841320" cy="75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21320" y="210816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6765840" y="2752560"/>
            <a:ext cx="152640" cy="10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88040" y="2739960"/>
            <a:ext cx="308160" cy="70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72160" y="223668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061040" y="34527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10120" y="2778120"/>
            <a:ext cx="25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end procedure cod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nd argument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to server - procedure called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42360" y="2378160"/>
            <a:ext cx="157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end results (and maybe a server proced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6388200" y="3230280"/>
            <a:ext cx="44748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250040" y="3017880"/>
            <a:ext cx="51588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920" y="4989600"/>
            <a:ext cx="849312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 if accessing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ies if accessing more than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communicate with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send out their own procedures (e.g., no pro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EB9-D634-4057-89FA-EA1F0BFB918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ets and servl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1920" y="5167440"/>
            <a:ext cx="8493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limitations as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s pay more attention to security than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200160" y="1119240"/>
            <a:ext cx="8910000" cy="3665520"/>
            <a:chOff x="200160" y="1119240"/>
            <a:chExt cx="8910000" cy="3665520"/>
          </a:xfrm>
        </p:grpSpPr>
        <p:sp>
          <p:nvSpPr>
            <p:cNvPr id="870" name=""/>
            <p:cNvSpPr/>
            <p:nvPr/>
          </p:nvSpPr>
          <p:spPr>
            <a:xfrm>
              <a:off x="1581120" y="11206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p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200160" y="1712880"/>
              <a:ext cx="4647960" cy="3053880"/>
              <a:chOff x="200160" y="1712880"/>
              <a:chExt cx="4647960" cy="3053880"/>
            </a:xfrm>
          </p:grpSpPr>
          <p:sp>
            <p:nvSpPr>
              <p:cNvPr id="872" name=""/>
              <p:cNvSpPr/>
              <p:nvPr/>
            </p:nvSpPr>
            <p:spPr>
              <a:xfrm>
                <a:off x="2763720" y="2869920"/>
                <a:ext cx="208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2. Receive page and “embedded” applet; execute app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00160" y="2182680"/>
                <a:ext cx="3497040" cy="601200"/>
              </a:xfrm>
              <a:prstGeom prst="parallelogram">
                <a:avLst>
                  <a:gd name="adj" fmla="val 14127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07920" y="1712880"/>
                <a:ext cx="1087560" cy="930240"/>
              </a:xfrm>
              <a:prstGeom prst="can">
                <a:avLst>
                  <a:gd name="adj" fmla="val 2013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71520" y="4165200"/>
                <a:ext cx="2566800" cy="601560"/>
              </a:xfrm>
              <a:prstGeom prst="parallelogram">
                <a:avLst>
                  <a:gd name="adj" fmla="val 172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96760" y="3662280"/>
                <a:ext cx="1143000" cy="101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255760" y="1780920"/>
                <a:ext cx="955800" cy="85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000160" y="221904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1724040" y="2537640"/>
                <a:ext cx="743040" cy="117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2436480" y="2636640"/>
                <a:ext cx="252360" cy="13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92240" y="3928680"/>
                <a:ext cx="946080" cy="534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20680" y="29224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. Request Web p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568520" y="3192120"/>
                <a:ext cx="403200" cy="13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2532240" y="3450960"/>
                <a:ext cx="48240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5124240" y="2178000"/>
              <a:ext cx="3497040" cy="601560"/>
            </a:xfrm>
            <a:prstGeom prst="parallelogram">
              <a:avLst>
                <a:gd name="adj" fmla="val 1411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832360" y="1708200"/>
              <a:ext cx="1087200" cy="930240"/>
            </a:xfrm>
            <a:prstGeom prst="can">
              <a:avLst>
                <a:gd name="adj" fmla="val 201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619600" y="418320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45200" y="3679920"/>
              <a:ext cx="1142640" cy="101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57880" y="1776240"/>
              <a:ext cx="955440" cy="85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24600" y="2214720"/>
              <a:ext cx="248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6927840" y="3047760"/>
              <a:ext cx="406080" cy="66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110360" y="3024360"/>
              <a:ext cx="509040" cy="79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19720" y="2511360"/>
              <a:ext cx="94572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02000" y="3030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serv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543800" y="35305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Ge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24520" y="3271680"/>
              <a:ext cx="291600" cy="1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96120" y="3495600"/>
              <a:ext cx="267840" cy="15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49680" y="1119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A6A-C797-40AC-A4D3-018BE45A1DE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more about 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993-2942-45D0-AE58-EA73F01CA9F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031760" y="1260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, Condor and Legion: Load balancing can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statically (for a heterogeneou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dynamically through data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programmer effort required to achieve even limite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much security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pre-loaded code or homogeneous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AF0-9E14-4341-B5FA-B9C82717B24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cation-specific solu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20960" y="386244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267160" y="466560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19440" y="280836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331040" y="3678120"/>
            <a:ext cx="971640" cy="828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004760" y="3720960"/>
            <a:ext cx="971640" cy="828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20480" y="47750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87520" y="46990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rid/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762800" y="372276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08880" y="4651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iz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94040" y="4056120"/>
            <a:ext cx="722160" cy="230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3827520" y="3668760"/>
            <a:ext cx="882720" cy="511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09880" y="4427640"/>
            <a:ext cx="1341720" cy="757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610240" y="3139920"/>
            <a:ext cx="169380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6332400" y="4303800"/>
            <a:ext cx="90036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77720" y="1407960"/>
            <a:ext cx="84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Modeling of complex mechan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60640" y="244620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fined,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07360" y="57452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ired” approach….nothing dynam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070-8AED-4C37-94E1-110A4EA07C8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without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smart" descr=""/>
          <p:cNvPicPr/>
          <p:nvPr/>
        </p:nvPicPr>
        <p:blipFill>
          <a:blip r:embed="rId1"/>
          <a:stretch/>
        </p:blipFill>
        <p:spPr>
          <a:xfrm>
            <a:off x="277920" y="1130400"/>
            <a:ext cx="2246040" cy="156996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4070520" y="18813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24120" y="23670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-installed application-specific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054920" y="2019240"/>
            <a:ext cx="1828800" cy="703080"/>
            <a:chOff x="7054920" y="2019240"/>
            <a:chExt cx="1828800" cy="703080"/>
          </a:xfrm>
        </p:grpSpPr>
        <p:sp>
          <p:nvSpPr>
            <p:cNvPr id="924" name=""/>
            <p:cNvSpPr/>
            <p:nvPr/>
          </p:nvSpPr>
          <p:spPr>
            <a:xfrm>
              <a:off x="7054920" y="21888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620120" y="201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7679880" y="15717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554200" y="1862280"/>
            <a:ext cx="1941480" cy="64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535640" y="1512720"/>
            <a:ext cx="896760" cy="78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" name="list" descr=""/>
          <p:cNvPicPr/>
          <p:nvPr/>
        </p:nvPicPr>
        <p:blipFill>
          <a:blip r:embed="rId2"/>
          <a:stretch/>
        </p:blipFill>
        <p:spPr>
          <a:xfrm>
            <a:off x="949320" y="1911240"/>
            <a:ext cx="12812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930" name=""/>
          <p:cNvGrpSpPr/>
          <p:nvPr/>
        </p:nvGrpSpPr>
        <p:grpSpPr>
          <a:xfrm>
            <a:off x="7124760" y="849240"/>
            <a:ext cx="1828800" cy="703080"/>
            <a:chOff x="7124760" y="849240"/>
            <a:chExt cx="1828800" cy="703080"/>
          </a:xfrm>
        </p:grpSpPr>
        <p:sp>
          <p:nvSpPr>
            <p:cNvPr id="931" name=""/>
            <p:cNvSpPr/>
            <p:nvPr/>
          </p:nvSpPr>
          <p:spPr>
            <a:xfrm>
              <a:off x="7124760" y="10191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689960" y="84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735600" y="272412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er-level databas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361120" y="1184040"/>
            <a:ext cx="2523960" cy="6267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560" y="1930320"/>
            <a:ext cx="2535120" cy="449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09960" y="1201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276960" y="1511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smart" descr=""/>
          <p:cNvPicPr/>
          <p:nvPr/>
        </p:nvPicPr>
        <p:blipFill>
          <a:blip r:embed="rId3"/>
          <a:stretch/>
        </p:blipFill>
        <p:spPr>
          <a:xfrm>
            <a:off x="222120" y="4114800"/>
            <a:ext cx="2246400" cy="156996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948120" y="49100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02080" y="53960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6999120" y="5003640"/>
            <a:ext cx="1828800" cy="703080"/>
            <a:chOff x="6999120" y="5003640"/>
            <a:chExt cx="1828800" cy="703080"/>
          </a:xfrm>
        </p:grpSpPr>
        <p:sp>
          <p:nvSpPr>
            <p:cNvPr id="942" name=""/>
            <p:cNvSpPr/>
            <p:nvPr/>
          </p:nvSpPr>
          <p:spPr>
            <a:xfrm>
              <a:off x="6999120" y="51732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564320" y="500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7624440" y="45561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79840" y="4497480"/>
            <a:ext cx="897120" cy="784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list" descr=""/>
          <p:cNvPicPr/>
          <p:nvPr/>
        </p:nvPicPr>
        <p:blipFill>
          <a:blip r:embed="rId4"/>
          <a:stretch/>
        </p:blipFill>
        <p:spPr>
          <a:xfrm>
            <a:off x="893880" y="4917960"/>
            <a:ext cx="1280880" cy="1284480"/>
          </a:xfrm>
          <a:prstGeom prst="rect">
            <a:avLst/>
          </a:prstGeom>
          <a:ln w="0">
            <a:noFill/>
          </a:ln>
        </p:spPr>
      </p:pic>
      <p:grpSp>
        <p:nvGrpSpPr>
          <p:cNvPr id="947" name=""/>
          <p:cNvGrpSpPr/>
          <p:nvPr/>
        </p:nvGrpSpPr>
        <p:grpSpPr>
          <a:xfrm>
            <a:off x="7068960" y="3833640"/>
            <a:ext cx="1828800" cy="703080"/>
            <a:chOff x="7068960" y="3833640"/>
            <a:chExt cx="1828800" cy="703080"/>
          </a:xfrm>
        </p:grpSpPr>
        <p:sp>
          <p:nvSpPr>
            <p:cNvPr id="948" name=""/>
            <p:cNvSpPr/>
            <p:nvPr/>
          </p:nvSpPr>
          <p:spPr>
            <a:xfrm>
              <a:off x="7068960" y="40035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34160" y="383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 flipV="1">
            <a:off x="2563920" y="4974840"/>
            <a:ext cx="1638360" cy="12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54480" y="48243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297560" y="39337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259760" y="51055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5300640" y="4184640"/>
            <a:ext cx="1974960" cy="636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15040" y="5005440"/>
            <a:ext cx="1896840" cy="3031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54160" y="368604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uch less work, but now try extending the TR 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4040" y="70020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Lo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811240" y="4322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013440" y="45324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AB6-705C-4985-8F05-4E1D5198A08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mulation without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3172320" y="1638360"/>
            <a:ext cx="5455800" cy="4379400"/>
            <a:chOff x="3172320" y="1638360"/>
            <a:chExt cx="5455800" cy="4379400"/>
          </a:xfrm>
        </p:grpSpPr>
        <p:pic>
          <p:nvPicPr>
            <p:cNvPr id="962" name="" descr=""/>
            <p:cNvPicPr/>
            <p:nvPr/>
          </p:nvPicPr>
          <p:blipFill>
            <a:blip r:embed="rId1"/>
            <a:stretch/>
          </p:blipFill>
          <p:spPr>
            <a:xfrm>
              <a:off x="3254400" y="3449520"/>
              <a:ext cx="60480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3859200" y="2343240"/>
              <a:ext cx="4235400" cy="291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871800" y="2351160"/>
              <a:ext cx="4205520" cy="2898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87640" y="2360520"/>
              <a:ext cx="4173840" cy="28782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05280" y="2373120"/>
              <a:ext cx="4138560" cy="28530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921120" y="2384280"/>
              <a:ext cx="4106880" cy="28306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938760" y="2397240"/>
              <a:ext cx="4071600" cy="280656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56040" y="2406600"/>
              <a:ext cx="4038480" cy="27860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71880" y="2419200"/>
              <a:ext cx="4005360" cy="27608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989520" y="2430360"/>
              <a:ext cx="3970080" cy="27385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03560" y="2442960"/>
              <a:ext cx="3942000" cy="27133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21200" y="2454120"/>
              <a:ext cx="3906720" cy="2692440"/>
            </a:xfrm>
            <a:prstGeom prst="ellipse">
              <a:avLst/>
            </a:prstGeom>
            <a:solidFill>
              <a:srgbClr val="fc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7040" y="2463840"/>
              <a:ext cx="3875040" cy="26715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4320" y="2476440"/>
              <a:ext cx="3840480" cy="26463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70520" y="2487600"/>
              <a:ext cx="3808080" cy="262584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87800" y="2500200"/>
              <a:ext cx="3773520" cy="260028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03640" y="2509920"/>
              <a:ext cx="3741840" cy="257940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121280" y="2522520"/>
              <a:ext cx="3706560" cy="255420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138560" y="2533680"/>
              <a:ext cx="3672000" cy="25336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152960" y="2546280"/>
              <a:ext cx="3643200" cy="250812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68800" y="2555640"/>
              <a:ext cx="3611520" cy="248796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86080" y="2566800"/>
              <a:ext cx="3576960" cy="246708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203720" y="2579760"/>
              <a:ext cx="3541680" cy="2441520"/>
            </a:xfrm>
            <a:prstGeom prst="ellipse">
              <a:avLst/>
            </a:prstGeom>
            <a:solidFill>
              <a:srgbClr val="f6f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19560" y="2589120"/>
              <a:ext cx="3510000" cy="24210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237200" y="2601720"/>
              <a:ext cx="3474720" cy="23958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253040" y="2612880"/>
              <a:ext cx="3443040" cy="2374920"/>
            </a:xfrm>
            <a:prstGeom prst="ellipse">
              <a:avLst/>
            </a:prstGeom>
            <a:solidFill>
              <a:srgbClr val="f4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70320" y="2625840"/>
              <a:ext cx="3408480" cy="2349360"/>
            </a:xfrm>
            <a:prstGeom prst="ellipse">
              <a:avLst/>
            </a:prstGeom>
            <a:solidFill>
              <a:srgbClr val="f3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284720" y="2635200"/>
              <a:ext cx="3379680" cy="23288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302000" y="2647800"/>
              <a:ext cx="3345120" cy="23036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17840" y="2658960"/>
              <a:ext cx="3313440" cy="2281320"/>
            </a:xfrm>
            <a:prstGeom prst="ellipse">
              <a:avLst/>
            </a:prstGeom>
            <a:solidFill>
              <a:srgbClr val="f1f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35480" y="2668680"/>
              <a:ext cx="3278160" cy="2261880"/>
            </a:xfrm>
            <a:prstGeom prst="ellipse">
              <a:avLst/>
            </a:prstGeom>
            <a:solidFill>
              <a:srgbClr val="f0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352760" y="2681280"/>
              <a:ext cx="3243600" cy="2236680"/>
            </a:xfrm>
            <a:prstGeom prst="ellipse">
              <a:avLst/>
            </a:prstGeom>
            <a:solidFill>
              <a:srgbClr val="e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368960" y="2692440"/>
              <a:ext cx="3211200" cy="2214360"/>
            </a:xfrm>
            <a:prstGeom prst="ellipse">
              <a:avLst/>
            </a:prstGeom>
            <a:solidFill>
              <a:srgbClr val="ee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386240" y="2705040"/>
              <a:ext cx="3176640" cy="2189160"/>
            </a:xfrm>
            <a:prstGeom prst="ellipse">
              <a:avLst/>
            </a:prstGeom>
            <a:solidFill>
              <a:srgbClr val="ede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02080" y="2716200"/>
              <a:ext cx="3144960" cy="2168640"/>
            </a:xfrm>
            <a:prstGeom prst="ellipse">
              <a:avLst/>
            </a:prstGeom>
            <a:solidFill>
              <a:srgbClr val="ece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19720" y="2727360"/>
              <a:ext cx="3109680" cy="2144520"/>
            </a:xfrm>
            <a:prstGeom prst="ellipse">
              <a:avLst/>
            </a:prstGeom>
            <a:solidFill>
              <a:srgbClr val="eb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433760" y="2738520"/>
              <a:ext cx="3081600" cy="2122200"/>
            </a:xfrm>
            <a:prstGeom prst="ellipse">
              <a:avLst/>
            </a:prstGeom>
            <a:solidFill>
              <a:srgbClr val="eae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451400" y="2751120"/>
              <a:ext cx="3046320" cy="2097000"/>
            </a:xfrm>
            <a:prstGeom prst="ellipse">
              <a:avLst/>
            </a:prstGeom>
            <a:solidFill>
              <a:srgbClr val="e8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467240" y="2762280"/>
              <a:ext cx="3014640" cy="2076480"/>
            </a:xfrm>
            <a:prstGeom prst="ellipse">
              <a:avLst/>
            </a:prstGeom>
            <a:solidFill>
              <a:srgbClr val="e7e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84520" y="2771640"/>
              <a:ext cx="2980080" cy="2055960"/>
            </a:xfrm>
            <a:prstGeom prst="ellipse">
              <a:avLst/>
            </a:prstGeom>
            <a:solidFill>
              <a:srgbClr val="e6e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00720" y="2784240"/>
              <a:ext cx="2947680" cy="2030760"/>
            </a:xfrm>
            <a:prstGeom prst="ellipse">
              <a:avLst/>
            </a:prstGeom>
            <a:solidFill>
              <a:srgbClr val="e5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18000" y="2795400"/>
              <a:ext cx="2913120" cy="2009880"/>
            </a:xfrm>
            <a:prstGeom prst="ellipse">
              <a:avLst/>
            </a:prstGeom>
            <a:solidFill>
              <a:srgbClr val="e3e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35640" y="2808360"/>
              <a:ext cx="2877840" cy="1984320"/>
            </a:xfrm>
            <a:prstGeom prst="ellipse">
              <a:avLst/>
            </a:prstGeom>
            <a:solidFill>
              <a:srgbClr val="e2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51480" y="2817720"/>
              <a:ext cx="2846160" cy="1963800"/>
            </a:xfrm>
            <a:prstGeom prst="ellipse">
              <a:avLst/>
            </a:prstGeom>
            <a:solidFill>
              <a:srgbClr val="e1e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65520" y="2830320"/>
              <a:ext cx="2818080" cy="1938600"/>
            </a:xfrm>
            <a:prstGeom prst="ellipse">
              <a:avLst/>
            </a:prstGeom>
            <a:solidFill>
              <a:srgbClr val="dfd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83160" y="2841480"/>
              <a:ext cx="2782800" cy="1917720"/>
            </a:xfrm>
            <a:prstGeom prst="ellipse">
              <a:avLst/>
            </a:prstGeom>
            <a:solidFill>
              <a:srgbClr val="d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00440" y="2854440"/>
              <a:ext cx="2748240" cy="1892160"/>
            </a:xfrm>
            <a:prstGeom prst="ellipse">
              <a:avLst/>
            </a:prstGeom>
            <a:solidFill>
              <a:srgbClr val="dc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616280" y="2863800"/>
              <a:ext cx="2716560" cy="1871640"/>
            </a:xfrm>
            <a:prstGeom prst="ellipse">
              <a:avLst/>
            </a:prstGeom>
            <a:solidFill>
              <a:srgbClr val="db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633920" y="2874960"/>
              <a:ext cx="2681280" cy="1851120"/>
            </a:xfrm>
            <a:prstGeom prst="ellipse">
              <a:avLst/>
            </a:prstGeom>
            <a:solidFill>
              <a:srgbClr val="d9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49760" y="2887560"/>
              <a:ext cx="2649600" cy="1825560"/>
            </a:xfrm>
            <a:prstGeom prst="ellipse">
              <a:avLst/>
            </a:prstGeom>
            <a:solidFill>
              <a:srgbClr val="d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667400" y="2897280"/>
              <a:ext cx="2614320" cy="180468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84680" y="2909880"/>
              <a:ext cx="2579760" cy="1779480"/>
            </a:xfrm>
            <a:prstGeom prst="ellipse">
              <a:avLst/>
            </a:prstGeom>
            <a:solidFill>
              <a:srgbClr val="d4d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00520" y="2921040"/>
              <a:ext cx="2548080" cy="1757160"/>
            </a:xfrm>
            <a:prstGeom prst="ellipse">
              <a:avLst/>
            </a:prstGeom>
            <a:solidFill>
              <a:srgbClr val="d2d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14920" y="2933640"/>
              <a:ext cx="2519280" cy="1733400"/>
            </a:xfrm>
            <a:prstGeom prst="ellipse">
              <a:avLst/>
            </a:prstGeom>
            <a:solidFill>
              <a:srgbClr val="d0d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32200" y="2943000"/>
              <a:ext cx="2484720" cy="1713240"/>
            </a:xfrm>
            <a:prstGeom prst="ellipse">
              <a:avLst/>
            </a:prstGeom>
            <a:solidFill>
              <a:srgbClr val="cec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49840" y="2955960"/>
              <a:ext cx="2449440" cy="1687320"/>
            </a:xfrm>
            <a:prstGeom prst="ellipse">
              <a:avLst/>
            </a:prstGeom>
            <a:solidFill>
              <a:srgbClr val="cdc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765680" y="2967120"/>
              <a:ext cx="2417760" cy="1665000"/>
            </a:xfrm>
            <a:prstGeom prst="ellipse">
              <a:avLst/>
            </a:prstGeom>
            <a:solidFill>
              <a:srgbClr val="cb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782960" y="2977920"/>
              <a:ext cx="2382840" cy="1644840"/>
            </a:xfrm>
            <a:prstGeom prst="ellipse">
              <a:avLst/>
            </a:prstGeom>
            <a:solidFill>
              <a:srgbClr val="c9c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799160" y="2989080"/>
              <a:ext cx="2350800" cy="1621080"/>
            </a:xfrm>
            <a:prstGeom prst="ellipse">
              <a:avLst/>
            </a:prstGeom>
            <a:solidFill>
              <a:srgbClr val="c7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816440" y="3000240"/>
              <a:ext cx="2316240" cy="1598760"/>
            </a:xfrm>
            <a:prstGeom prst="ellipse">
              <a:avLst/>
            </a:prstGeom>
            <a:solidFill>
              <a:srgbClr val="c5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32280" y="3012840"/>
              <a:ext cx="2284560" cy="1573560"/>
            </a:xfrm>
            <a:prstGeom prst="ellipse">
              <a:avLst/>
            </a:prstGeom>
            <a:solidFill>
              <a:srgbClr val="c3c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848120" y="3024000"/>
              <a:ext cx="2252880" cy="1552680"/>
            </a:xfrm>
            <a:prstGeom prst="ellipse">
              <a:avLst/>
            </a:prstGeom>
            <a:solidFill>
              <a:srgbClr val="c1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863960" y="3036960"/>
              <a:ext cx="2221200" cy="1527120"/>
            </a:xfrm>
            <a:prstGeom prst="ellipse">
              <a:avLst/>
            </a:prstGeom>
            <a:solidFill>
              <a:srgbClr val="be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881600" y="3046320"/>
              <a:ext cx="2185920" cy="1506600"/>
            </a:xfrm>
            <a:prstGeom prst="ellipse">
              <a:avLst/>
            </a:prstGeom>
            <a:solidFill>
              <a:srgbClr val="bc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898880" y="3058920"/>
              <a:ext cx="2152800" cy="1481400"/>
            </a:xfrm>
            <a:prstGeom prst="ellipse">
              <a:avLst/>
            </a:prstGeom>
            <a:solidFill>
              <a:srgbClr val="bab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915080" y="3070080"/>
              <a:ext cx="2118960" cy="1460520"/>
            </a:xfrm>
            <a:prstGeom prst="ellipse">
              <a:avLst/>
            </a:prstGeom>
            <a:solidFill>
              <a:srgbClr val="b8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32360" y="3079800"/>
              <a:ext cx="2087640" cy="1441440"/>
            </a:xfrm>
            <a:prstGeom prst="ellipse">
              <a:avLst/>
            </a:prstGeom>
            <a:solidFill>
              <a:srgbClr val="b6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948200" y="3092400"/>
              <a:ext cx="2054160" cy="1417680"/>
            </a:xfrm>
            <a:prstGeom prst="ellipse">
              <a:avLst/>
            </a:prstGeom>
            <a:solidFill>
              <a:srgbClr val="b3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965840" y="3103560"/>
              <a:ext cx="2019240" cy="1395360"/>
            </a:xfrm>
            <a:prstGeom prst="ellipse">
              <a:avLst/>
            </a:prstGeom>
            <a:solidFill>
              <a:srgbClr val="b1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981680" y="3116160"/>
              <a:ext cx="1987560" cy="1370160"/>
            </a:xfrm>
            <a:prstGeom prst="ellipse">
              <a:avLst/>
            </a:prstGeom>
            <a:solidFill>
              <a:srgbClr val="af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997520" y="3125880"/>
              <a:ext cx="1957320" cy="1349280"/>
            </a:xfrm>
            <a:prstGeom prst="ellipse">
              <a:avLst/>
            </a:prstGeom>
            <a:solidFill>
              <a:srgbClr val="ad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13360" y="3138480"/>
              <a:ext cx="1923840" cy="1325520"/>
            </a:xfrm>
            <a:prstGeom prst="ellipse">
              <a:avLst/>
            </a:prstGeom>
            <a:solidFill>
              <a:srgbClr val="aaaa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30640" y="3149640"/>
              <a:ext cx="1889280" cy="1303200"/>
            </a:xfrm>
            <a:prstGeom prst="ellipse">
              <a:avLst/>
            </a:prstGeom>
            <a:solidFill>
              <a:srgbClr val="a8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46840" y="3162240"/>
              <a:ext cx="1857240" cy="1278000"/>
            </a:xfrm>
            <a:prstGeom prst="ellipse">
              <a:avLst/>
            </a:prstGeom>
            <a:solidFill>
              <a:srgbClr val="a5a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064120" y="3171600"/>
              <a:ext cx="1822320" cy="1257480"/>
            </a:xfrm>
            <a:prstGeom prst="ellipse">
              <a:avLst/>
            </a:prstGeom>
            <a:solidFill>
              <a:srgbClr val="a3a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081760" y="3182760"/>
              <a:ext cx="1788840" cy="1236960"/>
            </a:xfrm>
            <a:prstGeom prst="ellipse">
              <a:avLst/>
            </a:prstGeom>
            <a:solidFill>
              <a:srgbClr val="a1a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097600" y="3195720"/>
              <a:ext cx="1755720" cy="1211040"/>
            </a:xfrm>
            <a:prstGeom prst="ellipse">
              <a:avLst/>
            </a:prstGeom>
            <a:solidFill>
              <a:srgbClr val="9e9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14880" y="3205080"/>
              <a:ext cx="1722600" cy="1190520"/>
            </a:xfrm>
            <a:prstGeom prst="ellipse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29280" y="3217680"/>
              <a:ext cx="1692360" cy="1165320"/>
            </a:xfrm>
            <a:prstGeom prst="ellipse">
              <a:avLst/>
            </a:prstGeom>
            <a:solidFill>
              <a:srgbClr val="99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146560" y="3228840"/>
              <a:ext cx="1658880" cy="1144800"/>
            </a:xfrm>
            <a:prstGeom prst="ellipse">
              <a:avLst/>
            </a:prstGeom>
            <a:solidFill>
              <a:srgbClr val="979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62400" y="3241440"/>
              <a:ext cx="1625760" cy="1119240"/>
            </a:xfrm>
            <a:prstGeom prst="ellipse">
              <a:avLst/>
            </a:prstGeom>
            <a:solidFill>
              <a:srgbClr val="949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80040" y="3251160"/>
              <a:ext cx="1592280" cy="1098360"/>
            </a:xfrm>
            <a:prstGeom prst="ellipse">
              <a:avLst/>
            </a:prstGeom>
            <a:solidFill>
              <a:srgbClr val="929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95880" y="3263760"/>
              <a:ext cx="1558800" cy="1073160"/>
            </a:xfrm>
            <a:prstGeom prst="ellipse">
              <a:avLst/>
            </a:prstGeom>
            <a:solidFill>
              <a:srgbClr val="8f8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213520" y="3274920"/>
              <a:ext cx="1523880" cy="1052640"/>
            </a:xfrm>
            <a:prstGeom prst="ellipse">
              <a:avLst/>
            </a:prstGeom>
            <a:solidFill>
              <a:srgbClr val="8d8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0800" y="3286080"/>
              <a:ext cx="1490760" cy="1030320"/>
            </a:xfrm>
            <a:prstGeom prst="ellipse">
              <a:avLst/>
            </a:prstGeom>
            <a:solidFill>
              <a:srgbClr val="8a8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46640" y="3298680"/>
              <a:ext cx="1457280" cy="1005120"/>
            </a:xfrm>
            <a:prstGeom prst="ellipse">
              <a:avLst/>
            </a:prstGeom>
            <a:solidFill>
              <a:srgbClr val="888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264280" y="3308400"/>
              <a:ext cx="1423800" cy="985680"/>
            </a:xfrm>
            <a:prstGeom prst="ellipse">
              <a:avLst/>
            </a:prstGeom>
            <a:solidFill>
              <a:srgbClr val="858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78320" y="3321000"/>
              <a:ext cx="1393920" cy="960480"/>
            </a:xfrm>
            <a:prstGeom prst="ellipse">
              <a:avLst/>
            </a:prstGeom>
            <a:solidFill>
              <a:srgbClr val="838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295960" y="3332160"/>
              <a:ext cx="1360440" cy="938160"/>
            </a:xfrm>
            <a:prstGeom prst="ellipse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11800" y="3344760"/>
              <a:ext cx="1326960" cy="912960"/>
            </a:xfrm>
            <a:prstGeom prst="ellipse">
              <a:avLst/>
            </a:prstGeom>
            <a:solidFill>
              <a:srgbClr val="7e7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29080" y="3354480"/>
              <a:ext cx="1293840" cy="893520"/>
            </a:xfrm>
            <a:prstGeom prst="ellipse">
              <a:avLst/>
            </a:prstGeom>
            <a:solidFill>
              <a:srgbClr val="7c7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45280" y="3367080"/>
              <a:ext cx="1260360" cy="868320"/>
            </a:xfrm>
            <a:prstGeom prst="ellipse">
              <a:avLst/>
            </a:prstGeom>
            <a:solidFill>
              <a:srgbClr val="797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62560" y="3378240"/>
              <a:ext cx="1225440" cy="846000"/>
            </a:xfrm>
            <a:prstGeom prst="ellipse">
              <a:avLst/>
            </a:prstGeom>
            <a:solidFill>
              <a:srgbClr val="777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78400" y="3387600"/>
              <a:ext cx="1193760" cy="825480"/>
            </a:xfrm>
            <a:prstGeom prst="ellipse">
              <a:avLst/>
            </a:prstGeom>
            <a:solidFill>
              <a:srgbClr val="747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396040" y="3400200"/>
              <a:ext cx="1158840" cy="800280"/>
            </a:xfrm>
            <a:prstGeom prst="ellipse">
              <a:avLst/>
            </a:prstGeom>
            <a:solidFill>
              <a:srgbClr val="727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410080" y="3411360"/>
              <a:ext cx="1130400" cy="779760"/>
            </a:xfrm>
            <a:prstGeom prst="ellipse">
              <a:avLst/>
            </a:prstGeom>
            <a:solidFill>
              <a:srgbClr val="707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427720" y="3424320"/>
              <a:ext cx="1095480" cy="753840"/>
            </a:xfrm>
            <a:prstGeom prst="ellipse">
              <a:avLst/>
            </a:prstGeom>
            <a:solidFill>
              <a:srgbClr val="6d6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443560" y="3433680"/>
              <a:ext cx="1063440" cy="733320"/>
            </a:xfrm>
            <a:prstGeom prst="ellipse">
              <a:avLst/>
            </a:prstGeom>
            <a:solidFill>
              <a:srgbClr val="6b6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60840" y="3446280"/>
              <a:ext cx="1028880" cy="708120"/>
            </a:xfrm>
            <a:prstGeom prst="ellipse">
              <a:avLst/>
            </a:prstGeom>
            <a:solidFill>
              <a:srgbClr val="696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478480" y="3457440"/>
              <a:ext cx="995400" cy="687600"/>
            </a:xfrm>
            <a:prstGeom prst="ellipse">
              <a:avLst/>
            </a:prstGeom>
            <a:solidFill>
              <a:srgbClr val="666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494320" y="3470040"/>
              <a:ext cx="961920" cy="662040"/>
            </a:xfrm>
            <a:prstGeom prst="ellipse">
              <a:avLst/>
            </a:prstGeom>
            <a:solidFill>
              <a:srgbClr val="646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11960" y="3479760"/>
              <a:ext cx="928440" cy="641160"/>
            </a:xfrm>
            <a:prstGeom prst="ellipse">
              <a:avLst/>
            </a:prstGeom>
            <a:solidFill>
              <a:srgbClr val="626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527800" y="3490920"/>
              <a:ext cx="895320" cy="620640"/>
            </a:xfrm>
            <a:prstGeom prst="ellipse">
              <a:avLst/>
            </a:prstGeom>
            <a:solidFill>
              <a:srgbClr val="606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45080" y="3503520"/>
              <a:ext cx="860400" cy="595440"/>
            </a:xfrm>
            <a:prstGeom prst="ellipse">
              <a:avLst/>
            </a:prstGeom>
            <a:solidFill>
              <a:srgbClr val="5e5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59480" y="3514680"/>
              <a:ext cx="831960" cy="573120"/>
            </a:xfrm>
            <a:prstGeom prst="ellipse">
              <a:avLst/>
            </a:prstGeom>
            <a:solidFill>
              <a:srgbClr val="5b5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76760" y="3525840"/>
              <a:ext cx="798480" cy="549360"/>
            </a:xfrm>
            <a:prstGeom prst="ellipse">
              <a:avLst/>
            </a:prstGeom>
            <a:solidFill>
              <a:srgbClr val="595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592600" y="3537000"/>
              <a:ext cx="765360" cy="528480"/>
            </a:xfrm>
            <a:prstGeom prst="ellipse">
              <a:avLst/>
            </a:prstGeom>
            <a:solidFill>
              <a:srgbClr val="575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10240" y="3549600"/>
              <a:ext cx="730080" cy="503280"/>
            </a:xfrm>
            <a:prstGeom prst="ellipse">
              <a:avLst/>
            </a:prstGeom>
            <a:solidFill>
              <a:srgbClr val="555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27520" y="3560760"/>
              <a:ext cx="696960" cy="480960"/>
            </a:xfrm>
            <a:prstGeom prst="ellipse">
              <a:avLst/>
            </a:prstGeom>
            <a:solidFill>
              <a:srgbClr val="535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43720" y="3571920"/>
              <a:ext cx="663480" cy="457200"/>
            </a:xfrm>
            <a:prstGeom prst="ellipse">
              <a:avLst/>
            </a:prstGeom>
            <a:solidFill>
              <a:srgbClr val="515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61000" y="3583080"/>
              <a:ext cx="630360" cy="436320"/>
            </a:xfrm>
            <a:prstGeom prst="ellipse">
              <a:avLst/>
            </a:prstGeom>
            <a:solidFill>
              <a:srgbClr val="4f4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76840" y="3593880"/>
              <a:ext cx="596880" cy="414360"/>
            </a:xfrm>
            <a:prstGeom prst="ellipse">
              <a:avLst/>
            </a:prstGeom>
            <a:solidFill>
              <a:srgbClr val="4d4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92680" y="3606840"/>
              <a:ext cx="567000" cy="388800"/>
            </a:xfrm>
            <a:prstGeom prst="ellipse">
              <a:avLst/>
            </a:prstGeom>
            <a:solidFill>
              <a:srgbClr val="4b4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08520" y="3616200"/>
              <a:ext cx="533520" cy="370080"/>
            </a:xfrm>
            <a:prstGeom prst="ellipse">
              <a:avLst/>
            </a:prstGeom>
            <a:solidFill>
              <a:srgbClr val="4a4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26160" y="3628800"/>
              <a:ext cx="500040" cy="344520"/>
            </a:xfrm>
            <a:prstGeom prst="ellipse">
              <a:avLst/>
            </a:prstGeom>
            <a:solidFill>
              <a:srgbClr val="484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42000" y="3639960"/>
              <a:ext cx="466560" cy="322560"/>
            </a:xfrm>
            <a:prstGeom prst="ellipse">
              <a:avLst/>
            </a:prstGeom>
            <a:solidFill>
              <a:srgbClr val="464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59280" y="3652920"/>
              <a:ext cx="432000" cy="296640"/>
            </a:xfrm>
            <a:prstGeom prst="ellipse">
              <a:avLst/>
            </a:prstGeom>
            <a:solidFill>
              <a:srgbClr val="444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75480" y="3662280"/>
              <a:ext cx="399960" cy="276120"/>
            </a:xfrm>
            <a:prstGeom prst="ellipse">
              <a:avLst/>
            </a:prstGeom>
            <a:solidFill>
              <a:srgbClr val="434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92760" y="3674880"/>
              <a:ext cx="365040" cy="252360"/>
            </a:xfrm>
            <a:prstGeom prst="ellipse">
              <a:avLst/>
            </a:prstGeom>
            <a:solidFill>
              <a:srgbClr val="414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810400" y="3686040"/>
              <a:ext cx="331560" cy="230400"/>
            </a:xfrm>
            <a:prstGeom prst="ellipse">
              <a:avLst/>
            </a:prstGeom>
            <a:solidFill>
              <a:srgbClr val="404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26240" y="3695760"/>
              <a:ext cx="298440" cy="209520"/>
            </a:xfrm>
            <a:prstGeom prst="ellipse">
              <a:avLst/>
            </a:prstGeom>
            <a:solidFill>
              <a:srgbClr val="3e3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42080" y="3708360"/>
              <a:ext cx="268200" cy="183960"/>
            </a:xfrm>
            <a:prstGeom prst="ellipse">
              <a:avLst/>
            </a:prstGeom>
            <a:solidFill>
              <a:srgbClr val="3d3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857920" y="3719520"/>
              <a:ext cx="235080" cy="163440"/>
            </a:xfrm>
            <a:prstGeom prst="ellipse">
              <a:avLst/>
            </a:prstGeom>
            <a:solidFill>
              <a:srgbClr val="3b3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875200" y="3732120"/>
              <a:ext cx="201600" cy="138240"/>
            </a:xfrm>
            <a:prstGeom prst="ellipse">
              <a:avLst/>
            </a:prstGeom>
            <a:solidFill>
              <a:srgbClr val="3a3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91040" y="3741840"/>
              <a:ext cx="168480" cy="117360"/>
            </a:xfrm>
            <a:prstGeom prst="ellipse">
              <a:avLst/>
            </a:prstGeom>
            <a:solidFill>
              <a:srgbClr val="383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08680" y="3754440"/>
              <a:ext cx="135000" cy="92160"/>
            </a:xfrm>
            <a:prstGeom prst="ellipse">
              <a:avLst/>
            </a:prstGeom>
            <a:solidFill>
              <a:srgbClr val="373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24520" y="3765600"/>
              <a:ext cx="101520" cy="71280"/>
            </a:xfrm>
            <a:prstGeom prst="ellipse">
              <a:avLst/>
            </a:prstGeom>
            <a:solidFill>
              <a:srgbClr val="363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942160" y="3778200"/>
              <a:ext cx="66600" cy="46080"/>
            </a:xfrm>
            <a:prstGeom prst="ellipse">
              <a:avLst/>
            </a:prstGeom>
            <a:solidFill>
              <a:srgbClr val="353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959440" y="3787560"/>
              <a:ext cx="33480" cy="25560"/>
            </a:xfrm>
            <a:prstGeom prst="ellipse">
              <a:avLst/>
            </a:prstGeom>
            <a:solidFill>
              <a:srgbClr val="343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201640" y="334656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9216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670360" y="33465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8124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60520" y="33465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6060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23988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4148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643080" y="33465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27440" y="382896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8296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893480" y="382896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20632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0828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519160" y="3828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69880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81004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9205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1221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324120" y="38289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424200" y="3828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60384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143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9159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175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6" name="" descr=""/>
            <p:cNvPicPr/>
            <p:nvPr/>
          </p:nvPicPr>
          <p:blipFill>
            <a:blip r:embed="rId2"/>
            <a:stretch/>
          </p:blipFill>
          <p:spPr>
            <a:xfrm>
              <a:off x="7588080" y="4755960"/>
              <a:ext cx="6051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3"/>
            <a:stretch/>
          </p:blipFill>
          <p:spPr>
            <a:xfrm>
              <a:off x="4060800" y="1738080"/>
              <a:ext cx="80640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" descr=""/>
            <p:cNvPicPr/>
            <p:nvPr/>
          </p:nvPicPr>
          <p:blipFill>
            <a:blip r:embed="rId4"/>
            <a:stretch/>
          </p:blipFill>
          <p:spPr>
            <a:xfrm>
              <a:off x="8093160" y="1638360"/>
              <a:ext cx="53496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5"/>
            <a:stretch/>
          </p:blipFill>
          <p:spPr>
            <a:xfrm>
              <a:off x="4362480" y="4957560"/>
              <a:ext cx="9079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4967280" y="1816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6376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3036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204520" y="18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247360" y="18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8444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35752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42592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98280" y="18162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558760" y="18162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59260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6712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33360" y="18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7800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96656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025600" y="1977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09328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12820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16492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360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82280" y="1977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32512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62200" y="1977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428800" y="1977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05040" y="18050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256160" y="1805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32888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37316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3184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90160" y="18050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601400" y="18050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63812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68276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2560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786440" y="1805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85880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205400" y="1966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240320" y="1966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313400" y="196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379640" y="1966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424280" y="196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20504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64080" y="212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33176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36668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0340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46208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520760" y="212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56504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00680" y="212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67280" y="212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607880" y="54277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711920" y="5427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786080" y="54277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44760" y="54277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0380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970040" y="54277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014320" y="5427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4996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118000" y="5427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19108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256960" y="5427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608240" y="558792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65864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695000" y="558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806960" y="5587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87932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91640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982640" y="55879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02692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6256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129160" y="5587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203680" y="55879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3716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172320" y="42195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276360" y="421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350520" y="421956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409200" y="421956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6824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534480" y="4219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78760" y="421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61440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82800" y="421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5552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21760" y="421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172680" y="438156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22308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259800" y="43815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371400" y="4381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44376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4812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47440" y="4381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9136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6270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693960" y="4381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68480" y="4381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016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91360" y="55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48748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6200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21040" y="5527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8764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6036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1904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77720" y="55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92236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98140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390280" y="5689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34920" y="56894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8604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5876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61780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692320" y="56894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2580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2040" y="56894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3160" y="56894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7628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34600" y="56894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04620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0488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6392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23196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9100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6372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42276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9028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44932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07640" y="5850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44000" y="5850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57928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37960" y="5850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82600" y="5850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27240" y="58500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60720" y="5850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34880" y="58500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88420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42880" y="58500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86360" y="3751200"/>
              <a:ext cx="45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959280" y="3682800"/>
              <a:ext cx="129960" cy="13356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82" y="0"/>
                  </a:moveTo>
                  <a:lnTo>
                    <a:pt x="0" y="43"/>
                  </a:lnTo>
                  <a:lnTo>
                    <a:pt x="82" y="8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535640" y="3686040"/>
              <a:ext cx="12996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3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5238360" y="4761000"/>
              <a:ext cx="65160" cy="93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45200" y="465624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0" y="91"/>
                  </a:moveTo>
                  <a:lnTo>
                    <a:pt x="79" y="0"/>
                  </a:lnTo>
                  <a:lnTo>
                    <a:pt x="0" y="46"/>
                  </a:lnTo>
                  <a:lnTo>
                    <a:pt x="7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68880" y="4813200"/>
              <a:ext cx="12852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12" y="0"/>
                  </a:moveTo>
                  <a:lnTo>
                    <a:pt x="0" y="91"/>
                  </a:lnTo>
                  <a:lnTo>
                    <a:pt x="81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88320" y="4622760"/>
              <a:ext cx="396720" cy="264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883560" y="45561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1" y="9"/>
                  </a:moveTo>
                  <a:lnTo>
                    <a:pt x="0" y="0"/>
                  </a:lnTo>
                  <a:lnTo>
                    <a:pt x="46" y="79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342200" y="4830840"/>
              <a:ext cx="146160" cy="12672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68"/>
                  </a:moveTo>
                  <a:lnTo>
                    <a:pt x="92" y="80"/>
                  </a:lnTo>
                  <a:lnTo>
                    <a:pt x="4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7178400" y="2622600"/>
              <a:ext cx="517320" cy="444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650000" y="2543040"/>
              <a:ext cx="140040" cy="13644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54" y="86"/>
                  </a:moveTo>
                  <a:lnTo>
                    <a:pt x="88" y="0"/>
                  </a:lnTo>
                  <a:lnTo>
                    <a:pt x="0" y="23"/>
                  </a:lnTo>
                  <a:lnTo>
                    <a:pt x="5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085160" y="301140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34" y="0"/>
                  </a:moveTo>
                  <a:lnTo>
                    <a:pt x="0" y="85"/>
                  </a:lnTo>
                  <a:lnTo>
                    <a:pt x="88" y="6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045040" y="2539800"/>
              <a:ext cx="247680" cy="309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67280" y="244296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37"/>
                  </a:moveTo>
                  <a:lnTo>
                    <a:pt x="0" y="0"/>
                  </a:lnTo>
                  <a:lnTo>
                    <a:pt x="20" y="90"/>
                  </a:lnTo>
                  <a:lnTo>
                    <a:pt x="8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5480" y="280332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3"/>
                  </a:moveTo>
                  <a:lnTo>
                    <a:pt x="85" y="90"/>
                  </a:lnTo>
                  <a:lnTo>
                    <a:pt x="65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190080" y="1441440"/>
            <a:ext cx="364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s, ident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s, load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ly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he beginning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exec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cons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and how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ht have to evol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efficient and rob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D55-4B1B-44D3-A77A-F257E1ABB3B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takes several techniqu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181520" y="1635120"/>
            <a:ext cx="67752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opos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strong code mobility, to solve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B8F-4CE6-477C-8296-7E4B155C459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51000" y="515880"/>
            <a:ext cx="8440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extend other techniqu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16120" y="1828800"/>
            <a:ext cx="749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- dynamic proces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on - checkpointing to support proces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- process serialization and state captu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(rumo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e these all going to end up supporting code mo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different systems are heading in the direction of mobile code.  Let’s go there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71520" y="1479600"/>
            <a:ext cx="81849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0CF-923D-4717-88DE-591ED4C63F8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2240" y="76320"/>
            <a:ext cx="8796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g picture: A uniform framewor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70160" y="1090440"/>
            <a:ext cx="8131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several different strengths of mobil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code helps solve various performanc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nes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iosyncratic solutions exist in each problem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provide a unified framework,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r solving m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directly to where many different sys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ing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445-E160-4417-AA47-DC123943764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58840" y="1905120"/>
            <a:ext cx="49021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90720" y="2514600"/>
            <a:ext cx="990360" cy="609480"/>
          </a:xfrm>
          <a:prstGeom prst="rightArrow">
            <a:avLst>
              <a:gd name="adj1" fmla="val 50000"/>
              <a:gd name="adj2" fmla="val 4062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0BA-9F07-4327-BE73-7AB0CE9056C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esentative syst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134720" y="1832040"/>
            <a:ext cx="6885360" cy="3139920"/>
            <a:chOff x="1134720" y="1832040"/>
            <a:chExt cx="6885360" cy="3139920"/>
          </a:xfrm>
        </p:grpSpPr>
        <p:sp>
          <p:nvSpPr>
            <p:cNvPr id="1285" name=""/>
            <p:cNvSpPr/>
            <p:nvPr/>
          </p:nvSpPr>
          <p:spPr>
            <a:xfrm>
              <a:off x="1134720" y="1832040"/>
              <a:ext cx="27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Java-based 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252440" y="2633400"/>
              <a:ext cx="247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th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ingle-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167840" y="4146480"/>
              <a:ext cx="264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ultiple-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303800" y="1861920"/>
              <a:ext cx="37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glets, Voyager, Jumping Be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460040" y="3028680"/>
              <a:ext cx="340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Messengers, Obliq, Tele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80800" y="4360680"/>
              <a:ext cx="276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ra, Tacoma, D’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2E0B-1ADE-423F-9745-55951DF32E2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1121400" y="1281240"/>
            <a:ext cx="6903360" cy="4892760"/>
            <a:chOff x="1121400" y="1281240"/>
            <a:chExt cx="6903360" cy="4892760"/>
          </a:xfrm>
        </p:grpSpPr>
        <p:sp>
          <p:nvSpPr>
            <p:cNvPr id="1293" name=""/>
            <p:cNvSpPr/>
            <p:nvPr/>
          </p:nvSpPr>
          <p:spPr>
            <a:xfrm>
              <a:off x="2973240" y="1281240"/>
              <a:ext cx="41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ote Procedure Call (RP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977920" y="2036520"/>
              <a:ext cx="504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twork Command Language (NC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74680" y="2816280"/>
              <a:ext cx="36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ote Evaluation (RE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71080" y="3529080"/>
              <a:ext cx="28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elescript (release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975760" y="4251240"/>
              <a:ext cx="14000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’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aco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…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517760" y="128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8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517760" y="2814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519560" y="35272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121400" y="4251240"/>
              <a:ext cx="15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4 -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517760" y="2036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8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F64-C0ED-4B9F-B8CD-89389D2E6C1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97000" y="1233360"/>
            <a:ext cx="4902120" cy="47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tiva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asons for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ing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 “big pict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AF3-09F3-4B64-84D2-DBB73DD95D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ces and similar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650680" y="1084320"/>
            <a:ext cx="3815280" cy="64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69960" y="2835360"/>
            <a:ext cx="597816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mper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unction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cl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073240" y="1959120"/>
            <a:ext cx="497052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8960" y="3714840"/>
            <a:ext cx="7760880" cy="640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erpre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Just-in-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oftwar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20880" y="4586400"/>
            <a:ext cx="5476320" cy="640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-al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 Web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83560" y="5457960"/>
            <a:ext cx="615312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G/FIPA standar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qu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4C3F-B968-4A7E-8E11-B4E5769D4DB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Jav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67840" y="1255680"/>
            <a:ext cx="8580600" cy="1194840"/>
            <a:chOff x="267840" y="1255680"/>
            <a:chExt cx="8580600" cy="1194840"/>
          </a:xfrm>
        </p:grpSpPr>
        <p:sp>
          <p:nvSpPr>
            <p:cNvPr id="1312" name=""/>
            <p:cNvSpPr/>
            <p:nvPr/>
          </p:nvSpPr>
          <p:spPr>
            <a:xfrm>
              <a:off x="267840" y="1255680"/>
              <a:ext cx="182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ortabil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031040" y="1990800"/>
              <a:ext cx="78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iled into bytecodes for a stack-based virtual 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268560" y="392580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1033560" y="3365640"/>
            <a:ext cx="7442280" cy="2390760"/>
            <a:chOff x="1033560" y="3365640"/>
            <a:chExt cx="7442280" cy="2390760"/>
          </a:xfrm>
        </p:grpSpPr>
        <p:sp>
          <p:nvSpPr>
            <p:cNvPr id="1316" name=""/>
            <p:cNvSpPr/>
            <p:nvPr/>
          </p:nvSpPr>
          <p:spPr>
            <a:xfrm>
              <a:off x="1033560" y="4764240"/>
              <a:ext cx="1104840" cy="992160"/>
            </a:xfrm>
            <a:prstGeom prst="foldedCorner">
              <a:avLst>
                <a:gd name="adj" fmla="val 2054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ytec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38680" y="4851360"/>
              <a:ext cx="1288800" cy="817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yte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er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62680" y="4851360"/>
              <a:ext cx="1289160" cy="817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186680" y="4851360"/>
              <a:ext cx="1289160" cy="81756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un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V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02520" y="3365640"/>
              <a:ext cx="1422360" cy="952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187720" y="5259600"/>
              <a:ext cx="706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11720" y="5259600"/>
              <a:ext cx="706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7310160" y="4293720"/>
              <a:ext cx="314280" cy="538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432480" y="5259600"/>
              <a:ext cx="7066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A92-2193-40BC-91FC-769BEEC9EA9A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l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441440" y="2478240"/>
            <a:ext cx="62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-driven programming mode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Dispatc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Arri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es” for lo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630440" y="1252440"/>
            <a:ext cx="5888520" cy="815400"/>
            <a:chOff x="1630440" y="1252440"/>
            <a:chExt cx="5888520" cy="815400"/>
          </a:xfrm>
        </p:grpSpPr>
        <p:pic>
          <p:nvPicPr>
            <p:cNvPr id="1328" name="aglets" descr=""/>
            <p:cNvPicPr/>
            <p:nvPr/>
          </p:nvPicPr>
          <p:blipFill>
            <a:blip r:embed="rId1"/>
            <a:stretch/>
          </p:blipFill>
          <p:spPr>
            <a:xfrm>
              <a:off x="1712880" y="1252440"/>
              <a:ext cx="57150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"/>
            <p:cNvSpPr/>
            <p:nvPr/>
          </p:nvSpPr>
          <p:spPr>
            <a:xfrm>
              <a:off x="3250800" y="1608120"/>
              <a:ext cx="42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http://www.trl.ibm.co.jp/aglet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30440" y="1606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832-571F-4853-9961-EB62B4BD7EBF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mping Bea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164880" y="1252440"/>
            <a:ext cx="4340520" cy="4560840"/>
            <a:chOff x="164880" y="1252440"/>
            <a:chExt cx="4340520" cy="4560840"/>
          </a:xfrm>
        </p:grpSpPr>
        <p:sp>
          <p:nvSpPr>
            <p:cNvPr id="1333" name=""/>
            <p:cNvSpPr/>
            <p:nvPr/>
          </p:nvSpPr>
          <p:spPr>
            <a:xfrm>
              <a:off x="1893960" y="3049560"/>
              <a:ext cx="1255680" cy="10303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79680" y="1852560"/>
              <a:ext cx="2106360" cy="601560"/>
            </a:xfrm>
            <a:prstGeom prst="parallelogram">
              <a:avLst>
                <a:gd name="adj" fmla="val 10053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06720" y="1746000"/>
              <a:ext cx="1108080" cy="56052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64880" y="1554120"/>
              <a:ext cx="172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i-server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16200" y="1825560"/>
              <a:ext cx="3697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39760" y="5211720"/>
              <a:ext cx="2106720" cy="601560"/>
            </a:xfrm>
            <a:prstGeom prst="parallelogram">
              <a:avLst>
                <a:gd name="adj" fmla="val 100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66800" y="5105160"/>
              <a:ext cx="1108080" cy="56052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98680" y="5194080"/>
              <a:ext cx="2106720" cy="601920"/>
            </a:xfrm>
            <a:prstGeom prst="parallelogram">
              <a:avLst>
                <a:gd name="adj" fmla="val 10049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25720" y="5087880"/>
              <a:ext cx="1108080" cy="56016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44720" y="4601880"/>
              <a:ext cx="534960" cy="594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3" name="agentred" descr=""/>
            <p:cNvPicPr/>
            <p:nvPr/>
          </p:nvPicPr>
          <p:blipFill>
            <a:blip r:embed="rId1"/>
            <a:stretch/>
          </p:blipFill>
          <p:spPr>
            <a:xfrm>
              <a:off x="2390760" y="1252440"/>
              <a:ext cx="522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 flipV="1">
              <a:off x="1603440" y="4089240"/>
              <a:ext cx="347760" cy="48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2495520" y="2314440"/>
              <a:ext cx="57240" cy="65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60400" y="2744640"/>
              <a:ext cx="99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Jump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through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central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4695840" y="1071720"/>
            <a:ext cx="4331160" cy="4961160"/>
            <a:chOff x="4695840" y="1071720"/>
            <a:chExt cx="4331160" cy="4961160"/>
          </a:xfrm>
        </p:grpSpPr>
        <p:sp>
          <p:nvSpPr>
            <p:cNvPr id="1348" name=""/>
            <p:cNvSpPr/>
            <p:nvPr/>
          </p:nvSpPr>
          <p:spPr>
            <a:xfrm>
              <a:off x="4695840" y="2251080"/>
              <a:ext cx="4325760" cy="37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Weak mo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entral serve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for tracking, managing and authenticating agents (but also failure point and bottleneck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sistent 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achine prot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9" name="jumpingbean" descr=""/>
            <p:cNvPicPr/>
            <p:nvPr/>
          </p:nvPicPr>
          <p:blipFill>
            <a:blip r:embed="rId2"/>
            <a:stretch/>
          </p:blipFill>
          <p:spPr>
            <a:xfrm>
              <a:off x="4752720" y="1136520"/>
              <a:ext cx="8362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5348520" y="1468440"/>
              <a:ext cx="36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http://www.JumpingBeans.com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696280" y="107172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d Astra Engine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28C-C71D-4008-BA8F-D9E4521B92E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yag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01720" y="2544840"/>
            <a:ext cx="7542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uilt on top of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ted directory service and group communication (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060800" y="206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206960" y="20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649440" y="1192320"/>
            <a:ext cx="7851240" cy="1082520"/>
            <a:chOff x="649440" y="1192320"/>
            <a:chExt cx="7851240" cy="1082520"/>
          </a:xfrm>
        </p:grpSpPr>
        <p:pic>
          <p:nvPicPr>
            <p:cNvPr id="1357" name="voyager" descr=""/>
            <p:cNvPicPr/>
            <p:nvPr/>
          </p:nvPicPr>
          <p:blipFill>
            <a:blip r:embed="rId1"/>
            <a:stretch/>
          </p:blipFill>
          <p:spPr>
            <a:xfrm>
              <a:off x="649440" y="1192320"/>
              <a:ext cx="2396880" cy="10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8" name=""/>
            <p:cNvGrpSpPr/>
            <p:nvPr/>
          </p:nvGrpSpPr>
          <p:grpSpPr>
            <a:xfrm>
              <a:off x="3206880" y="1274760"/>
              <a:ext cx="5293800" cy="919440"/>
              <a:chOff x="3206880" y="1274760"/>
              <a:chExt cx="5293800" cy="919440"/>
            </a:xfrm>
          </p:grpSpPr>
          <p:sp>
            <p:nvSpPr>
              <p:cNvPr id="1359" name=""/>
              <p:cNvSpPr/>
              <p:nvPr/>
            </p:nvSpPr>
            <p:spPr>
              <a:xfrm>
                <a:off x="3217680" y="1274760"/>
                <a:ext cx="182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ObjectSp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206880" y="1795320"/>
                <a:ext cx="52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objectspace.com/products/voyager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4E8-E10E-45A4-A946-78F6FADD2FE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Jav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560600" y="1968480"/>
            <a:ext cx="60246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ed per-thread resource accounting (or enforc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for multiple languag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efficient on top of 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C5A-1359-40E8-92E6-0A4FBF0399D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sseng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985680" y="1324080"/>
            <a:ext cx="7170840" cy="820800"/>
            <a:chOff x="985680" y="1324080"/>
            <a:chExt cx="7170840" cy="820800"/>
          </a:xfrm>
        </p:grpSpPr>
        <p:pic>
          <p:nvPicPr>
            <p:cNvPr id="1365" name="messengers" descr=""/>
            <p:cNvPicPr/>
            <p:nvPr/>
          </p:nvPicPr>
          <p:blipFill>
            <a:blip r:embed="rId1"/>
            <a:stretch/>
          </p:blipFill>
          <p:spPr>
            <a:xfrm>
              <a:off x="985680" y="1365120"/>
              <a:ext cx="1890720" cy="73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6" name=""/>
            <p:cNvGrpSpPr/>
            <p:nvPr/>
          </p:nvGrpSpPr>
          <p:grpSpPr>
            <a:xfrm>
              <a:off x="3129480" y="1324080"/>
              <a:ext cx="5027040" cy="820800"/>
              <a:chOff x="3129480" y="1324080"/>
              <a:chExt cx="5027040" cy="820800"/>
            </a:xfrm>
          </p:grpSpPr>
          <p:sp>
            <p:nvSpPr>
              <p:cNvPr id="1367" name=""/>
              <p:cNvSpPr/>
              <p:nvPr/>
            </p:nvSpPr>
            <p:spPr>
              <a:xfrm>
                <a:off x="3134160" y="1324080"/>
                <a:ext cx="247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Genev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129480" y="1746000"/>
                <a:ext cx="50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cuiwww.unige.ch/tios/msgr/home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9" name=""/>
          <p:cNvSpPr/>
          <p:nvPr/>
        </p:nvSpPr>
        <p:spPr>
          <a:xfrm>
            <a:off x="446040" y="2533680"/>
            <a:ext cx="8258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Ø (similar to Postscr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ded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w-level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.g., in the Messenger Operating System (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 for data exchange and service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mited security, but work on fine-grained resource control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7DC-9251-48AA-B26F-32E5A2B72C1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20840" y="1130400"/>
            <a:ext cx="8318880" cy="1369800"/>
            <a:chOff x="420840" y="1130400"/>
            <a:chExt cx="8318880" cy="1369800"/>
          </a:xfrm>
        </p:grpSpPr>
        <p:pic>
          <p:nvPicPr>
            <p:cNvPr id="1372" name="obliq" descr=""/>
            <p:cNvPicPr/>
            <p:nvPr/>
          </p:nvPicPr>
          <p:blipFill>
            <a:blip r:embed="rId1"/>
            <a:stretch/>
          </p:blipFill>
          <p:spPr>
            <a:xfrm>
              <a:off x="420840" y="1130400"/>
              <a:ext cx="1992600" cy="136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3" name=""/>
            <p:cNvGrpSpPr/>
            <p:nvPr/>
          </p:nvGrpSpPr>
          <p:grpSpPr>
            <a:xfrm>
              <a:off x="2517840" y="1398240"/>
              <a:ext cx="6221880" cy="834840"/>
              <a:chOff x="2517840" y="1398240"/>
              <a:chExt cx="6221880" cy="834840"/>
            </a:xfrm>
          </p:grpSpPr>
          <p:sp>
            <p:nvSpPr>
              <p:cNvPr id="1374" name=""/>
              <p:cNvSpPr/>
              <p:nvPr/>
            </p:nvSpPr>
            <p:spPr>
              <a:xfrm>
                <a:off x="2526120" y="1398240"/>
                <a:ext cx="29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DEC Research (Compaq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517840" y="1834200"/>
                <a:ext cx="622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research.digital.com/SRC/Obliq/Obliq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6" name=""/>
          <p:cNvSpPr/>
          <p:nvPr/>
        </p:nvSpPr>
        <p:spPr>
          <a:xfrm>
            <a:off x="923760" y="2689200"/>
            <a:ext cx="7285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bliq (interpreted, lexically scoped, object-orien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ull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 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mited security (access checks in Visual Obli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64B-8030-4074-969A-EE6852874C43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lescri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12840" y="2467080"/>
            <a:ext cx="8516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elescript (object-oriented language similar to Java and C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script is compiled into “Low” Telescript, bytecodes for a RISC 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 longer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516480" y="1197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eneral Ma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741400" y="163368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ttp://www.genmagic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B2B-2CD5-4285-96BE-9C116357B991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a single languag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824120" y="2556000"/>
            <a:ext cx="5495760" cy="137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hav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ny applic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 one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good for all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DDD-331D-4931-90A0-04EC07AA47DB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30760" y="1074600"/>
            <a:ext cx="5066640" cy="49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Java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3E1-4192-43C7-8214-0E20E3D863C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1151640" y="1157400"/>
            <a:ext cx="6838920" cy="895320"/>
            <a:chOff x="1151640" y="1157400"/>
            <a:chExt cx="6838920" cy="895320"/>
          </a:xfrm>
        </p:grpSpPr>
        <p:pic>
          <p:nvPicPr>
            <p:cNvPr id="1385" name="ara" descr=""/>
            <p:cNvPicPr/>
            <p:nvPr/>
          </p:nvPicPr>
          <p:blipFill>
            <a:blip r:embed="rId1"/>
            <a:stretch/>
          </p:blipFill>
          <p:spPr>
            <a:xfrm>
              <a:off x="2450880" y="1157400"/>
              <a:ext cx="42386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>
              <a:off x="1151640" y="1549440"/>
              <a:ext cx="68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http://www.uni-kl.de/AG-Nehmer/Projekte/Ara/index_e.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1101600" y="2467080"/>
            <a:ext cx="69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/C++, Java and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/C++ compiled into bytecodes for RISC 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erver plus all agents inside one Unix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FDF-5DC5-46FF-8EA3-DDD2A5B8FA3C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139760" y="2773440"/>
            <a:ext cx="686916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, Tcl/Tk, Scheme, Python, Perl (public release), several more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, simple abstraction: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add a new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 opportunity for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003760" y="1177920"/>
            <a:ext cx="5141520" cy="1430280"/>
            <a:chOff x="2003760" y="1177920"/>
            <a:chExt cx="5141520" cy="1430280"/>
          </a:xfrm>
        </p:grpSpPr>
        <p:grpSp>
          <p:nvGrpSpPr>
            <p:cNvPr id="1391" name=""/>
            <p:cNvGrpSpPr/>
            <p:nvPr/>
          </p:nvGrpSpPr>
          <p:grpSpPr>
            <a:xfrm>
              <a:off x="2003760" y="1863720"/>
              <a:ext cx="5141520" cy="744480"/>
              <a:chOff x="2003760" y="1863720"/>
              <a:chExt cx="5141520" cy="744480"/>
            </a:xfrm>
          </p:grpSpPr>
          <p:sp>
            <p:nvSpPr>
              <p:cNvPr id="1392" name=""/>
              <p:cNvSpPr/>
              <p:nvPr/>
            </p:nvSpPr>
            <p:spPr>
              <a:xfrm>
                <a:off x="2005920" y="186372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Tromsø / Cornell Univers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003760" y="2209320"/>
                <a:ext cx="51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tacoma.cs.uit.no:8080/TACOMA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4" name="tacoma" descr=""/>
            <p:cNvPicPr/>
            <p:nvPr/>
          </p:nvPicPr>
          <p:blipFill>
            <a:blip r:embed="rId1"/>
            <a:stretch/>
          </p:blipFill>
          <p:spPr>
            <a:xfrm>
              <a:off x="2014560" y="1177920"/>
              <a:ext cx="500040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98A-04E8-4C30-BD0E-A255EA5F0E5D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094840" y="1981080"/>
            <a:ext cx="4934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Java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077840" y="259704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E8F8-2C01-4CF5-9E42-BA4DF575CC6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dagents" descr=""/>
          <p:cNvPicPr/>
          <p:nvPr/>
        </p:nvPicPr>
        <p:blipFill>
          <a:blip r:embed="rId1"/>
          <a:stretch/>
        </p:blipFill>
        <p:spPr>
          <a:xfrm>
            <a:off x="357120" y="-3240"/>
            <a:ext cx="3113280" cy="2124000"/>
          </a:xfrm>
          <a:prstGeom prst="rect">
            <a:avLst/>
          </a:prstGeom>
          <a:ln w="0">
            <a:noFill/>
          </a:ln>
        </p:spPr>
      </p:pic>
      <p:sp>
        <p:nvSpPr>
          <p:cNvPr id="1399" name=""/>
          <p:cNvSpPr/>
          <p:nvPr/>
        </p:nvSpPr>
        <p:spPr>
          <a:xfrm>
            <a:off x="4267080" y="60948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tp://agent.cs.dartmouth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382640" y="111456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ject started Spring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4294080" y="2352600"/>
            <a:ext cx="4570560" cy="3767040"/>
            <a:chOff x="4294080" y="2352600"/>
            <a:chExt cx="4570560" cy="3767040"/>
          </a:xfrm>
        </p:grpSpPr>
        <p:sp>
          <p:nvSpPr>
            <p:cNvPr id="1402" name=""/>
            <p:cNvSpPr/>
            <p:nvPr/>
          </p:nvSpPr>
          <p:spPr>
            <a:xfrm>
              <a:off x="4294080" y="2352600"/>
              <a:ext cx="45705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lfway t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and migration overhead not as low as pos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294080" y="4167000"/>
              <a:ext cx="4570560" cy="19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pro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in trans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 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on a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09200" y="2352600"/>
            <a:ext cx="3105720" cy="3839040"/>
            <a:chOff x="709200" y="2352600"/>
            <a:chExt cx="3105720" cy="3839040"/>
          </a:xfrm>
        </p:grpSpPr>
        <p:sp>
          <p:nvSpPr>
            <p:cNvPr id="1405" name=""/>
            <p:cNvSpPr/>
            <p:nvPr/>
          </p:nvSpPr>
          <p:spPr>
            <a:xfrm>
              <a:off x="709200" y="2352600"/>
              <a:ext cx="2664720" cy="16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Multiple langu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9560" y="4130640"/>
              <a:ext cx="3105360" cy="20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upport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rectory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bugger (T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4E2-A1FB-4005-867B-FA51E8171823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Mobility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042280" y="1138320"/>
            <a:ext cx="50878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mobility / No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71440" y="4595760"/>
            <a:ext cx="4427640" cy="1143000"/>
          </a:xfrm>
          <a:prstGeom prst="parallelogram">
            <a:avLst>
              <a:gd name="adj" fmla="val 968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346040" y="57564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079640" y="3630600"/>
            <a:ext cx="2859120" cy="1668600"/>
          </a:xfrm>
          <a:prstGeom prst="cube">
            <a:avLst>
              <a:gd name="adj" fmla="val 9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pture ag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Sign/encryp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end state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-2520" y="42908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076400" y="2116080"/>
            <a:ext cx="2859120" cy="1668600"/>
          </a:xfrm>
          <a:prstGeom prst="cube">
            <a:avLst>
              <a:gd name="adj" fmla="val 96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d = search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mp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 with search-eng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1360" y="228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96880" y="2859120"/>
            <a:ext cx="538200" cy="380880"/>
          </a:xfrm>
          <a:prstGeom prst="rightArrow">
            <a:avLst>
              <a:gd name="adj1" fmla="val 38333"/>
              <a:gd name="adj2" fmla="val 471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808200" y="3182760"/>
            <a:ext cx="336240" cy="884520"/>
          </a:xfrm>
          <a:custGeom>
            <a:avLst/>
            <a:gdLst/>
            <a:ahLst/>
            <a:rect l="l" t="t" r="r" b="b"/>
            <a:pathLst>
              <a:path w="212" h="557">
                <a:moveTo>
                  <a:pt x="212" y="0"/>
                </a:moveTo>
                <a:cubicBezTo>
                  <a:pt x="106" y="115"/>
                  <a:pt x="0" y="231"/>
                  <a:pt x="0" y="324"/>
                </a:cubicBezTo>
                <a:cubicBezTo>
                  <a:pt x="0" y="417"/>
                  <a:pt x="106" y="487"/>
                  <a:pt x="212" y="55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4602240" y="2116080"/>
            <a:ext cx="4427640" cy="4088520"/>
            <a:chOff x="4602240" y="2116080"/>
            <a:chExt cx="4427640" cy="4088520"/>
          </a:xfrm>
        </p:grpSpPr>
        <p:grpSp>
          <p:nvGrpSpPr>
            <p:cNvPr id="1418" name=""/>
            <p:cNvGrpSpPr/>
            <p:nvPr/>
          </p:nvGrpSpPr>
          <p:grpSpPr>
            <a:xfrm>
              <a:off x="4602240" y="2116080"/>
              <a:ext cx="4427640" cy="4088520"/>
              <a:chOff x="4602240" y="2116080"/>
              <a:chExt cx="4427640" cy="4088520"/>
            </a:xfrm>
          </p:grpSpPr>
          <p:sp>
            <p:nvSpPr>
              <p:cNvPr id="1419" name=""/>
              <p:cNvSpPr/>
              <p:nvPr/>
            </p:nvSpPr>
            <p:spPr>
              <a:xfrm>
                <a:off x="4602240" y="4584600"/>
                <a:ext cx="4427640" cy="1143000"/>
              </a:xfrm>
              <a:prstGeom prst="parallelogram">
                <a:avLst>
                  <a:gd name="adj" fmla="val 9684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76480" y="574488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418360" y="361944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 Resume ag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. Restore st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. Authentic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418360" y="211608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rched = searched + 1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mp 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et with search-engine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4929120" y="3135240"/>
              <a:ext cx="538200" cy="380880"/>
            </a:xfrm>
            <a:prstGeom prst="rightArrow">
              <a:avLst>
                <a:gd name="adj1" fmla="val 38333"/>
                <a:gd name="adj2" fmla="val 4710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3327480" y="4908600"/>
            <a:ext cx="21636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253120" y="3462480"/>
            <a:ext cx="237960" cy="69516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136" y="438"/>
                </a:moveTo>
                <a:cubicBezTo>
                  <a:pt x="68" y="407"/>
                  <a:pt x="0" y="377"/>
                  <a:pt x="2" y="304"/>
                </a:cubicBezTo>
                <a:cubicBezTo>
                  <a:pt x="4" y="231"/>
                  <a:pt x="77" y="115"/>
                  <a:pt x="150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38D-B062-4F93-A62A-F74240FA515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Architec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5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1436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1437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1438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B98-09D9-4D4F-A6D4-E9DC99056381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Hot Interpret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103560" y="5386320"/>
            <a:ext cx="299232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401760" y="2459160"/>
            <a:ext cx="2384280" cy="1321920"/>
            <a:chOff x="401760" y="2459160"/>
            <a:chExt cx="2384280" cy="1321920"/>
          </a:xfrm>
        </p:grpSpPr>
        <p:sp>
          <p:nvSpPr>
            <p:cNvPr id="1456" name=""/>
            <p:cNvSpPr/>
            <p:nvPr/>
          </p:nvSpPr>
          <p:spPr>
            <a:xfrm>
              <a:off x="401760" y="2863800"/>
              <a:ext cx="2384280" cy="917280"/>
            </a:xfrm>
            <a:prstGeom prst="cube">
              <a:avLst>
                <a:gd name="adj" fmla="val 1856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23920" indent="-2239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7" name="agentred" descr=""/>
            <p:cNvPicPr/>
            <p:nvPr/>
          </p:nvPicPr>
          <p:blipFill>
            <a:blip r:embed="rId1"/>
            <a:stretch/>
          </p:blipFill>
          <p:spPr>
            <a:xfrm>
              <a:off x="202248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agentred" descr=""/>
            <p:cNvPicPr/>
            <p:nvPr/>
          </p:nvPicPr>
          <p:blipFill>
            <a:blip r:embed="rId2"/>
            <a:stretch/>
          </p:blipFill>
          <p:spPr>
            <a:xfrm>
              <a:off x="1568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agentred" descr=""/>
            <p:cNvPicPr/>
            <p:nvPr/>
          </p:nvPicPr>
          <p:blipFill>
            <a:blip r:embed="rId3"/>
            <a:stretch/>
          </p:blipFill>
          <p:spPr>
            <a:xfrm>
              <a:off x="110484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agentred" descr=""/>
            <p:cNvPicPr/>
            <p:nvPr/>
          </p:nvPicPr>
          <p:blipFill>
            <a:blip r:embed="rId4"/>
            <a:stretch/>
          </p:blipFill>
          <p:spPr>
            <a:xfrm>
              <a:off x="641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1" name=""/>
            <p:cNvGrpSpPr/>
            <p:nvPr/>
          </p:nvGrpSpPr>
          <p:grpSpPr>
            <a:xfrm>
              <a:off x="807840" y="3163680"/>
              <a:ext cx="101880" cy="493560"/>
              <a:chOff x="807840" y="3163680"/>
              <a:chExt cx="101880" cy="493560"/>
            </a:xfrm>
          </p:grpSpPr>
          <p:sp>
            <p:nvSpPr>
              <p:cNvPr id="1462" name=""/>
              <p:cNvSpPr/>
              <p:nvPr/>
            </p:nvSpPr>
            <p:spPr>
              <a:xfrm flipH="1">
                <a:off x="808200" y="316368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08200" y="325404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808200" y="334296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08200" y="345564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807840" y="354456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590400" y="3214440"/>
              <a:ext cx="101880" cy="493560"/>
              <a:chOff x="590400" y="3214440"/>
              <a:chExt cx="101880" cy="493560"/>
            </a:xfrm>
          </p:grpSpPr>
          <p:sp>
            <p:nvSpPr>
              <p:cNvPr id="1468" name=""/>
              <p:cNvSpPr/>
              <p:nvPr/>
            </p:nvSpPr>
            <p:spPr>
              <a:xfrm flipH="1">
                <a:off x="590760" y="321444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90760" y="330480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590760" y="339372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90760" y="350640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590400" y="359532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1068120" y="3222360"/>
              <a:ext cx="101880" cy="493560"/>
              <a:chOff x="1068120" y="3222360"/>
              <a:chExt cx="101880" cy="493560"/>
            </a:xfrm>
          </p:grpSpPr>
          <p:sp>
            <p:nvSpPr>
              <p:cNvPr id="1474" name=""/>
              <p:cNvSpPr/>
              <p:nvPr/>
            </p:nvSpPr>
            <p:spPr>
              <a:xfrm flipH="1">
                <a:off x="1068480" y="322236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068480" y="331272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1068480" y="340164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068480" y="351432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1068120" y="360324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1387080" y="3138480"/>
              <a:ext cx="101880" cy="492840"/>
              <a:chOff x="1387080" y="3138480"/>
              <a:chExt cx="101880" cy="492840"/>
            </a:xfrm>
          </p:grpSpPr>
          <p:sp>
            <p:nvSpPr>
              <p:cNvPr id="1480" name=""/>
              <p:cNvSpPr/>
              <p:nvPr/>
            </p:nvSpPr>
            <p:spPr>
              <a:xfrm flipH="1">
                <a:off x="1387440" y="313848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387440" y="322848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1387440" y="331740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387440" y="343008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1387080" y="351900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1653840" y="3235320"/>
              <a:ext cx="101880" cy="492840"/>
              <a:chOff x="1653840" y="3235320"/>
              <a:chExt cx="101880" cy="492840"/>
            </a:xfrm>
          </p:grpSpPr>
          <p:sp>
            <p:nvSpPr>
              <p:cNvPr id="1486" name=""/>
              <p:cNvSpPr/>
              <p:nvPr/>
            </p:nvSpPr>
            <p:spPr>
              <a:xfrm flipH="1">
                <a:off x="1654200" y="3235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654200" y="3325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1654200" y="3414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54200" y="3526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1653840" y="3615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1895040" y="3119400"/>
              <a:ext cx="101880" cy="492840"/>
              <a:chOff x="1895040" y="3119400"/>
              <a:chExt cx="101880" cy="492840"/>
            </a:xfrm>
          </p:grpSpPr>
          <p:sp>
            <p:nvSpPr>
              <p:cNvPr id="1492" name=""/>
              <p:cNvSpPr/>
              <p:nvPr/>
            </p:nvSpPr>
            <p:spPr>
              <a:xfrm flipH="1">
                <a:off x="1895400" y="311940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895400" y="320940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1895400" y="329832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895400" y="341100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1895040" y="349992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2158560" y="3181320"/>
              <a:ext cx="101880" cy="492840"/>
              <a:chOff x="2158560" y="3181320"/>
              <a:chExt cx="101880" cy="492840"/>
            </a:xfrm>
          </p:grpSpPr>
          <p:sp>
            <p:nvSpPr>
              <p:cNvPr id="1498" name=""/>
              <p:cNvSpPr/>
              <p:nvPr/>
            </p:nvSpPr>
            <p:spPr>
              <a:xfrm flipH="1">
                <a:off x="2158920" y="3181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158920" y="3271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2158920" y="3360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158920" y="3472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2158560" y="3561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3" name=""/>
          <p:cNvSpPr/>
          <p:nvPr/>
        </p:nvSpPr>
        <p:spPr>
          <a:xfrm>
            <a:off x="1014840" y="206064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3392640" y="950760"/>
            <a:ext cx="2330280" cy="3620880"/>
            <a:chOff x="3392640" y="950760"/>
            <a:chExt cx="2330280" cy="3620880"/>
          </a:xfrm>
        </p:grpSpPr>
        <p:grpSp>
          <p:nvGrpSpPr>
            <p:cNvPr id="1505" name=""/>
            <p:cNvGrpSpPr/>
            <p:nvPr/>
          </p:nvGrpSpPr>
          <p:grpSpPr>
            <a:xfrm>
              <a:off x="3392640" y="1669680"/>
              <a:ext cx="2330280" cy="2901960"/>
              <a:chOff x="3392640" y="1669680"/>
              <a:chExt cx="2330280" cy="290196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3620880" y="1798200"/>
                <a:ext cx="1907640" cy="2630160"/>
                <a:chOff x="3620880" y="1798200"/>
                <a:chExt cx="1907640" cy="263016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46684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8" name=""/>
                <p:cNvGrpSpPr/>
                <p:nvPr/>
              </p:nvGrpSpPr>
              <p:grpSpPr>
                <a:xfrm>
                  <a:off x="3620880" y="3546000"/>
                  <a:ext cx="1907640" cy="882360"/>
                  <a:chOff x="3620880" y="3546000"/>
                  <a:chExt cx="1907640" cy="882360"/>
                </a:xfrm>
              </p:grpSpPr>
              <p:sp>
                <p:nvSpPr>
                  <p:cNvPr id="1509" name=""/>
                  <p:cNvSpPr/>
                  <p:nvPr/>
                </p:nvSpPr>
                <p:spPr>
                  <a:xfrm>
                    <a:off x="46684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36208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1" name=""/>
                <p:cNvSpPr/>
                <p:nvPr/>
              </p:nvSpPr>
              <p:spPr>
                <a:xfrm>
                  <a:off x="36208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12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33280" y="18126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3" name="agentre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71520" y="31413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4" name="agentred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12760" y="315864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5" name="agentred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2960" y="17982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16" name=""/>
                <p:cNvGrpSpPr/>
                <p:nvPr/>
              </p:nvGrpSpPr>
              <p:grpSpPr>
                <a:xfrm>
                  <a:off x="3947400" y="2482560"/>
                  <a:ext cx="101160" cy="493560"/>
                  <a:chOff x="3947400" y="2482560"/>
                  <a:chExt cx="101160" cy="49356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 flipH="1">
                    <a:off x="3947400" y="24825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947760" y="25729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 flipH="1">
                    <a:off x="3947400" y="26618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947760" y="27745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flipH="1">
                    <a:off x="3947760" y="28634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4996440" y="2477880"/>
                  <a:ext cx="101880" cy="493560"/>
                  <a:chOff x="4996440" y="2477880"/>
                  <a:chExt cx="101880" cy="49356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 flipH="1">
                    <a:off x="4996800" y="247788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996800" y="256824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H="1">
                    <a:off x="4996800" y="265716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4996800" y="276984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H="1">
                    <a:off x="4996440" y="285876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5009400" y="3790440"/>
                  <a:ext cx="101160" cy="493560"/>
                  <a:chOff x="5009400" y="3790440"/>
                  <a:chExt cx="101160" cy="49356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 flipH="1">
                    <a:off x="5009400" y="379044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5009760" y="388080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 flipH="1">
                    <a:off x="5009400" y="396972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5009760" y="408240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 flipH="1">
                    <a:off x="5009760" y="417132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4" name=""/>
                <p:cNvGrpSpPr/>
                <p:nvPr/>
              </p:nvGrpSpPr>
              <p:grpSpPr>
                <a:xfrm>
                  <a:off x="3940920" y="3843000"/>
                  <a:ext cx="101160" cy="493560"/>
                  <a:chOff x="3940920" y="3843000"/>
                  <a:chExt cx="101160" cy="49356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 flipH="1">
                    <a:off x="3940920" y="38430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3941280" y="39333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 flipH="1">
                    <a:off x="3940920" y="40222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3941280" y="41349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 flipH="1">
                    <a:off x="3941280" y="42238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0" name=""/>
              <p:cNvSpPr/>
              <p:nvPr/>
            </p:nvSpPr>
            <p:spPr>
              <a:xfrm>
                <a:off x="3392640" y="166968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1" name=""/>
            <p:cNvSpPr/>
            <p:nvPr/>
          </p:nvSpPr>
          <p:spPr>
            <a:xfrm>
              <a:off x="3749760" y="950760"/>
              <a:ext cx="16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Tcl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6418440" y="922320"/>
            <a:ext cx="2330280" cy="3649680"/>
            <a:chOff x="6418440" y="922320"/>
            <a:chExt cx="2330280" cy="3649680"/>
          </a:xfrm>
        </p:grpSpPr>
        <p:grpSp>
          <p:nvGrpSpPr>
            <p:cNvPr id="1543" name=""/>
            <p:cNvGrpSpPr/>
            <p:nvPr/>
          </p:nvGrpSpPr>
          <p:grpSpPr>
            <a:xfrm>
              <a:off x="6418440" y="1670040"/>
              <a:ext cx="2330280" cy="2901960"/>
              <a:chOff x="6418440" y="1670040"/>
              <a:chExt cx="2330280" cy="2901960"/>
            </a:xfrm>
          </p:grpSpPr>
          <p:grpSp>
            <p:nvGrpSpPr>
              <p:cNvPr id="1544" name=""/>
              <p:cNvGrpSpPr/>
              <p:nvPr/>
            </p:nvGrpSpPr>
            <p:grpSpPr>
              <a:xfrm>
                <a:off x="6646680" y="1798560"/>
                <a:ext cx="1907640" cy="2630160"/>
                <a:chOff x="6646680" y="1798560"/>
                <a:chExt cx="1907640" cy="263016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76942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6" name=""/>
                <p:cNvGrpSpPr/>
                <p:nvPr/>
              </p:nvGrpSpPr>
              <p:grpSpPr>
                <a:xfrm>
                  <a:off x="6646680" y="3546360"/>
                  <a:ext cx="1907640" cy="882360"/>
                  <a:chOff x="6646680" y="3546360"/>
                  <a:chExt cx="1907640" cy="88236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76942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66466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9" name=""/>
                <p:cNvSpPr/>
                <p:nvPr/>
              </p:nvSpPr>
              <p:spPr>
                <a:xfrm>
                  <a:off x="66466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50" name="agentred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59080" y="18129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1" name="agentred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97320" y="314172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2" name="agentred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38560" y="315900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3" name="agentred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898760" y="17985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54" name=""/>
                <p:cNvGrpSpPr/>
                <p:nvPr/>
              </p:nvGrpSpPr>
              <p:grpSpPr>
                <a:xfrm>
                  <a:off x="6973200" y="2482920"/>
                  <a:ext cx="101160" cy="493560"/>
                  <a:chOff x="6973200" y="2482920"/>
                  <a:chExt cx="101160" cy="493560"/>
                </a:xfrm>
              </p:grpSpPr>
              <p:sp>
                <p:nvSpPr>
                  <p:cNvPr id="1555" name=""/>
                  <p:cNvSpPr/>
                  <p:nvPr/>
                </p:nvSpPr>
                <p:spPr>
                  <a:xfrm flipH="1">
                    <a:off x="6973200" y="248292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6973560" y="257328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 flipH="1">
                    <a:off x="6973200" y="266220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6973560" y="277488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 flipH="1">
                    <a:off x="6973560" y="286380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8022240" y="2478240"/>
                  <a:ext cx="101880" cy="493560"/>
                  <a:chOff x="8022240" y="2478240"/>
                  <a:chExt cx="101880" cy="4935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 flipH="1">
                    <a:off x="8022600" y="247824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8022600" y="256860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 flipH="1">
                    <a:off x="8022600" y="265752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8022600" y="277020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flipH="1">
                    <a:off x="8022240" y="285912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6" name=""/>
                <p:cNvGrpSpPr/>
                <p:nvPr/>
              </p:nvGrpSpPr>
              <p:grpSpPr>
                <a:xfrm>
                  <a:off x="8035200" y="3790800"/>
                  <a:ext cx="101160" cy="493560"/>
                  <a:chOff x="8035200" y="3790800"/>
                  <a:chExt cx="101160" cy="493560"/>
                </a:xfrm>
              </p:grpSpPr>
              <p:sp>
                <p:nvSpPr>
                  <p:cNvPr id="1567" name=""/>
                  <p:cNvSpPr/>
                  <p:nvPr/>
                </p:nvSpPr>
                <p:spPr>
                  <a:xfrm flipH="1">
                    <a:off x="8035200" y="37908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8035560" y="38811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 flipH="1">
                    <a:off x="8035200" y="39700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8035560" y="40827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 flipH="1">
                    <a:off x="8035560" y="41716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2" name=""/>
                <p:cNvGrpSpPr/>
                <p:nvPr/>
              </p:nvGrpSpPr>
              <p:grpSpPr>
                <a:xfrm>
                  <a:off x="6966720" y="3843360"/>
                  <a:ext cx="101160" cy="493560"/>
                  <a:chOff x="6966720" y="3843360"/>
                  <a:chExt cx="101160" cy="493560"/>
                </a:xfrm>
              </p:grpSpPr>
              <p:sp>
                <p:nvSpPr>
                  <p:cNvPr id="1573" name=""/>
                  <p:cNvSpPr/>
                  <p:nvPr/>
                </p:nvSpPr>
                <p:spPr>
                  <a:xfrm flipH="1">
                    <a:off x="6966720" y="38433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6967080" y="39337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flipH="1">
                    <a:off x="6966720" y="40226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6967080" y="41353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6967080" y="42242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78" name=""/>
              <p:cNvSpPr/>
              <p:nvPr/>
            </p:nvSpPr>
            <p:spPr>
              <a:xfrm>
                <a:off x="6418440" y="167004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9" name=""/>
            <p:cNvSpPr/>
            <p:nvPr/>
          </p:nvSpPr>
          <p:spPr>
            <a:xfrm>
              <a:off x="6634080" y="922320"/>
              <a:ext cx="189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Scheme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3962520" y="4451400"/>
            <a:ext cx="304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4495680" y="4451400"/>
            <a:ext cx="4572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600200" y="3809880"/>
            <a:ext cx="1905120" cy="16002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5562360" y="4451400"/>
            <a:ext cx="1447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5791320" y="4451400"/>
            <a:ext cx="22860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20640" y="44197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ip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VM / interpr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08D-7E7C-46F7-AB69-9888AB494F8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ee security concer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7" name="gateway" descr=""/>
          <p:cNvPicPr/>
          <p:nvPr/>
        </p:nvPicPr>
        <p:blipFill>
          <a:blip r:embed="rId1"/>
          <a:stretch/>
        </p:blipFill>
        <p:spPr>
          <a:xfrm>
            <a:off x="5059440" y="248616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588" name="gateway" descr=""/>
          <p:cNvPicPr/>
          <p:nvPr/>
        </p:nvPicPr>
        <p:blipFill>
          <a:blip r:embed="rId2"/>
          <a:stretch/>
        </p:blipFill>
        <p:spPr>
          <a:xfrm>
            <a:off x="6230880" y="334332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589" name="gateway" descr=""/>
          <p:cNvPicPr/>
          <p:nvPr/>
        </p:nvPicPr>
        <p:blipFill>
          <a:blip r:embed="rId3"/>
          <a:stretch/>
        </p:blipFill>
        <p:spPr>
          <a:xfrm>
            <a:off x="4724280" y="37987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590" name=""/>
          <p:cNvSpPr/>
          <p:nvPr/>
        </p:nvSpPr>
        <p:spPr>
          <a:xfrm rot="5400000">
            <a:off x="5417280" y="21945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5400000">
            <a:off x="4968000" y="42393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5400000">
            <a:off x="6422040" y="38692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agentred" descr=""/>
          <p:cNvPicPr/>
          <p:nvPr/>
        </p:nvPicPr>
        <p:blipFill>
          <a:blip r:embed="rId4"/>
          <a:stretch/>
        </p:blipFill>
        <p:spPr>
          <a:xfrm>
            <a:off x="7751880" y="260676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08840" y="3373560"/>
            <a:ext cx="414360" cy="722160"/>
            <a:chOff x="7908840" y="3373560"/>
            <a:chExt cx="414360" cy="722160"/>
          </a:xfrm>
        </p:grpSpPr>
        <p:sp>
          <p:nvSpPr>
            <p:cNvPr id="1595" name=""/>
            <p:cNvSpPr/>
            <p:nvPr/>
          </p:nvSpPr>
          <p:spPr>
            <a:xfrm>
              <a:off x="7908840" y="360216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6" name=""/>
            <p:cNvGrpSpPr/>
            <p:nvPr/>
          </p:nvGrpSpPr>
          <p:grpSpPr>
            <a:xfrm>
              <a:off x="7937640" y="3373560"/>
              <a:ext cx="358560" cy="290160"/>
              <a:chOff x="7937640" y="3373560"/>
              <a:chExt cx="358560" cy="290160"/>
            </a:xfrm>
          </p:grpSpPr>
          <p:sp>
            <p:nvSpPr>
              <p:cNvPr id="1597" name=""/>
              <p:cNvSpPr/>
              <p:nvPr/>
            </p:nvSpPr>
            <p:spPr>
              <a:xfrm flipV="1">
                <a:off x="8121600" y="33890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7937640" y="337356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9" name=""/>
          <p:cNvSpPr/>
          <p:nvPr/>
        </p:nvSpPr>
        <p:spPr>
          <a:xfrm flipV="1">
            <a:off x="5245200" y="34286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5468760" y="388908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 flipV="1">
            <a:off x="5759280" y="3260520"/>
            <a:ext cx="57168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838840" y="256716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46840" y="3948120"/>
            <a:ext cx="1054080" cy="29844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389560" y="4202280"/>
            <a:ext cx="1658880" cy="50616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754200" y="1457280"/>
            <a:ext cx="2779560" cy="4286160"/>
            <a:chOff x="754200" y="1457280"/>
            <a:chExt cx="2779560" cy="4286160"/>
          </a:xfrm>
        </p:grpSpPr>
        <p:grpSp>
          <p:nvGrpSpPr>
            <p:cNvPr id="1606" name=""/>
            <p:cNvGrpSpPr/>
            <p:nvPr/>
          </p:nvGrpSpPr>
          <p:grpSpPr>
            <a:xfrm>
              <a:off x="785520" y="1457280"/>
              <a:ext cx="2715120" cy="1523520"/>
              <a:chOff x="785520" y="1457280"/>
              <a:chExt cx="2715120" cy="1523520"/>
            </a:xfrm>
          </p:grpSpPr>
          <p:pic>
            <p:nvPicPr>
              <p:cNvPr id="1607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844920" y="1841400"/>
                <a:ext cx="76032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8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3680" y="1457280"/>
                <a:ext cx="69696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9" name=""/>
              <p:cNvSpPr/>
              <p:nvPr/>
            </p:nvSpPr>
            <p:spPr>
              <a:xfrm rot="5400000">
                <a:off x="1164240" y="236052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5400000">
                <a:off x="1059840" y="2446560"/>
                <a:ext cx="21204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5400000">
                <a:off x="1067400" y="223200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2" name=""/>
              <p:cNvGrpSpPr/>
              <p:nvPr/>
            </p:nvGrpSpPr>
            <p:grpSpPr>
              <a:xfrm>
                <a:off x="2940120" y="2258640"/>
                <a:ext cx="414360" cy="722160"/>
                <a:chOff x="2940120" y="2258640"/>
                <a:chExt cx="414360" cy="72216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2940120" y="24872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4" name=""/>
                <p:cNvGrpSpPr/>
                <p:nvPr/>
              </p:nvGrpSpPr>
              <p:grpSpPr>
                <a:xfrm>
                  <a:off x="2968920" y="2258640"/>
                  <a:ext cx="358560" cy="290160"/>
                  <a:chOff x="2968920" y="2258640"/>
                  <a:chExt cx="358560" cy="29016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 flipV="1">
                    <a:off x="3152880" y="22741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flipV="1">
                    <a:off x="2968920" y="22586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7" name=""/>
              <p:cNvSpPr/>
              <p:nvPr/>
            </p:nvSpPr>
            <p:spPr>
              <a:xfrm>
                <a:off x="1806840" y="2835000"/>
                <a:ext cx="113184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594080" y="2734920"/>
                <a:ext cx="21276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494000" y="2633400"/>
                <a:ext cx="43668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470240" y="2835000"/>
                <a:ext cx="43812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754200" y="4064040"/>
              <a:ext cx="2779560" cy="1679400"/>
              <a:chOff x="754200" y="4064040"/>
              <a:chExt cx="2779560" cy="1679400"/>
            </a:xfrm>
          </p:grpSpPr>
          <p:pic>
            <p:nvPicPr>
              <p:cNvPr id="1622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3440" y="406404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3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680" y="455436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4" name=""/>
              <p:cNvSpPr/>
              <p:nvPr/>
            </p:nvSpPr>
            <p:spPr>
              <a:xfrm rot="5400000">
                <a:off x="1132560" y="512352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rot="5400000">
                <a:off x="1027800" y="52092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5400000">
                <a:off x="1035720" y="49950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7" name=""/>
              <p:cNvGrpSpPr/>
              <p:nvPr/>
            </p:nvGrpSpPr>
            <p:grpSpPr>
              <a:xfrm>
                <a:off x="2908440" y="5021280"/>
                <a:ext cx="414360" cy="722160"/>
                <a:chOff x="2908440" y="5021280"/>
                <a:chExt cx="414360" cy="72216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2908440" y="524988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9" name=""/>
                <p:cNvGrpSpPr/>
                <p:nvPr/>
              </p:nvGrpSpPr>
              <p:grpSpPr>
                <a:xfrm>
                  <a:off x="2937240" y="5021280"/>
                  <a:ext cx="358560" cy="290160"/>
                  <a:chOff x="2937240" y="5021280"/>
                  <a:chExt cx="358560" cy="29016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 flipV="1">
                    <a:off x="3121200" y="503676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 flipV="1">
                    <a:off x="2937240" y="502128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32" name=""/>
              <p:cNvSpPr/>
              <p:nvPr/>
            </p:nvSpPr>
            <p:spPr>
              <a:xfrm>
                <a:off x="1774800" y="559728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562400" y="549756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462320" y="539568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438560" y="559728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CC0-B23D-48B4-BC4E-FF2EDAEA1C1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Secur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7" name="gateway" descr=""/>
          <p:cNvPicPr/>
          <p:nvPr/>
        </p:nvPicPr>
        <p:blipFill>
          <a:blip r:embed="rId1"/>
          <a:stretch/>
        </p:blipFill>
        <p:spPr>
          <a:xfrm>
            <a:off x="5048280" y="217800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638" name="gateway" descr=""/>
          <p:cNvPicPr/>
          <p:nvPr/>
        </p:nvPicPr>
        <p:blipFill>
          <a:blip r:embed="rId2"/>
          <a:stretch/>
        </p:blipFill>
        <p:spPr>
          <a:xfrm>
            <a:off x="6219720" y="3035160"/>
            <a:ext cx="760680" cy="933480"/>
          </a:xfrm>
          <a:prstGeom prst="rect">
            <a:avLst/>
          </a:prstGeom>
          <a:ln w="0">
            <a:noFill/>
          </a:ln>
        </p:spPr>
      </p:pic>
      <p:pic>
        <p:nvPicPr>
          <p:cNvPr id="1639" name="gateway" descr=""/>
          <p:cNvPicPr/>
          <p:nvPr/>
        </p:nvPicPr>
        <p:blipFill>
          <a:blip r:embed="rId3"/>
          <a:stretch/>
        </p:blipFill>
        <p:spPr>
          <a:xfrm>
            <a:off x="4713120" y="34909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640" name=""/>
          <p:cNvSpPr/>
          <p:nvPr/>
        </p:nvSpPr>
        <p:spPr>
          <a:xfrm rot="5400000">
            <a:off x="5406120" y="18867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rot="5400000">
            <a:off x="4956840" y="393120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rot="5400000">
            <a:off x="6410880" y="35614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3" name="agentred" descr=""/>
          <p:cNvPicPr/>
          <p:nvPr/>
        </p:nvPicPr>
        <p:blipFill>
          <a:blip r:embed="rId4"/>
          <a:stretch/>
        </p:blipFill>
        <p:spPr>
          <a:xfrm>
            <a:off x="7740720" y="229860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644" name=""/>
          <p:cNvGrpSpPr/>
          <p:nvPr/>
        </p:nvGrpSpPr>
        <p:grpSpPr>
          <a:xfrm>
            <a:off x="7897680" y="3065400"/>
            <a:ext cx="414360" cy="722160"/>
            <a:chOff x="7897680" y="3065400"/>
            <a:chExt cx="414360" cy="722160"/>
          </a:xfrm>
        </p:grpSpPr>
        <p:sp>
          <p:nvSpPr>
            <p:cNvPr id="1645" name=""/>
            <p:cNvSpPr/>
            <p:nvPr/>
          </p:nvSpPr>
          <p:spPr>
            <a:xfrm>
              <a:off x="7897680" y="329400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6" name=""/>
            <p:cNvGrpSpPr/>
            <p:nvPr/>
          </p:nvGrpSpPr>
          <p:grpSpPr>
            <a:xfrm>
              <a:off x="7926480" y="3065400"/>
              <a:ext cx="358560" cy="290160"/>
              <a:chOff x="7926480" y="3065400"/>
              <a:chExt cx="358560" cy="290160"/>
            </a:xfrm>
          </p:grpSpPr>
          <p:sp>
            <p:nvSpPr>
              <p:cNvPr id="1647" name=""/>
              <p:cNvSpPr/>
              <p:nvPr/>
            </p:nvSpPr>
            <p:spPr>
              <a:xfrm flipV="1">
                <a:off x="8110440" y="308088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7926480" y="306540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9" name=""/>
          <p:cNvSpPr/>
          <p:nvPr/>
        </p:nvSpPr>
        <p:spPr>
          <a:xfrm flipV="1">
            <a:off x="5234040" y="31208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5457960" y="358092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 flipV="1">
            <a:off x="5748120" y="2952360"/>
            <a:ext cx="57132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827680" y="225900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35680" y="3639960"/>
            <a:ext cx="1054080" cy="29880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78400" y="3894120"/>
            <a:ext cx="1658880" cy="50652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853160" y="4606920"/>
            <a:ext cx="34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Ongoing research: market-based resource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95440" y="1301760"/>
            <a:ext cx="3119400" cy="4866120"/>
            <a:chOff x="595440" y="1301760"/>
            <a:chExt cx="3119400" cy="4866120"/>
          </a:xfrm>
        </p:grpSpPr>
        <p:grpSp>
          <p:nvGrpSpPr>
            <p:cNvPr id="1657" name=""/>
            <p:cNvGrpSpPr/>
            <p:nvPr/>
          </p:nvGrpSpPr>
          <p:grpSpPr>
            <a:xfrm>
              <a:off x="765000" y="3952800"/>
              <a:ext cx="2779560" cy="1679400"/>
              <a:chOff x="765000" y="3952800"/>
              <a:chExt cx="2779560" cy="1679400"/>
            </a:xfrm>
          </p:grpSpPr>
          <p:pic>
            <p:nvPicPr>
              <p:cNvPr id="1658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4240" y="395280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9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798480" y="444312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0" name=""/>
              <p:cNvSpPr/>
              <p:nvPr/>
            </p:nvSpPr>
            <p:spPr>
              <a:xfrm rot="5400000">
                <a:off x="1143360" y="501228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5400000">
                <a:off x="1038600" y="50979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5400000">
                <a:off x="1046520" y="48837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3" name=""/>
              <p:cNvGrpSpPr/>
              <p:nvPr/>
            </p:nvGrpSpPr>
            <p:grpSpPr>
              <a:xfrm>
                <a:off x="2919240" y="4910040"/>
                <a:ext cx="414360" cy="722160"/>
                <a:chOff x="2919240" y="4910040"/>
                <a:chExt cx="414360" cy="72216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2919240" y="51386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5" name=""/>
                <p:cNvGrpSpPr/>
                <p:nvPr/>
              </p:nvGrpSpPr>
              <p:grpSpPr>
                <a:xfrm>
                  <a:off x="2948040" y="4910040"/>
                  <a:ext cx="358560" cy="290160"/>
                  <a:chOff x="2948040" y="4910040"/>
                  <a:chExt cx="358560" cy="290160"/>
                </a:xfrm>
              </p:grpSpPr>
              <p:sp>
                <p:nvSpPr>
                  <p:cNvPr id="1666" name=""/>
                  <p:cNvSpPr/>
                  <p:nvPr/>
                </p:nvSpPr>
                <p:spPr>
                  <a:xfrm flipV="1">
                    <a:off x="3132000" y="49255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V="1">
                    <a:off x="2948040" y="49100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68" name=""/>
              <p:cNvSpPr/>
              <p:nvPr/>
            </p:nvSpPr>
            <p:spPr>
              <a:xfrm>
                <a:off x="1785600" y="548604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573200" y="538632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473120" y="528444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449360" y="548604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797040" y="1301760"/>
              <a:ext cx="2714040" cy="1523520"/>
              <a:chOff x="797040" y="1301760"/>
              <a:chExt cx="2714040" cy="1523520"/>
            </a:xfrm>
          </p:grpSpPr>
          <p:pic>
            <p:nvPicPr>
              <p:cNvPr id="1673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855720" y="1685880"/>
                <a:ext cx="75996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4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2814480" y="1301760"/>
                <a:ext cx="69660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5" name=""/>
              <p:cNvSpPr/>
              <p:nvPr/>
            </p:nvSpPr>
            <p:spPr>
              <a:xfrm rot="5400000">
                <a:off x="1175400" y="220536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5400000">
                <a:off x="1071000" y="2291040"/>
                <a:ext cx="21204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5400000">
                <a:off x="1078560" y="207684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2950920" y="2103120"/>
                <a:ext cx="414000" cy="722160"/>
                <a:chOff x="2950920" y="2103120"/>
                <a:chExt cx="414000" cy="72216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2950920" y="2331720"/>
                  <a:ext cx="41400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0" name=""/>
                <p:cNvGrpSpPr/>
                <p:nvPr/>
              </p:nvGrpSpPr>
              <p:grpSpPr>
                <a:xfrm>
                  <a:off x="2979360" y="2103120"/>
                  <a:ext cx="358200" cy="290160"/>
                  <a:chOff x="2979360" y="2103120"/>
                  <a:chExt cx="358200" cy="290160"/>
                </a:xfrm>
              </p:grpSpPr>
              <p:sp>
                <p:nvSpPr>
                  <p:cNvPr id="1681" name=""/>
                  <p:cNvSpPr/>
                  <p:nvPr/>
                </p:nvSpPr>
                <p:spPr>
                  <a:xfrm flipV="1">
                    <a:off x="3162960" y="211860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 flipV="1">
                    <a:off x="2979360" y="2103120"/>
                    <a:ext cx="35820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83" name=""/>
              <p:cNvSpPr/>
              <p:nvPr/>
            </p:nvSpPr>
            <p:spPr>
              <a:xfrm>
                <a:off x="1817640" y="2679480"/>
                <a:ext cx="113148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604880" y="2579400"/>
                <a:ext cx="21240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504800" y="2477880"/>
                <a:ext cx="43632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481040" y="2679480"/>
                <a:ext cx="43776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595440" y="2938320"/>
              <a:ext cx="311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Implemented hard limits, but not schedul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48080" y="5769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Other research grou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5E5-AA15-4241-AB53-32A07104CD4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07960" y="76320"/>
            <a:ext cx="814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’Agents: Protecting the machi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5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696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403720" y="2332080"/>
            <a:ext cx="239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Accept or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Resum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1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702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668920" y="115236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open tutorial.ppt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392200" y="3762360"/>
            <a:ext cx="3214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Access request (read) and security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{owner, untrusted machines?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85000" y="39006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Yes / no /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18480" y="390060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If yes,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046-570E-411A-A823-122D9BBC1885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985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99800" y="130320"/>
            <a:ext cx="69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tributed Computing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60240" y="1147680"/>
            <a:ext cx="7826400" cy="2273040"/>
            <a:chOff x="660240" y="1147680"/>
            <a:chExt cx="7826400" cy="2273040"/>
          </a:xfrm>
        </p:grpSpPr>
        <p:sp>
          <p:nvSpPr>
            <p:cNvPr id="73" name=""/>
            <p:cNvSpPr/>
            <p:nvPr/>
          </p:nvSpPr>
          <p:spPr>
            <a:xfrm>
              <a:off x="660240" y="1528560"/>
              <a:ext cx="914400" cy="9144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31840" y="175716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8720" y="25142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53480" y="228564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74640" y="1985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81400" y="1528560"/>
              <a:ext cx="914400" cy="9144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53000" y="175716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59880" y="25142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63920" y="182844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95800" y="1985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51560" y="114768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51560" y="236664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994360" y="129996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94360" y="221436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371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085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657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79760" y="1757160"/>
              <a:ext cx="1143000" cy="533520"/>
            </a:xfrm>
            <a:prstGeom prst="rightArrow">
              <a:avLst>
                <a:gd name="adj1" fmla="val 50000"/>
                <a:gd name="adj2" fmla="val 5355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3960" y="2900160"/>
              <a:ext cx="64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raditional” Parallel Computing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36417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4720" y="4048200"/>
            <a:ext cx="8139600" cy="2057400"/>
            <a:chOff x="504720" y="4048200"/>
            <a:chExt cx="8139600" cy="2057400"/>
          </a:xfrm>
        </p:grpSpPr>
        <p:sp>
          <p:nvSpPr>
            <p:cNvPr id="94" name=""/>
            <p:cNvSpPr/>
            <p:nvPr/>
          </p:nvSpPr>
          <p:spPr>
            <a:xfrm>
              <a:off x="733320" y="404820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5600" y="481032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47720" y="496260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2280" y="4048200"/>
              <a:ext cx="38124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95080" y="5724720"/>
              <a:ext cx="38124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62120" y="458172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62120" y="541980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14200" y="4200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5600" y="44290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875960" y="4429080"/>
              <a:ext cx="2286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14200" y="4429080"/>
              <a:ext cx="533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647360" y="53434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028600" y="48103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876320" y="564804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90720" y="50389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57400" y="4734000"/>
              <a:ext cx="1143000" cy="533520"/>
            </a:xfrm>
            <a:prstGeom prst="rightArrow">
              <a:avLst>
                <a:gd name="adj1" fmla="val 50000"/>
                <a:gd name="adj2" fmla="val 5355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68520" y="4168800"/>
              <a:ext cx="85428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63200" y="5562720"/>
              <a:ext cx="51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istributed Information Syste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4720" y="549612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33320" y="519084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61920" y="5724720"/>
              <a:ext cx="5331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EF5-CBBA-4967-8EDE-9C52CE43CCB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e managers for all langu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8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2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723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735360" y="3403440"/>
            <a:ext cx="177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ame filesystem manager (and same access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33280" y="3973680"/>
            <a:ext cx="3111480" cy="219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at application level (with normal Tcl/Java sup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54E-5EE4-46D2-B287-0C6448B5E49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cl/T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277920" y="992160"/>
            <a:ext cx="4070160" cy="5159520"/>
            <a:chOff x="277920" y="992160"/>
            <a:chExt cx="4070160" cy="5159520"/>
          </a:xfrm>
        </p:grpSpPr>
        <p:sp>
          <p:nvSpPr>
            <p:cNvPr id="1734" name=""/>
            <p:cNvSpPr/>
            <p:nvPr/>
          </p:nvSpPr>
          <p:spPr>
            <a:xfrm>
              <a:off x="277920" y="2663640"/>
              <a:ext cx="4070160" cy="34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preted script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rything is a string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t object-oriented, but has namesp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deal for “glue”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00000"/>
                </a:lnSpc>
                <a:spcBef>
                  <a:spcPts val="675"/>
                </a:spcBef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 high-level operation 1, modest processing to decide next operation, call high-level operation 2,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k provides GUI capabilit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5" name=""/>
            <p:cNvGrpSpPr/>
            <p:nvPr/>
          </p:nvGrpSpPr>
          <p:grpSpPr>
            <a:xfrm>
              <a:off x="312840" y="992160"/>
              <a:ext cx="4003560" cy="1471680"/>
              <a:chOff x="312840" y="992160"/>
              <a:chExt cx="4003560" cy="1471680"/>
            </a:xfrm>
          </p:grpSpPr>
          <p:sp>
            <p:nvSpPr>
              <p:cNvPr id="1736" name=""/>
              <p:cNvSpPr/>
              <p:nvPr/>
            </p:nvSpPr>
            <p:spPr>
              <a:xfrm>
                <a:off x="1348200" y="1530360"/>
                <a:ext cx="296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scriptics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37" name="tcl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840" y="992160"/>
                <a:ext cx="981000" cy="14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38" name=""/>
          <p:cNvSpPr/>
          <p:nvPr/>
        </p:nvSpPr>
        <p:spPr>
          <a:xfrm>
            <a:off x="4493160" y="968400"/>
            <a:ext cx="4388400" cy="520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{filenam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 open the file and read in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fd [open $filename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ntents [read $f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 $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split the file contents into a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and process each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splitContents [split $contents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line $splitContents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MAIN SCRIPT - call our only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de [catch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gent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errorMes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{$cod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ts $error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174-BF95-4262-A863-4A71E2DCFA5A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"/>
          <p:cNvGrpSpPr/>
          <p:nvPr/>
        </p:nvGrpSpPr>
        <p:grpSpPr>
          <a:xfrm>
            <a:off x="619200" y="1357200"/>
            <a:ext cx="3968640" cy="606240"/>
            <a:chOff x="619200" y="1357200"/>
            <a:chExt cx="3968640" cy="606240"/>
          </a:xfrm>
        </p:grpSpPr>
        <p:sp>
          <p:nvSpPr>
            <p:cNvPr id="1740" name=""/>
            <p:cNvSpPr/>
            <p:nvPr/>
          </p:nvSpPr>
          <p:spPr>
            <a:xfrm>
              <a:off x="619200" y="135720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73560" y="1538280"/>
              <a:ext cx="203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EX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019680" y="153828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259920" y="76320"/>
            <a:ext cx="85899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Tcl interpreter that captures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207040" y="1382760"/>
            <a:ext cx="3699000" cy="198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WHILE_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xp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WHILE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body onto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NEXT_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205240" y="4586400"/>
            <a:ext cx="3699000" cy="1694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WHILE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NEXT_COMM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WHILE_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359360" y="9795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836800" y="98748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619200" y="3092400"/>
            <a:ext cx="3968640" cy="606240"/>
            <a:chOff x="619200" y="3092400"/>
            <a:chExt cx="3968640" cy="606240"/>
          </a:xfrm>
        </p:grpSpPr>
        <p:sp>
          <p:nvSpPr>
            <p:cNvPr id="1749" name=""/>
            <p:cNvSpPr/>
            <p:nvPr/>
          </p:nvSpPr>
          <p:spPr>
            <a:xfrm>
              <a:off x="619200" y="309240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69680" y="3273120"/>
              <a:ext cx="183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ARSE_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441960" y="327312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2" name=""/>
          <p:cNvGrpSpPr/>
          <p:nvPr/>
        </p:nvGrpSpPr>
        <p:grpSpPr>
          <a:xfrm>
            <a:off x="619200" y="4543560"/>
            <a:ext cx="3968640" cy="606240"/>
            <a:chOff x="619200" y="4543560"/>
            <a:chExt cx="3968640" cy="606240"/>
          </a:xfrm>
        </p:grpSpPr>
        <p:sp>
          <p:nvSpPr>
            <p:cNvPr id="1753" name=""/>
            <p:cNvSpPr/>
            <p:nvPr/>
          </p:nvSpPr>
          <p:spPr>
            <a:xfrm>
              <a:off x="619200" y="454356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985320" y="47466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019680" y="474660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619200" y="2532240"/>
            <a:ext cx="3968640" cy="606240"/>
            <a:chOff x="619200" y="2532240"/>
            <a:chExt cx="3968640" cy="606240"/>
          </a:xfrm>
        </p:grpSpPr>
        <p:sp>
          <p:nvSpPr>
            <p:cNvPr id="1757" name=""/>
            <p:cNvSpPr/>
            <p:nvPr/>
          </p:nvSpPr>
          <p:spPr>
            <a:xfrm>
              <a:off x="619200" y="253224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985320" y="27018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019680" y="270180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0" name=""/>
          <p:cNvSpPr/>
          <p:nvPr/>
        </p:nvSpPr>
        <p:spPr>
          <a:xfrm>
            <a:off x="4565520" y="1666800"/>
            <a:ext cx="773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286280" y="3916440"/>
            <a:ext cx="26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valuate and pop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567320" y="4856040"/>
            <a:ext cx="772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631960" y="3708360"/>
            <a:ext cx="0" cy="274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631960" y="4297320"/>
            <a:ext cx="0" cy="274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-228600" y="2006640"/>
            <a:ext cx="6021360" cy="4141800"/>
          </a:xfrm>
          <a:custGeom>
            <a:avLst/>
            <a:gdLst/>
            <a:ahLst/>
            <a:rect l="l" t="t" r="r" b="b"/>
            <a:pathLst>
              <a:path w="3737" h="2624">
                <a:moveTo>
                  <a:pt x="3737" y="2534"/>
                </a:moveTo>
                <a:cubicBezTo>
                  <a:pt x="2407" y="2579"/>
                  <a:pt x="1078" y="2624"/>
                  <a:pt x="539" y="2202"/>
                </a:cubicBezTo>
                <a:cubicBezTo>
                  <a:pt x="0" y="1780"/>
                  <a:pt x="252" y="890"/>
                  <a:pt x="504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4549680" y="2467080"/>
            <a:ext cx="1209600" cy="64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C11-A0A7-487E-A7A7-C54F1FF21C4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48320" y="1411200"/>
            <a:ext cx="4234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ster with the local age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name &lt;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tain a name in the name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gister and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573960" y="1162080"/>
            <a:ext cx="1233360" cy="6602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0" name="agentred" descr=""/>
          <p:cNvPicPr/>
          <p:nvPr/>
        </p:nvPicPr>
        <p:blipFill>
          <a:blip r:embed="rId1"/>
          <a:stretch/>
        </p:blipFill>
        <p:spPr>
          <a:xfrm>
            <a:off x="6872400" y="2292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1771" name=""/>
          <p:cNvSpPr/>
          <p:nvPr/>
        </p:nvSpPr>
        <p:spPr>
          <a:xfrm>
            <a:off x="4356720" y="1222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425920" y="2813040"/>
            <a:ext cx="3470400" cy="111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402160" y="2630520"/>
            <a:ext cx="0" cy="40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8921880" y="2631960"/>
            <a:ext cx="0" cy="40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5400720" y="176184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5630760" y="176328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465000" y="31082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nam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 flipV="1">
            <a:off x="7521480" y="1779120"/>
            <a:ext cx="1378080" cy="103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986160" y="3106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33096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3588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759280" y="1546200"/>
            <a:ext cx="460440" cy="6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6028920" y="2308320"/>
            <a:ext cx="25740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H="1">
            <a:off x="8008920" y="2360520"/>
            <a:ext cx="257040" cy="78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55520" y="4249800"/>
            <a:ext cx="4256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agent&gt; &lt;code&gt; &lt;str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a message to a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gent_rece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varname&gt; &lt;varnam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79280" y="380376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7147080" y="4449600"/>
            <a:ext cx="1780920" cy="716040"/>
            <a:chOff x="7147080" y="4449600"/>
            <a:chExt cx="1780920" cy="716040"/>
          </a:xfrm>
        </p:grpSpPr>
        <p:sp>
          <p:nvSpPr>
            <p:cNvPr id="1788" name=""/>
            <p:cNvSpPr/>
            <p:nvPr/>
          </p:nvSpPr>
          <p:spPr>
            <a:xfrm>
              <a:off x="7147080" y="4751280"/>
              <a:ext cx="1780920" cy="414360"/>
            </a:xfrm>
            <a:prstGeom prst="parallelogram">
              <a:avLst>
                <a:gd name="adj" fmla="val 1476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9" name="agentred" descr=""/>
            <p:cNvPicPr/>
            <p:nvPr/>
          </p:nvPicPr>
          <p:blipFill>
            <a:blip r:embed="rId2"/>
            <a:stretch/>
          </p:blipFill>
          <p:spPr>
            <a:xfrm>
              <a:off x="7803720" y="4449600"/>
              <a:ext cx="50940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0" name=""/>
          <p:cNvSpPr/>
          <p:nvPr/>
        </p:nvSpPr>
        <p:spPr>
          <a:xfrm>
            <a:off x="7311960" y="58356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4505400" y="5127480"/>
            <a:ext cx="1781280" cy="716040"/>
            <a:chOff x="4505400" y="5127480"/>
            <a:chExt cx="1781280" cy="716040"/>
          </a:xfrm>
        </p:grpSpPr>
        <p:sp>
          <p:nvSpPr>
            <p:cNvPr id="1792" name=""/>
            <p:cNvSpPr/>
            <p:nvPr/>
          </p:nvSpPr>
          <p:spPr>
            <a:xfrm>
              <a:off x="4505400" y="5429160"/>
              <a:ext cx="1781280" cy="414360"/>
            </a:xfrm>
            <a:prstGeom prst="parallelogram">
              <a:avLst>
                <a:gd name="adj" fmla="val 1476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3" name="agentred" descr=""/>
            <p:cNvPicPr/>
            <p:nvPr/>
          </p:nvPicPr>
          <p:blipFill>
            <a:blip r:embed="rId3"/>
            <a:stretch/>
          </p:blipFill>
          <p:spPr>
            <a:xfrm>
              <a:off x="5162400" y="5127480"/>
              <a:ext cx="50976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4" name=""/>
          <p:cNvSpPr/>
          <p:nvPr/>
        </p:nvSpPr>
        <p:spPr>
          <a:xfrm>
            <a:off x="4682880" y="58374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5703840" y="4617720"/>
            <a:ext cx="209556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163040" y="401148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send {B database} 0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388200" y="4370400"/>
            <a:ext cx="25704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867080" y="11444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6989760" y="4492800"/>
            <a:ext cx="383760" cy="183960"/>
            <a:chOff x="6989760" y="4492800"/>
            <a:chExt cx="383760" cy="183960"/>
          </a:xfrm>
        </p:grpSpPr>
        <p:sp>
          <p:nvSpPr>
            <p:cNvPr id="1800" name=""/>
            <p:cNvSpPr/>
            <p:nvPr/>
          </p:nvSpPr>
          <p:spPr>
            <a:xfrm>
              <a:off x="6992640" y="4492800"/>
              <a:ext cx="380880" cy="183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1" name=""/>
            <p:cNvGrpSpPr/>
            <p:nvPr/>
          </p:nvGrpSpPr>
          <p:grpSpPr>
            <a:xfrm>
              <a:off x="6989760" y="4494960"/>
              <a:ext cx="383400" cy="82440"/>
              <a:chOff x="6989760" y="4494960"/>
              <a:chExt cx="383400" cy="82440"/>
            </a:xfrm>
          </p:grpSpPr>
          <p:sp>
            <p:nvSpPr>
              <p:cNvPr id="1802" name=""/>
              <p:cNvSpPr/>
              <p:nvPr/>
            </p:nvSpPr>
            <p:spPr>
              <a:xfrm>
                <a:off x="6989760" y="4500360"/>
                <a:ext cx="191880" cy="7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>
                <a:off x="7181280" y="4494960"/>
                <a:ext cx="19188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4" name=""/>
          <p:cNvSpPr/>
          <p:nvPr/>
        </p:nvSpPr>
        <p:spPr>
          <a:xfrm>
            <a:off x="6314040" y="5351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receive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7989840" y="4964040"/>
            <a:ext cx="77760" cy="43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F4E-BE51-4037-B1CD-7B0B926C600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79280" y="331488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27080" y="1344600"/>
            <a:ext cx="4255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 to a new machine and continue from the point of the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63536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84540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000760" y="158904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699160" y="2057400"/>
            <a:ext cx="1563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3" name="agentred" descr=""/>
          <p:cNvPicPr/>
          <p:nvPr/>
        </p:nvPicPr>
        <p:blipFill>
          <a:blip r:embed="rId1"/>
          <a:stretch/>
        </p:blipFill>
        <p:spPr>
          <a:xfrm>
            <a:off x="7277040" y="16002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14" name=""/>
          <p:cNvSpPr/>
          <p:nvPr/>
        </p:nvSpPr>
        <p:spPr>
          <a:xfrm>
            <a:off x="6951600" y="2475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829040" y="2476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571720" y="11127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578640" y="1469880"/>
            <a:ext cx="245880" cy="58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127080" y="4184640"/>
            <a:ext cx="425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&lt;procedur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&lt;variabl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&lt;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new (child)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4277160" y="3440160"/>
            <a:ext cx="4757040" cy="3005640"/>
            <a:chOff x="4277160" y="3440160"/>
            <a:chExt cx="4757040" cy="3005640"/>
          </a:xfrm>
        </p:grpSpPr>
        <p:sp>
          <p:nvSpPr>
            <p:cNvPr id="1820" name=""/>
            <p:cNvSpPr/>
            <p:nvPr/>
          </p:nvSpPr>
          <p:spPr>
            <a:xfrm>
              <a:off x="4538880" y="40053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593040" y="554184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2" name="agentred" descr=""/>
            <p:cNvPicPr/>
            <p:nvPr/>
          </p:nvPicPr>
          <p:blipFill>
            <a:blip r:embed="rId2"/>
            <a:stretch/>
          </p:blipFill>
          <p:spPr>
            <a:xfrm>
              <a:off x="7024680" y="517212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"/>
            <p:cNvSpPr/>
            <p:nvPr/>
          </p:nvSpPr>
          <p:spPr>
            <a:xfrm>
              <a:off x="6699240" y="604692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732200" y="451152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5" name="agentred" descr=""/>
            <p:cNvPicPr/>
            <p:nvPr/>
          </p:nvPicPr>
          <p:blipFill>
            <a:blip r:embed="rId3"/>
            <a:stretch/>
          </p:blipFill>
          <p:spPr>
            <a:xfrm>
              <a:off x="5069160" y="360828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5748480" y="4124160"/>
              <a:ext cx="1266840" cy="10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47440" y="3440160"/>
              <a:ext cx="2786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1. agent_submi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procs 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vars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scri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{search $quer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6656040" y="4627440"/>
              <a:ext cx="157320" cy="258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277160" y="529740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2.search $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6510240" y="5378400"/>
              <a:ext cx="51588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E7E-9B6C-46E9-844A-19ED5DFE518F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26880" y="3166920"/>
            <a:ext cx="425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e an agent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chil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930920" y="24829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985080" y="401940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5" name="agentred" descr=""/>
          <p:cNvPicPr/>
          <p:nvPr/>
        </p:nvPicPr>
        <p:blipFill>
          <a:blip r:embed="rId1"/>
          <a:stretch/>
        </p:blipFill>
        <p:spPr>
          <a:xfrm>
            <a:off x="7416720" y="364968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36" name=""/>
          <p:cNvSpPr/>
          <p:nvPr/>
        </p:nvSpPr>
        <p:spPr>
          <a:xfrm>
            <a:off x="7091280" y="45244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124240" y="2989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8" name="agentred" descr=""/>
          <p:cNvPicPr/>
          <p:nvPr/>
        </p:nvPicPr>
        <p:blipFill>
          <a:blip r:embed="rId2"/>
          <a:stretch/>
        </p:blipFill>
        <p:spPr>
          <a:xfrm>
            <a:off x="5460840" y="208584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39" name=""/>
          <p:cNvSpPr/>
          <p:nvPr/>
        </p:nvSpPr>
        <p:spPr>
          <a:xfrm>
            <a:off x="6140520" y="2602080"/>
            <a:ext cx="1266840" cy="104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932160" y="2712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7048080" y="3105000"/>
            <a:ext cx="15732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334120" y="348624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xact copy that continues from fork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6902280" y="3855960"/>
            <a:ext cx="516240" cy="10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A2A-73DC-452E-9FA4-637AECB4F292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featu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951840" y="1289160"/>
            <a:ext cx="7237800" cy="4435560"/>
            <a:chOff x="951840" y="1289160"/>
            <a:chExt cx="7237800" cy="4435560"/>
          </a:xfrm>
        </p:grpSpPr>
        <p:sp>
          <p:nvSpPr>
            <p:cNvPr id="1846" name=""/>
            <p:cNvSpPr/>
            <p:nvPr/>
          </p:nvSpPr>
          <p:spPr>
            <a:xfrm>
              <a:off x="1278000" y="141156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eet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88960" y="2387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951840" y="3357720"/>
              <a:ext cx="202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tus rep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039680" y="421020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t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965520" y="4899240"/>
              <a:ext cx="199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vent-dr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154320" y="12891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ond communication mechanism (direct connection between ag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154320" y="22654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it for a message, meeting request, data arriving over a meeting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154320" y="32356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ich agents are running on machine A?  Who owns agent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154320" y="4240440"/>
              <a:ext cx="503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ssage from server on agent birth or de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154320" y="49593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nt handlers for all types of incoming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15A-6BDF-434F-B142-1D02336FC715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ming sche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225720" y="1224000"/>
            <a:ext cx="8675280" cy="3539880"/>
            <a:chOff x="225720" y="1224000"/>
            <a:chExt cx="8675280" cy="3539880"/>
          </a:xfrm>
        </p:grpSpPr>
        <p:grpSp>
          <p:nvGrpSpPr>
            <p:cNvPr id="1858" name=""/>
            <p:cNvGrpSpPr/>
            <p:nvPr/>
          </p:nvGrpSpPr>
          <p:grpSpPr>
            <a:xfrm>
              <a:off x="5054400" y="3630600"/>
              <a:ext cx="1781280" cy="1133280"/>
              <a:chOff x="5054400" y="3630600"/>
              <a:chExt cx="1781280" cy="1133280"/>
            </a:xfrm>
          </p:grpSpPr>
          <p:grpSp>
            <p:nvGrpSpPr>
              <p:cNvPr id="1859" name=""/>
              <p:cNvGrpSpPr/>
              <p:nvPr/>
            </p:nvGrpSpPr>
            <p:grpSpPr>
              <a:xfrm>
                <a:off x="5054400" y="3630600"/>
                <a:ext cx="1781280" cy="715320"/>
                <a:chOff x="5054400" y="3630600"/>
                <a:chExt cx="1781280" cy="715320"/>
              </a:xfrm>
            </p:grpSpPr>
            <p:sp>
              <p:nvSpPr>
                <p:cNvPr id="1860" name=""/>
                <p:cNvSpPr/>
                <p:nvPr/>
              </p:nvSpPr>
              <p:spPr>
                <a:xfrm>
                  <a:off x="5054400" y="3931920"/>
                  <a:ext cx="1781280" cy="414000"/>
                </a:xfrm>
                <a:prstGeom prst="parallelogram">
                  <a:avLst>
                    <a:gd name="adj" fmla="val 147782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1" name="agentred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1400" y="3630600"/>
                  <a:ext cx="509760" cy="52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62" name=""/>
              <p:cNvSpPr/>
              <p:nvPr/>
            </p:nvSpPr>
            <p:spPr>
              <a:xfrm>
                <a:off x="5221080" y="4365000"/>
                <a:ext cx="136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919080" y="3625560"/>
              <a:ext cx="1780920" cy="1108440"/>
              <a:chOff x="919080" y="3625560"/>
              <a:chExt cx="1780920" cy="1108440"/>
            </a:xfrm>
          </p:grpSpPr>
          <p:grpSp>
            <p:nvGrpSpPr>
              <p:cNvPr id="1864" name=""/>
              <p:cNvGrpSpPr/>
              <p:nvPr/>
            </p:nvGrpSpPr>
            <p:grpSpPr>
              <a:xfrm>
                <a:off x="919080" y="3625560"/>
                <a:ext cx="1780920" cy="716040"/>
                <a:chOff x="919080" y="3625560"/>
                <a:chExt cx="1780920" cy="71604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919080" y="3927240"/>
                  <a:ext cx="1780920" cy="414360"/>
                </a:xfrm>
                <a:prstGeom prst="parallelogram">
                  <a:avLst>
                    <a:gd name="adj" fmla="val 147624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6" name="agentred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5720" y="3625560"/>
                  <a:ext cx="50940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67" name=""/>
              <p:cNvSpPr/>
              <p:nvPr/>
            </p:nvSpPr>
            <p:spPr>
              <a:xfrm>
                <a:off x="1096560" y="4335120"/>
                <a:ext cx="137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8" name=""/>
            <p:cNvSpPr/>
            <p:nvPr/>
          </p:nvSpPr>
          <p:spPr>
            <a:xfrm flipV="1">
              <a:off x="2118960" y="3774960"/>
              <a:ext cx="3584880" cy="6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5720" y="2665440"/>
              <a:ext cx="278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TR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17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0" name=""/>
            <p:cNvGrpSpPr/>
            <p:nvPr/>
          </p:nvGrpSpPr>
          <p:grpSpPr>
            <a:xfrm>
              <a:off x="3740040" y="3560760"/>
              <a:ext cx="383760" cy="183600"/>
              <a:chOff x="3740040" y="3560760"/>
              <a:chExt cx="383760" cy="183600"/>
            </a:xfrm>
          </p:grpSpPr>
          <p:sp>
            <p:nvSpPr>
              <p:cNvPr id="1871" name=""/>
              <p:cNvSpPr/>
              <p:nvPr/>
            </p:nvSpPr>
            <p:spPr>
              <a:xfrm>
                <a:off x="3742920" y="3560760"/>
                <a:ext cx="380880" cy="183600"/>
              </a:xfrm>
              <a:prstGeom prst="rect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2" name=""/>
              <p:cNvGrpSpPr/>
              <p:nvPr/>
            </p:nvGrpSpPr>
            <p:grpSpPr>
              <a:xfrm>
                <a:off x="3740040" y="3562920"/>
                <a:ext cx="383400" cy="82080"/>
                <a:chOff x="3740040" y="3562920"/>
                <a:chExt cx="383400" cy="8208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3740040" y="3568320"/>
                  <a:ext cx="191880" cy="76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H="1">
                  <a:off x="3931560" y="3562920"/>
                  <a:ext cx="191880" cy="820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5" name=""/>
            <p:cNvSpPr/>
            <p:nvPr/>
          </p:nvSpPr>
          <p:spPr>
            <a:xfrm>
              <a:off x="5029560" y="323676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B, “TR”, 17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689280" y="2112840"/>
              <a:ext cx="1212840" cy="70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028840" y="1224000"/>
              <a:ext cx="187344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mbolic name (chosen by ag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027560" y="1503360"/>
              <a:ext cx="1873440" cy="1313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eric id (chosen by system, unique per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673520" y="2855880"/>
              <a:ext cx="54900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940360" y="2273040"/>
              <a:ext cx="5544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6578280" y="2855880"/>
              <a:ext cx="72864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551880" y="5284800"/>
            <a:ext cx="803340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ing through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ello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A5D-8CC0-4269-928C-43495B301920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skeleton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76120" y="1054080"/>
            <a:ext cx="4248360" cy="48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child {machine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 task, updat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518120" y="60357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151600" y="113832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submit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machines {A B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agent(local-server)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child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machin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{child $machine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de string -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136920" y="60372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527720" y="4202280"/>
            <a:ext cx="660240" cy="17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 flipV="1">
            <a:off x="4527360" y="1053720"/>
            <a:ext cx="67140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1675-598D-4F94-BF0F-3083827DE765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who”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400760" y="55897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43000" y="1349280"/>
            <a:ext cx="4079880" cy="416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end results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ec who &lt;&lt; {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711680" y="4041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840200" y="4567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126120" y="17636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385040" y="1327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7" name="agentred" descr=""/>
          <p:cNvPicPr/>
          <p:nvPr/>
        </p:nvPicPr>
        <p:blipFill>
          <a:blip r:embed="rId2"/>
          <a:stretch/>
        </p:blipFill>
        <p:spPr>
          <a:xfrm>
            <a:off x="6656400" y="136692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98" name=""/>
          <p:cNvSpPr/>
          <p:nvPr/>
        </p:nvSpPr>
        <p:spPr>
          <a:xfrm>
            <a:off x="7093080" y="405288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221240" y="4576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481880" y="367992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441560" y="3348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2" name="agentred" descr=""/>
          <p:cNvPicPr/>
          <p:nvPr/>
        </p:nvPicPr>
        <p:blipFill>
          <a:blip r:embed="rId3"/>
          <a:stretch/>
        </p:blipFill>
        <p:spPr>
          <a:xfrm>
            <a:off x="5151600" y="36720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903" name=""/>
          <p:cNvSpPr/>
          <p:nvPr/>
        </p:nvSpPr>
        <p:spPr>
          <a:xfrm>
            <a:off x="5108040" y="33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351560" y="2151000"/>
            <a:ext cx="436680" cy="1211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639200" y="228132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Submit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194600" y="4975200"/>
            <a:ext cx="673200" cy="897120"/>
          </a:xfrm>
          <a:custGeom>
            <a:avLst/>
            <a:gdLst/>
            <a:ahLst/>
            <a:rect l="l" t="t" r="r" b="b"/>
            <a:pathLst>
              <a:path w="375" h="593">
                <a:moveTo>
                  <a:pt x="375" y="0"/>
                </a:moveTo>
                <a:cubicBezTo>
                  <a:pt x="374" y="141"/>
                  <a:pt x="373" y="282"/>
                  <a:pt x="311" y="381"/>
                </a:cubicBezTo>
                <a:cubicBezTo>
                  <a:pt x="249" y="480"/>
                  <a:pt x="124" y="536"/>
                  <a:pt x="0" y="59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622920" y="54500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5535720" y="4986360"/>
            <a:ext cx="1009440" cy="896760"/>
          </a:xfrm>
          <a:custGeom>
            <a:avLst/>
            <a:gdLst/>
            <a:ahLst/>
            <a:rect l="l" t="t" r="r" b="b"/>
            <a:pathLst>
              <a:path w="636" h="565">
                <a:moveTo>
                  <a:pt x="636" y="565"/>
                </a:moveTo>
                <a:cubicBezTo>
                  <a:pt x="466" y="527"/>
                  <a:pt x="297" y="489"/>
                  <a:pt x="191" y="395"/>
                </a:cubicBezTo>
                <a:cubicBezTo>
                  <a:pt x="85" y="301"/>
                  <a:pt x="42" y="15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273720" y="5284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5502240" y="2139840"/>
            <a:ext cx="1120680" cy="122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567320" y="2209680"/>
            <a:ext cx="14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end list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23E-EB05-4D54-8AB4-24664BCB99FA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what’s new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440" y="2263680"/>
            <a:ext cx="7929000" cy="33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d services are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different administrative domains, forma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dynamically chan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ources appear and disapp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on data can be one-of-a-k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simulations and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ssimi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95760" y="136440"/>
            <a:ext cx="3353040" cy="228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5680" y="5126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9C6-BA3C-44D3-88E0-04350F7AE9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3" name="smart" descr=""/>
          <p:cNvPicPr/>
          <p:nvPr/>
        </p:nvPicPr>
        <p:blipFill>
          <a:blip r:embed="rId1"/>
          <a:stretch/>
        </p:blipFill>
        <p:spPr>
          <a:xfrm>
            <a:off x="1030320" y="10270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1914" name="list" descr=""/>
          <p:cNvPicPr/>
          <p:nvPr/>
        </p:nvPicPr>
        <p:blipFill>
          <a:blip r:embed="rId2"/>
          <a:stretch/>
        </p:blipFill>
        <p:spPr>
          <a:xfrm>
            <a:off x="216000" y="22478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1915" name=""/>
          <p:cNvSpPr/>
          <p:nvPr/>
        </p:nvSpPr>
        <p:spPr>
          <a:xfrm>
            <a:off x="365760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6" name="agentred" descr=""/>
          <p:cNvPicPr/>
          <p:nvPr/>
        </p:nvPicPr>
        <p:blipFill>
          <a:blip r:embed="rId3"/>
          <a:stretch/>
        </p:blipFill>
        <p:spPr>
          <a:xfrm>
            <a:off x="390852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917" name=""/>
          <p:cNvSpPr/>
          <p:nvPr/>
        </p:nvSpPr>
        <p:spPr>
          <a:xfrm>
            <a:off x="2095560" y="24098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554200" y="29462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153680" y="160164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Ask fo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663560" y="5373720"/>
            <a:ext cx="20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017800" y="40766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416000" y="582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7015320" y="4835520"/>
            <a:ext cx="1828800" cy="969840"/>
            <a:chOff x="7015320" y="4835520"/>
            <a:chExt cx="1828800" cy="969840"/>
          </a:xfrm>
        </p:grpSpPr>
        <p:sp>
          <p:nvSpPr>
            <p:cNvPr id="1924" name=""/>
            <p:cNvSpPr/>
            <p:nvPr/>
          </p:nvSpPr>
          <p:spPr>
            <a:xfrm>
              <a:off x="7015320" y="52722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974360" y="48355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6" name="agentred" descr=""/>
            <p:cNvPicPr/>
            <p:nvPr/>
          </p:nvPicPr>
          <p:blipFill>
            <a:blip r:embed="rId4"/>
            <a:stretch/>
          </p:blipFill>
          <p:spPr>
            <a:xfrm>
              <a:off x="7216920" y="53118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7" name=""/>
          <p:cNvSpPr/>
          <p:nvPr/>
        </p:nvSpPr>
        <p:spPr>
          <a:xfrm>
            <a:off x="7463880" y="26114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7032600" y="1646280"/>
            <a:ext cx="1828800" cy="960120"/>
            <a:chOff x="7032600" y="1646280"/>
            <a:chExt cx="1828800" cy="960120"/>
          </a:xfrm>
        </p:grpSpPr>
        <p:sp>
          <p:nvSpPr>
            <p:cNvPr id="1929" name=""/>
            <p:cNvSpPr/>
            <p:nvPr/>
          </p:nvSpPr>
          <p:spPr>
            <a:xfrm>
              <a:off x="7032600" y="20732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011800" y="16462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1" name="agentred" descr=""/>
            <p:cNvPicPr/>
            <p:nvPr/>
          </p:nvPicPr>
          <p:blipFill>
            <a:blip r:embed="rId5"/>
            <a:stretch/>
          </p:blipFill>
          <p:spPr>
            <a:xfrm>
              <a:off x="7254720" y="21128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2" name=""/>
          <p:cNvSpPr/>
          <p:nvPr/>
        </p:nvSpPr>
        <p:spPr>
          <a:xfrm flipV="1">
            <a:off x="4594320" y="25650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583160" y="50418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373720" y="41403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Submit search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 Collec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7710480" y="20494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7664400" y="52430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046320" y="3198960"/>
            <a:ext cx="19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3120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28520" y="4062240"/>
            <a:ext cx="16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0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913440" y="90000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 Quer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 Return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381800" y="3189240"/>
            <a:ext cx="17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ocumen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3E9-20FB-48AD-BE4B-C5023724FB92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2530080" y="76320"/>
            <a:ext cx="602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Talking to the us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084400" y="1025640"/>
            <a:ext cx="683892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gister with the ag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-nonewline “Enter a query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 stdin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roxy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bal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collections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uir tiog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arent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proxy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the proxy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{proxyAgent searchAgent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parent query collections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proxyAgent $parent $query $collection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ceive the query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“Query results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0720" y="32018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-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71360" y="5383080"/>
            <a:ext cx="18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C0D-B17B-4089-BCCD-8589249911FD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2085840" y="75960"/>
            <a:ext cx="66852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itting in the middle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984320" y="925560"/>
            <a:ext cx="6883560" cy="5385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proxyAgent {parent query collection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numCollections [llength $numColle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; set parent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collections {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sear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machin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parent query} -proclist searchAgent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searchAgent $que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{set i 0} {i &lt; $numCollections} {incr i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col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ode partial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erge into results so f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35080" y="276696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front-en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66680" y="550548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665-64B6-40E2-A4DB-33B60DD03B30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2019240" y="7632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: Searching the colle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984320" y="1014480"/>
            <a:ext cx="688356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searchAgent {parent query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the query to the database interfac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nd receive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“$agent(local-server) TR”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 “keyword-query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in a more complex version of the TR, u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bstract of the most relevant document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new query, compare the two result list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the results and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35080" y="273384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proxy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268-5B52-4A74-8DE2-F13EC9274AA3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4" name="smart" descr=""/>
          <p:cNvPicPr/>
          <p:nvPr/>
        </p:nvPicPr>
        <p:blipFill>
          <a:blip r:embed="rId1"/>
          <a:stretch/>
        </p:blipFill>
        <p:spPr>
          <a:xfrm>
            <a:off x="1041480" y="12826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1955" name="list" descr=""/>
          <p:cNvPicPr/>
          <p:nvPr/>
        </p:nvPicPr>
        <p:blipFill>
          <a:blip r:embed="rId2"/>
          <a:stretch/>
        </p:blipFill>
        <p:spPr>
          <a:xfrm>
            <a:off x="227160" y="25034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1956" name=""/>
          <p:cNvSpPr/>
          <p:nvPr/>
        </p:nvSpPr>
        <p:spPr>
          <a:xfrm>
            <a:off x="3668760" y="5386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7" name="agentred" descr=""/>
          <p:cNvPicPr/>
          <p:nvPr/>
        </p:nvPicPr>
        <p:blipFill>
          <a:blip r:embed="rId3"/>
          <a:stretch/>
        </p:blipFill>
        <p:spPr>
          <a:xfrm>
            <a:off x="3919680" y="51577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958" name=""/>
          <p:cNvSpPr/>
          <p:nvPr/>
        </p:nvSpPr>
        <p:spPr>
          <a:xfrm>
            <a:off x="2106720" y="2665440"/>
            <a:ext cx="53316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565360" y="32018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178160" y="1738440"/>
            <a:ext cx="24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gets stdin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181160" y="5649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8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028960" y="43322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7026120" y="5091120"/>
            <a:ext cx="1828800" cy="969840"/>
            <a:chOff x="7026120" y="5091120"/>
            <a:chExt cx="1828800" cy="969840"/>
          </a:xfrm>
        </p:grpSpPr>
        <p:sp>
          <p:nvSpPr>
            <p:cNvPr id="1964" name=""/>
            <p:cNvSpPr/>
            <p:nvPr/>
          </p:nvSpPr>
          <p:spPr>
            <a:xfrm>
              <a:off x="7026120" y="55278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985160" y="50911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6" name="agentred" descr=""/>
            <p:cNvPicPr/>
            <p:nvPr/>
          </p:nvPicPr>
          <p:blipFill>
            <a:blip r:embed="rId4"/>
            <a:stretch/>
          </p:blipFill>
          <p:spPr>
            <a:xfrm>
              <a:off x="7227720" y="55674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7" name=""/>
          <p:cNvGrpSpPr/>
          <p:nvPr/>
        </p:nvGrpSpPr>
        <p:grpSpPr>
          <a:xfrm>
            <a:off x="7043760" y="1901880"/>
            <a:ext cx="1828800" cy="960120"/>
            <a:chOff x="7043760" y="1901880"/>
            <a:chExt cx="1828800" cy="960120"/>
          </a:xfrm>
        </p:grpSpPr>
        <p:sp>
          <p:nvSpPr>
            <p:cNvPr id="1968" name=""/>
            <p:cNvSpPr/>
            <p:nvPr/>
          </p:nvSpPr>
          <p:spPr>
            <a:xfrm>
              <a:off x="7043760" y="23288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22960" y="19018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0" name="agentred" descr=""/>
            <p:cNvPicPr/>
            <p:nvPr/>
          </p:nvPicPr>
          <p:blipFill>
            <a:blip r:embed="rId5"/>
            <a:stretch/>
          </p:blipFill>
          <p:spPr>
            <a:xfrm>
              <a:off x="7265880" y="23684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1" name=""/>
          <p:cNvSpPr/>
          <p:nvPr/>
        </p:nvSpPr>
        <p:spPr>
          <a:xfrm flipV="1">
            <a:off x="4605480" y="28206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594320" y="52974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V="1">
            <a:off x="7721640" y="23050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V="1">
            <a:off x="7675560" y="54986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790720" y="313848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submit proxy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654960" y="968400"/>
            <a:ext cx="248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gent_sen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384880" y="4398840"/>
            <a:ext cx="24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. agent_submit search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. 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11240" y="4311720"/>
            <a:ext cx="21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9. 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0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5E2-2699-4197-B830-C0F52D0CA230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293040" y="762120"/>
            <a:ext cx="3304080" cy="5487480"/>
            <a:chOff x="293040" y="762120"/>
            <a:chExt cx="3304080" cy="5487480"/>
          </a:xfrm>
        </p:grpSpPr>
        <p:grpSp>
          <p:nvGrpSpPr>
            <p:cNvPr id="1981" name=""/>
            <p:cNvGrpSpPr/>
            <p:nvPr/>
          </p:nvGrpSpPr>
          <p:grpSpPr>
            <a:xfrm>
              <a:off x="293040" y="762120"/>
              <a:ext cx="2931480" cy="1725840"/>
              <a:chOff x="293040" y="762120"/>
              <a:chExt cx="2931480" cy="1725840"/>
            </a:xfrm>
          </p:grpSpPr>
          <p:pic>
            <p:nvPicPr>
              <p:cNvPr id="1982" name="java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1366560" y="762120"/>
                <a:ext cx="783720" cy="13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3" name=""/>
              <p:cNvSpPr/>
              <p:nvPr/>
            </p:nvSpPr>
            <p:spPr>
              <a:xfrm>
                <a:off x="293040" y="2089080"/>
                <a:ext cx="293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javasoft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4" name=""/>
            <p:cNvSpPr/>
            <p:nvPr/>
          </p:nvSpPr>
          <p:spPr>
            <a:xfrm>
              <a:off x="299880" y="2755800"/>
              <a:ext cx="3297240" cy="34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ilar to 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bject-ori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inter-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arbage-colle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lti-threa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iled into byteco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ack-based V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uch faster than T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5" name=""/>
          <p:cNvSpPr/>
          <p:nvPr/>
        </p:nvSpPr>
        <p:spPr>
          <a:xfrm>
            <a:off x="4022640" y="954000"/>
            <a:ext cx="4754160" cy="5189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class Rectang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width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heigh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onstr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Rectangle(int w, int h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is(w, 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ompute the area of the recta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area (voi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 UseRectangle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tangle r = new Rectangle (10, 2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a = r.area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E13-B1FF-4B19-A4A9-2B60F8B8E988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352080" y="7632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Java VM that capture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hrea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142720" y="17892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243880" y="269892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37680" y="367992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886040" y="3573360"/>
            <a:ext cx="990360" cy="18288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1886040" y="1440000"/>
            <a:ext cx="0" cy="4952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886040" y="144000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790800" y="1440000"/>
            <a:ext cx="0" cy="4952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1886040" y="6240240"/>
            <a:ext cx="22860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114640" y="6240600"/>
            <a:ext cx="7596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2190600" y="6087600"/>
            <a:ext cx="152640" cy="2286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343240" y="6087960"/>
            <a:ext cx="152280" cy="15264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2495520" y="6164280"/>
            <a:ext cx="304920" cy="7632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800440" y="6164280"/>
            <a:ext cx="15228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2952720" y="6012000"/>
            <a:ext cx="228600" cy="3045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181320" y="6012000"/>
            <a:ext cx="7632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257640" y="6087960"/>
            <a:ext cx="759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333600" y="6087960"/>
            <a:ext cx="152640" cy="2286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3562200" y="6240240"/>
            <a:ext cx="7632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638520" y="6240600"/>
            <a:ext cx="15228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486240" y="6316560"/>
            <a:ext cx="759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86040" y="5402160"/>
            <a:ext cx="19047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86040" y="250668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86040" y="35733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2876400" y="357336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886040" y="40305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886040" y="44877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886040" y="49449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54960" y="35971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126160" y="40417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126160" y="494496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055240" y="45115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883160" y="97488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read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34000" y="4414680"/>
            <a:ext cx="1463760" cy="1371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819360" y="4910040"/>
            <a:ext cx="648720" cy="398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491000" y="2789280"/>
            <a:ext cx="60660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459400" y="222408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302600" y="3241800"/>
            <a:ext cx="60624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491000" y="392904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5884920" y="386856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5884920" y="4896000"/>
            <a:ext cx="60624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302600" y="405288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489560" y="170496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304040" y="489888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675240" y="2004840"/>
            <a:ext cx="7491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652920" y="3092400"/>
            <a:ext cx="771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305320" y="9748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 objects on 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311640" y="5160960"/>
            <a:ext cx="2538360" cy="46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478560" y="4349880"/>
            <a:ext cx="828720" cy="582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540480" y="4189320"/>
            <a:ext cx="727200" cy="11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6504120" y="3666600"/>
            <a:ext cx="804600" cy="358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10200" y="4359240"/>
            <a:ext cx="838080" cy="627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5138640" y="4179600"/>
            <a:ext cx="749520" cy="44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282840" y="4248000"/>
            <a:ext cx="11415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130720" y="2046240"/>
            <a:ext cx="401760" cy="26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180960" y="3603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021120" y="4506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297480" y="1560600"/>
            <a:ext cx="2667240" cy="1371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-and-swee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find and serialize all reachable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0F4-C161-461D-950F-F0414943E67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1087560" y="4997520"/>
            <a:ext cx="6902280" cy="80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 and Agent Tc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011040" y="41576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 Sam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151360" y="583236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 One-to-one “command”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17520" y="3225960"/>
            <a:ext cx="2992320" cy="8618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4280" y="2577960"/>
            <a:ext cx="2992320" cy="862200"/>
          </a:xfrm>
          <a:prstGeom prst="cube">
            <a:avLst>
              <a:gd name="adj" fmla="val 2301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C++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17520" y="1746360"/>
            <a:ext cx="16225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1738440" y="1746360"/>
            <a:ext cx="156528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17520" y="1089000"/>
            <a:ext cx="2989080" cy="86220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3" name=""/>
          <p:cNvGrpSpPr/>
          <p:nvPr/>
        </p:nvGrpSpPr>
        <p:grpSpPr>
          <a:xfrm>
            <a:off x="4383000" y="1811160"/>
            <a:ext cx="4446360" cy="1552680"/>
            <a:chOff x="4383000" y="1811160"/>
            <a:chExt cx="4446360" cy="1552680"/>
          </a:xfrm>
        </p:grpSpPr>
        <p:grpSp>
          <p:nvGrpSpPr>
            <p:cNvPr id="2054" name=""/>
            <p:cNvGrpSpPr/>
            <p:nvPr/>
          </p:nvGrpSpPr>
          <p:grpSpPr>
            <a:xfrm>
              <a:off x="7048440" y="2647800"/>
              <a:ext cx="1780920" cy="716040"/>
              <a:chOff x="7048440" y="2647800"/>
              <a:chExt cx="1780920" cy="716040"/>
            </a:xfrm>
          </p:grpSpPr>
          <p:sp>
            <p:nvSpPr>
              <p:cNvPr id="2055" name=""/>
              <p:cNvSpPr/>
              <p:nvPr/>
            </p:nvSpPr>
            <p:spPr>
              <a:xfrm>
                <a:off x="7048440" y="2949480"/>
                <a:ext cx="1780920" cy="414360"/>
              </a:xfrm>
              <a:prstGeom prst="parallelogram">
                <a:avLst>
                  <a:gd name="adj" fmla="val 1476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6" name="agentred" descr=""/>
              <p:cNvPicPr/>
              <p:nvPr/>
            </p:nvPicPr>
            <p:blipFill>
              <a:blip r:embed="rId2"/>
              <a:stretch/>
            </p:blipFill>
            <p:spPr>
              <a:xfrm>
                <a:off x="7705080" y="264780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57" name=""/>
            <p:cNvGrpSpPr/>
            <p:nvPr/>
          </p:nvGrpSpPr>
          <p:grpSpPr>
            <a:xfrm>
              <a:off x="4383000" y="2647800"/>
              <a:ext cx="1780920" cy="716040"/>
              <a:chOff x="4383000" y="2647800"/>
              <a:chExt cx="1780920" cy="716040"/>
            </a:xfrm>
          </p:grpSpPr>
          <p:sp>
            <p:nvSpPr>
              <p:cNvPr id="2058" name=""/>
              <p:cNvSpPr/>
              <p:nvPr/>
            </p:nvSpPr>
            <p:spPr>
              <a:xfrm>
                <a:off x="4383000" y="2949480"/>
                <a:ext cx="1780920" cy="414360"/>
              </a:xfrm>
              <a:prstGeom prst="parallelogram">
                <a:avLst>
                  <a:gd name="adj" fmla="val 1476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9" name="agentred" descr=""/>
              <p:cNvPicPr/>
              <p:nvPr/>
            </p:nvPicPr>
            <p:blipFill>
              <a:blip r:embed="rId3"/>
              <a:stretch/>
            </p:blipFill>
            <p:spPr>
              <a:xfrm>
                <a:off x="5039640" y="264780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60" name=""/>
            <p:cNvSpPr/>
            <p:nvPr/>
          </p:nvSpPr>
          <p:spPr>
            <a:xfrm flipV="1">
              <a:off x="5592600" y="2809440"/>
              <a:ext cx="20606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6549840" y="2562120"/>
              <a:ext cx="383760" cy="184320"/>
              <a:chOff x="6549840" y="2562120"/>
              <a:chExt cx="383760" cy="184320"/>
            </a:xfrm>
          </p:grpSpPr>
          <p:sp>
            <p:nvSpPr>
              <p:cNvPr id="2062" name=""/>
              <p:cNvSpPr/>
              <p:nvPr/>
            </p:nvSpPr>
            <p:spPr>
              <a:xfrm>
                <a:off x="6552720" y="256212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3" name=""/>
              <p:cNvGrpSpPr/>
              <p:nvPr/>
            </p:nvGrpSpPr>
            <p:grpSpPr>
              <a:xfrm>
                <a:off x="6549840" y="2564280"/>
                <a:ext cx="383400" cy="82440"/>
                <a:chOff x="6549840" y="2564280"/>
                <a:chExt cx="383400" cy="82440"/>
              </a:xfrm>
            </p:grpSpPr>
            <p:sp>
              <p:nvSpPr>
                <p:cNvPr id="2064" name=""/>
                <p:cNvSpPr/>
                <p:nvPr/>
              </p:nvSpPr>
              <p:spPr>
                <a:xfrm>
                  <a:off x="6549840" y="256968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H="1">
                  <a:off x="6741360" y="256428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6" name=""/>
            <p:cNvSpPr/>
            <p:nvPr/>
          </p:nvSpPr>
          <p:spPr>
            <a:xfrm>
              <a:off x="4786200" y="1811160"/>
              <a:ext cx="97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 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59560" y="1850760"/>
              <a:ext cx="97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8" name=""/>
            <p:cNvGrpSpPr/>
            <p:nvPr/>
          </p:nvGrpSpPr>
          <p:grpSpPr>
            <a:xfrm>
              <a:off x="6549840" y="2031840"/>
              <a:ext cx="383760" cy="184320"/>
              <a:chOff x="6549840" y="2031840"/>
              <a:chExt cx="383760" cy="184320"/>
            </a:xfrm>
          </p:grpSpPr>
          <p:sp>
            <p:nvSpPr>
              <p:cNvPr id="2069" name=""/>
              <p:cNvSpPr/>
              <p:nvPr/>
            </p:nvSpPr>
            <p:spPr>
              <a:xfrm>
                <a:off x="6552720" y="203184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0" name=""/>
              <p:cNvGrpSpPr/>
              <p:nvPr/>
            </p:nvGrpSpPr>
            <p:grpSpPr>
              <a:xfrm>
                <a:off x="6549840" y="2034000"/>
                <a:ext cx="383400" cy="82440"/>
                <a:chOff x="6549840" y="2034000"/>
                <a:chExt cx="383400" cy="8244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6549840" y="203940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H="1">
                  <a:off x="6741360" y="203400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3" name=""/>
            <p:cNvGrpSpPr/>
            <p:nvPr/>
          </p:nvGrpSpPr>
          <p:grpSpPr>
            <a:xfrm>
              <a:off x="6549840" y="2295360"/>
              <a:ext cx="383760" cy="184320"/>
              <a:chOff x="6549840" y="2295360"/>
              <a:chExt cx="383760" cy="184320"/>
            </a:xfrm>
          </p:grpSpPr>
          <p:sp>
            <p:nvSpPr>
              <p:cNvPr id="2074" name=""/>
              <p:cNvSpPr/>
              <p:nvPr/>
            </p:nvSpPr>
            <p:spPr>
              <a:xfrm>
                <a:off x="6552720" y="229536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5" name=""/>
              <p:cNvGrpSpPr/>
              <p:nvPr/>
            </p:nvGrpSpPr>
            <p:grpSpPr>
              <a:xfrm>
                <a:off x="6549840" y="2297520"/>
                <a:ext cx="383400" cy="82440"/>
                <a:chOff x="6549840" y="2297520"/>
                <a:chExt cx="383400" cy="82440"/>
              </a:xfrm>
            </p:grpSpPr>
            <p:sp>
              <p:nvSpPr>
                <p:cNvPr id="2076" name=""/>
                <p:cNvSpPr/>
                <p:nvPr/>
              </p:nvSpPr>
              <p:spPr>
                <a:xfrm>
                  <a:off x="6549840" y="230292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H="1">
                  <a:off x="6741360" y="229752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8" name=""/>
          <p:cNvSpPr/>
          <p:nvPr/>
        </p:nvSpPr>
        <p:spPr>
          <a:xfrm>
            <a:off x="3713040" y="2359080"/>
            <a:ext cx="704880" cy="458640"/>
          </a:xfrm>
          <a:prstGeom prst="rightArrow">
            <a:avLst>
              <a:gd name="adj1" fmla="val 50000"/>
              <a:gd name="adj2" fmla="val 3842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1201680" y="5094360"/>
            <a:ext cx="6745320" cy="642600"/>
            <a:chOff x="1201680" y="5094360"/>
            <a:chExt cx="6745320" cy="642600"/>
          </a:xfrm>
        </p:grpSpPr>
        <p:sp>
          <p:nvSpPr>
            <p:cNvPr id="2080" name=""/>
            <p:cNvSpPr/>
            <p:nvPr/>
          </p:nvSpPr>
          <p:spPr>
            <a:xfrm>
              <a:off x="3187440" y="5167080"/>
              <a:ext cx="704520" cy="458280"/>
            </a:xfrm>
            <a:prstGeom prst="rightArrow">
              <a:avLst>
                <a:gd name="adj1" fmla="val 50000"/>
                <a:gd name="adj2" fmla="val 38433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201680" y="523044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beg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200120" y="5094360"/>
              <a:ext cx="374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 agent = new Agent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.begin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2E1-539F-4A9F-970D-2142B4C9DABD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: Major cla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680" y="1353960"/>
            <a:ext cx="7680240" cy="4820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g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han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or creates an internal C++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native int createNativeAgent 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gent() { handle = createNativeAgent (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gister and unregister (timeout parameter not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AgentId begin (String mach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void end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migrate to a new machine (timeout parameter not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void jump (String mach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AgentId sub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(String machine, AgentEntryPoint newAgent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136760" y="895320"/>
            <a:ext cx="4784760" cy="149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bstract class AgentEntry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bstract void ru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gent ag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653-05F1-4E1C-8F77-8293470FEC63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/>
          <p:nvPr/>
        </p:nvSpPr>
        <p:spPr>
          <a:xfrm>
            <a:off x="416880" y="1211400"/>
            <a:ext cx="8366040" cy="219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AgentI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achine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ymbolic name for th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name;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ymbolic name for th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id;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meric id of th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448080" y="2565360"/>
            <a:ext cx="3782880" cy="246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Messag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code;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essage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: Minor cla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485280" y="4110120"/>
            <a:ext cx="8228880" cy="1920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RecMessage extends Messag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AgentId senderId;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ecurityVector securityInfo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curity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535-C533-4D37-ACC0-99EA082F1C80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mobile agen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31880" y="3884760"/>
            <a:ext cx="1703520" cy="514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3354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33540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3188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13000" y="319896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01652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354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33540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63188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13000" y="319896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01652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gentred" descr=""/>
          <p:cNvPicPr/>
          <p:nvPr/>
        </p:nvPicPr>
        <p:blipFill>
          <a:blip r:embed="rId1"/>
          <a:stretch/>
        </p:blipFill>
        <p:spPr>
          <a:xfrm>
            <a:off x="2013120" y="28414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08600" y="3884760"/>
            <a:ext cx="1701720" cy="514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61032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61032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9086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89720" y="3198960"/>
            <a:ext cx="1701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29144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agentred" descr=""/>
          <p:cNvPicPr/>
          <p:nvPr/>
        </p:nvPicPr>
        <p:blipFill>
          <a:blip r:embed="rId2"/>
          <a:stretch/>
        </p:blipFill>
        <p:spPr>
          <a:xfrm>
            <a:off x="5270400" y="28414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32480" y="257976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92080" y="25034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189840" y="297504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22400" y="273204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41560" y="334152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03880" y="3494160"/>
            <a:ext cx="18288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0160" y="1219320"/>
            <a:ext cx="74836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2400" indent="-1022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gen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Program that acts autonomously on behalf of a user (usually communicating with other ag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0160" y="5029200"/>
            <a:ext cx="7483680" cy="155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bile age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s from machine to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heterogeneo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imes of its own choosin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9AFC-B914-4EC5-913E-1EBAF1D100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who” agent: Parent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61880" y="971640"/>
            <a:ext cx="8215560" cy="530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 with the ag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imeout after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bmit the child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machines = new Vec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hines.addElement (new String (“A”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hines.addElement (new String (”B")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Agent childAgent = new ChildAgent (machin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childId = a.submit (“localhost”, childAgent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ait for and display the result and then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sult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result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EFF-D425-4F19-9272-B506146D816D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“who” agent: Child ag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33440" y="749160"/>
            <a:ext cx="8246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ChildAgent extends AgentEntryPoi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Vector m_machines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chin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Agent (Vector machin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m_machines = machines;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ring executeWhoCommand 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un (Agent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sults = "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igrate through all the machines in th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m_machine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machine = (String) m_machines.elementAt 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jump (machine, 10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s = results +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ecuteWhoComman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back result and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message = new Message (0, resul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a.getRootId(), message, 10); 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7DB-9F1D-4B03-8B54-699F26746855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ecuting  the “who” comman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50920" y="782640"/>
            <a:ext cx="8651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String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ecuteWhoComman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E: enclosing try-catch, check for non-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it code, etc., are not sh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untime runtime = Runtime.getRunti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process = runtime.exec("/usr/bin/who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exitCode = process.waitF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Stream whoOutputStream = process.getInputStrea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InputStream whoOutpu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DataInputStream (whoOutputStrea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users = ""; boolean done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!don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line = whoOutput.readLi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line == null) { done = true } else {users =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user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27F-569B-4C00-BD74-DC08C76EB2C6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5008680" y="68400"/>
            <a:ext cx="40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7" name="smart" descr=""/>
          <p:cNvPicPr/>
          <p:nvPr/>
        </p:nvPicPr>
        <p:blipFill>
          <a:blip r:embed="rId1"/>
          <a:stretch/>
        </p:blipFill>
        <p:spPr>
          <a:xfrm>
            <a:off x="355680" y="20952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098" name="list" descr=""/>
          <p:cNvPicPr/>
          <p:nvPr/>
        </p:nvPicPr>
        <p:blipFill>
          <a:blip r:embed="rId2"/>
          <a:stretch/>
        </p:blipFill>
        <p:spPr>
          <a:xfrm>
            <a:off x="236520" y="1541520"/>
            <a:ext cx="1089000" cy="1092240"/>
          </a:xfrm>
          <a:prstGeom prst="rect">
            <a:avLst/>
          </a:prstGeom>
          <a:ln w="0">
            <a:noFill/>
          </a:ln>
        </p:spPr>
      </p:pic>
      <p:sp>
        <p:nvSpPr>
          <p:cNvPr id="2099" name=""/>
          <p:cNvSpPr/>
          <p:nvPr/>
        </p:nvSpPr>
        <p:spPr>
          <a:xfrm>
            <a:off x="373536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0" name="agentred" descr=""/>
          <p:cNvPicPr/>
          <p:nvPr/>
        </p:nvPicPr>
        <p:blipFill>
          <a:blip r:embed="rId3"/>
          <a:stretch/>
        </p:blipFill>
        <p:spPr>
          <a:xfrm>
            <a:off x="398628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01" name=""/>
          <p:cNvSpPr/>
          <p:nvPr/>
        </p:nvSpPr>
        <p:spPr>
          <a:xfrm>
            <a:off x="1387440" y="1579680"/>
            <a:ext cx="5335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61120" y="11318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778040" y="3027240"/>
            <a:ext cx="21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443360" y="5823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093080" y="52722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7705800" y="5059440"/>
            <a:ext cx="68400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7450920" y="2611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7110360" y="20732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7719840" y="1881360"/>
            <a:ext cx="68436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V="1">
            <a:off x="4672080" y="2431800"/>
            <a:ext cx="3003480" cy="2554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660920" y="5041800"/>
            <a:ext cx="298116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440320" y="41511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Send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query and receiv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944880" y="2457360"/>
            <a:ext cx="13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00896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88920" y="260676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6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344600" y="2678040"/>
            <a:ext cx="2587680" cy="2352600"/>
          </a:xfrm>
          <a:custGeom>
            <a:avLst/>
            <a:gdLst/>
            <a:ahLst/>
            <a:rect l="l" t="t" r="r" b="b"/>
            <a:pathLst>
              <a:path w="1630" h="1482">
                <a:moveTo>
                  <a:pt x="1630" y="1482"/>
                </a:moveTo>
                <a:cubicBezTo>
                  <a:pt x="1236" y="1203"/>
                  <a:pt x="843" y="925"/>
                  <a:pt x="571" y="678"/>
                </a:cubicBezTo>
                <a:cubicBezTo>
                  <a:pt x="299" y="431"/>
                  <a:pt x="149" y="215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927080" y="2039760"/>
            <a:ext cx="2408400" cy="27784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5040360" y="5386320"/>
            <a:ext cx="21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irectory lo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7739640" y="3551400"/>
            <a:ext cx="10947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11132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45910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628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8640" y="558000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4" name=""/>
          <p:cNvCxnSpPr>
            <a:stCxn id="2121" idx="3"/>
            <a:endCxn id="2120" idx="1"/>
          </p:cNvCxnSpPr>
          <p:nvPr/>
        </p:nvCxnSpPr>
        <p:spPr>
          <a:xfrm>
            <a:off x="806400" y="4770360"/>
            <a:ext cx="293040" cy="511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5" name=""/>
          <p:cNvCxnSpPr>
            <a:stCxn id="2122" idx="3"/>
            <a:endCxn id="2120" idx="1"/>
          </p:cNvCxnSpPr>
          <p:nvPr/>
        </p:nvCxnSpPr>
        <p:spPr>
          <a:xfrm>
            <a:off x="825120" y="5281200"/>
            <a:ext cx="273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6" name=""/>
          <p:cNvCxnSpPr>
            <a:stCxn id="2123" idx="3"/>
            <a:endCxn id="2120" idx="1"/>
          </p:cNvCxnSpPr>
          <p:nvPr/>
        </p:nvCxnSpPr>
        <p:spPr>
          <a:xfrm flipV="1">
            <a:off x="807840" y="5280840"/>
            <a:ext cx="291240" cy="478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27" name=""/>
          <p:cNvSpPr/>
          <p:nvPr/>
        </p:nvSpPr>
        <p:spPr>
          <a:xfrm flipV="1">
            <a:off x="1474920" y="5262120"/>
            <a:ext cx="2487600" cy="11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757520" y="5289480"/>
            <a:ext cx="167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Query yellow pages for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043640" y="46641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y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938-6603-460F-8322-D971FACBB99F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Getting start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39840" y="960480"/>
            <a:ext cx="8461440" cy="521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query = “…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// keyword qu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proxy = “bald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// hard-coded proxy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yp = “mayday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// hard-coded yellow-pages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 with the ag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imeout after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bmit the child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xyAgent proxyAgent = new ProxyAgent (id, query, y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childId = a.submit (“localhost”, proxyAgent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ait for and display the results and then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sult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result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64B-E24E-4C63-A78A-08E0B18FBCFA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: Asking the yellow p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72880" y="927000"/>
            <a:ext cx="8596440" cy="521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ProxyAgent extends AgentEntryPoi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AgentId m_pa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d of parent (“front-end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_query;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keyword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_yp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yellow-pages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ProxyAg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gentId parent, String query, String y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_parent = parent; m_query = query; m_yp = yp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run (Agent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k the yellow pages to locate TR colle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e that method extractTrIds is not sh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ntId ypId = new AgentId (m_yp, “yellow pages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ypMessage = new Message (0, “locate tr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ypId, ypMessage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ypResonse = a.receive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trIds =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tractTrIds(ypResponse.getMessage()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33F-0EB9-4154-835E-285D9E309390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529920" y="76320"/>
            <a:ext cx="80773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 agent: Searching the colle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33440" y="793800"/>
            <a:ext cx="8246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a query message to all the TR col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trId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ntId = (AgentId) trIds.elementAt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trMessag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Message (0, “keyword-query “ + m_quer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send (trId, trMessage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llect the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sults = “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trId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trResponse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s = results + …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erge into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back results and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message = new Message (0, resul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m_parent, message, 10); 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2A7-A8D2-41A1-9FEA-390C4F6AE52E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660920" y="55080"/>
            <a:ext cx="440856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7" name="smart" descr=""/>
          <p:cNvPicPr/>
          <p:nvPr/>
        </p:nvPicPr>
        <p:blipFill>
          <a:blip r:embed="rId1"/>
          <a:stretch/>
        </p:blipFill>
        <p:spPr>
          <a:xfrm>
            <a:off x="355680" y="20952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138" name="list" descr=""/>
          <p:cNvPicPr/>
          <p:nvPr/>
        </p:nvPicPr>
        <p:blipFill>
          <a:blip r:embed="rId2"/>
          <a:stretch/>
        </p:blipFill>
        <p:spPr>
          <a:xfrm>
            <a:off x="236520" y="1541520"/>
            <a:ext cx="1089000" cy="1092240"/>
          </a:xfrm>
          <a:prstGeom prst="rect">
            <a:avLst/>
          </a:prstGeom>
          <a:ln w="0">
            <a:noFill/>
          </a:ln>
        </p:spPr>
      </p:pic>
      <p:sp>
        <p:nvSpPr>
          <p:cNvPr id="2139" name=""/>
          <p:cNvSpPr/>
          <p:nvPr/>
        </p:nvSpPr>
        <p:spPr>
          <a:xfrm>
            <a:off x="373536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0" name="agentred" descr=""/>
          <p:cNvPicPr/>
          <p:nvPr/>
        </p:nvPicPr>
        <p:blipFill>
          <a:blip r:embed="rId3"/>
          <a:stretch/>
        </p:blipFill>
        <p:spPr>
          <a:xfrm>
            <a:off x="398628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41" name=""/>
          <p:cNvSpPr/>
          <p:nvPr/>
        </p:nvSpPr>
        <p:spPr>
          <a:xfrm>
            <a:off x="1387440" y="1579680"/>
            <a:ext cx="5335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525840" y="1108080"/>
            <a:ext cx="2375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 a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.begin(…);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66840" y="365436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.send (m_parent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7443360" y="5823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7093080" y="52722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7705800" y="5059440"/>
            <a:ext cx="68400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450920" y="2611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110360" y="20732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7719840" y="1881360"/>
            <a:ext cx="68436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V="1">
            <a:off x="4672080" y="2431800"/>
            <a:ext cx="3003480" cy="2554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660920" y="5041800"/>
            <a:ext cx="298116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272200" y="443088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4. a.send (trId, …); a_recei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533760" y="2057400"/>
            <a:ext cx="31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a.submit (proxy, proxyAgent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9280" y="2651040"/>
            <a:ext cx="23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println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7. a.end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927080" y="2039760"/>
            <a:ext cx="2408400" cy="27784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7739640" y="3551400"/>
            <a:ext cx="10947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11132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57200" y="45910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7628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58640" y="558000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1" name=""/>
          <p:cNvCxnSpPr>
            <a:stCxn id="2158" idx="3"/>
            <a:endCxn id="2157" idx="1"/>
          </p:cNvCxnSpPr>
          <p:nvPr/>
        </p:nvCxnSpPr>
        <p:spPr>
          <a:xfrm>
            <a:off x="806400" y="4770360"/>
            <a:ext cx="293040" cy="511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2" name=""/>
          <p:cNvCxnSpPr>
            <a:stCxn id="2159" idx="3"/>
            <a:endCxn id="2157" idx="1"/>
          </p:cNvCxnSpPr>
          <p:nvPr/>
        </p:nvCxnSpPr>
        <p:spPr>
          <a:xfrm>
            <a:off x="825120" y="5281200"/>
            <a:ext cx="273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3" name=""/>
          <p:cNvCxnSpPr>
            <a:stCxn id="2160" idx="3"/>
            <a:endCxn id="2157" idx="1"/>
          </p:cNvCxnSpPr>
          <p:nvPr/>
        </p:nvCxnSpPr>
        <p:spPr>
          <a:xfrm flipV="1">
            <a:off x="807840" y="5280840"/>
            <a:ext cx="291240" cy="478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64" name=""/>
          <p:cNvSpPr/>
          <p:nvPr/>
        </p:nvSpPr>
        <p:spPr>
          <a:xfrm flipV="1">
            <a:off x="1474920" y="5262120"/>
            <a:ext cx="2487600" cy="11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952560" y="563868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3. a.send (ypId, …); a.recei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1389240" y="2319480"/>
            <a:ext cx="2700000" cy="2487600"/>
          </a:xfrm>
          <a:custGeom>
            <a:avLst/>
            <a:gdLst/>
            <a:ahLst/>
            <a:rect l="l" t="t" r="r" b="b"/>
            <a:pathLst>
              <a:path w="1701" h="1567">
                <a:moveTo>
                  <a:pt x="1701" y="1567"/>
                </a:moveTo>
                <a:cubicBezTo>
                  <a:pt x="1617" y="1111"/>
                  <a:pt x="1534" y="656"/>
                  <a:pt x="1250" y="395"/>
                </a:cubicBezTo>
                <a:cubicBezTo>
                  <a:pt x="966" y="134"/>
                  <a:pt x="483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8DB-20DE-4354-85C8-F2E8102B4D8A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Smart”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290520" y="1754280"/>
            <a:ext cx="2263680" cy="3562920"/>
            <a:chOff x="290520" y="1754280"/>
            <a:chExt cx="2263680" cy="3562920"/>
          </a:xfrm>
        </p:grpSpPr>
        <p:sp>
          <p:nvSpPr>
            <p:cNvPr id="2169" name=""/>
            <p:cNvSpPr/>
            <p:nvPr/>
          </p:nvSpPr>
          <p:spPr>
            <a:xfrm>
              <a:off x="974160" y="491832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33240" y="438012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243080" y="418788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90520" y="1754280"/>
              <a:ext cx="2263680" cy="1618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stationary agent that provides an interface to Cornell’s Smart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165320" y="3402000"/>
              <a:ext cx="414360" cy="863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4" name=""/>
          <p:cNvSpPr/>
          <p:nvPr/>
        </p:nvSpPr>
        <p:spPr>
          <a:xfrm>
            <a:off x="2903400" y="920880"/>
            <a:ext cx="6174000" cy="521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gent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name (“TR”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ndle qu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quest = a.receive (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curityVector secVec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quest.getSecurityInfo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owner = secVec.getOwnerKeyna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!secVec.isOwnerAuth(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!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nAccessList(owner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ject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ndle request, possibly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other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3EB-B91F-4B09-9145-3D1EC1E203A8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030760" y="2057400"/>
            <a:ext cx="5066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000080" y="267336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6B1-D2D1-4580-BEC6-E4973EB1CEA7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0240" y="2438280"/>
            <a:ext cx="2152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and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7040" y="1457280"/>
            <a:ext cx="4038480" cy="914400"/>
            <a:chOff x="257040" y="1457280"/>
            <a:chExt cx="4038480" cy="914400"/>
          </a:xfrm>
        </p:grpSpPr>
        <p:sp>
          <p:nvSpPr>
            <p:cNvPr id="151" name=""/>
            <p:cNvSpPr/>
            <p:nvPr/>
          </p:nvSpPr>
          <p:spPr>
            <a:xfrm>
              <a:off x="25704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6672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76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760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6520" y="1990800"/>
              <a:ext cx="228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592640" y="5326200"/>
            <a:ext cx="136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704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6708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012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4796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6880" y="3865680"/>
            <a:ext cx="2209680" cy="939600"/>
          </a:xfrm>
          <a:custGeom>
            <a:avLst/>
            <a:gdLst/>
            <a:ahLst/>
            <a:rect l="l" t="t" r="r" b="b"/>
            <a:pathLst>
              <a:path w="1392" h="592">
                <a:moveTo>
                  <a:pt x="0" y="584"/>
                </a:moveTo>
                <a:cubicBezTo>
                  <a:pt x="144" y="584"/>
                  <a:pt x="288" y="584"/>
                  <a:pt x="384" y="584"/>
                </a:cubicBezTo>
                <a:cubicBezTo>
                  <a:pt x="480" y="584"/>
                  <a:pt x="504" y="584"/>
                  <a:pt x="576" y="584"/>
                </a:cubicBezTo>
                <a:cubicBezTo>
                  <a:pt x="648" y="584"/>
                  <a:pt x="760" y="592"/>
                  <a:pt x="816" y="584"/>
                </a:cubicBezTo>
                <a:cubicBezTo>
                  <a:pt x="872" y="576"/>
                  <a:pt x="880" y="560"/>
                  <a:pt x="912" y="536"/>
                </a:cubicBezTo>
                <a:cubicBezTo>
                  <a:pt x="944" y="512"/>
                  <a:pt x="984" y="472"/>
                  <a:pt x="1008" y="440"/>
                </a:cubicBezTo>
                <a:cubicBezTo>
                  <a:pt x="1032" y="408"/>
                  <a:pt x="1048" y="384"/>
                  <a:pt x="1056" y="344"/>
                </a:cubicBezTo>
                <a:cubicBezTo>
                  <a:pt x="1064" y="304"/>
                  <a:pt x="1048" y="248"/>
                  <a:pt x="1056" y="200"/>
                </a:cubicBezTo>
                <a:cubicBezTo>
                  <a:pt x="1064" y="152"/>
                  <a:pt x="1080" y="88"/>
                  <a:pt x="1104" y="56"/>
                </a:cubicBezTo>
                <a:cubicBezTo>
                  <a:pt x="1128" y="24"/>
                  <a:pt x="1168" y="16"/>
                  <a:pt x="1200" y="8"/>
                </a:cubicBezTo>
                <a:cubicBezTo>
                  <a:pt x="1232" y="0"/>
                  <a:pt x="1272" y="0"/>
                  <a:pt x="1296" y="8"/>
                </a:cubicBezTo>
                <a:cubicBezTo>
                  <a:pt x="1320" y="16"/>
                  <a:pt x="1328" y="24"/>
                  <a:pt x="1344" y="56"/>
                </a:cubicBezTo>
                <a:cubicBezTo>
                  <a:pt x="1360" y="88"/>
                  <a:pt x="1376" y="144"/>
                  <a:pt x="1392" y="20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45960" y="2819520"/>
            <a:ext cx="2375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1508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2476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0564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5040" y="17859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133720"/>
            <a:ext cx="857520" cy="63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91240" y="190512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720" y="0"/>
                </a:moveTo>
                <a:cubicBezTo>
                  <a:pt x="612" y="116"/>
                  <a:pt x="504" y="232"/>
                  <a:pt x="384" y="288"/>
                </a:cubicBezTo>
                <a:cubicBezTo>
                  <a:pt x="264" y="344"/>
                  <a:pt x="64" y="328"/>
                  <a:pt x="0" y="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91240" y="1752480"/>
            <a:ext cx="1308240" cy="952560"/>
          </a:xfrm>
          <a:custGeom>
            <a:avLst/>
            <a:gdLst/>
            <a:ahLst/>
            <a:rect l="l" t="t" r="r" b="b"/>
            <a:pathLst>
              <a:path w="824" h="600">
                <a:moveTo>
                  <a:pt x="816" y="0"/>
                </a:moveTo>
                <a:cubicBezTo>
                  <a:pt x="820" y="144"/>
                  <a:pt x="824" y="288"/>
                  <a:pt x="768" y="384"/>
                </a:cubicBezTo>
                <a:cubicBezTo>
                  <a:pt x="712" y="480"/>
                  <a:pt x="608" y="552"/>
                  <a:pt x="480" y="576"/>
                </a:cubicBezTo>
                <a:cubicBezTo>
                  <a:pt x="352" y="600"/>
                  <a:pt x="176" y="564"/>
                  <a:pt x="0" y="5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30680" y="5486400"/>
            <a:ext cx="280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no 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1508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2476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0564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5040" y="44337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4552920"/>
            <a:ext cx="304920" cy="8380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9840" y="455292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576" y="0"/>
                </a:moveTo>
                <a:cubicBezTo>
                  <a:pt x="528" y="76"/>
                  <a:pt x="480" y="152"/>
                  <a:pt x="384" y="192"/>
                </a:cubicBezTo>
                <a:cubicBezTo>
                  <a:pt x="288" y="232"/>
                  <a:pt x="144" y="236"/>
                  <a:pt x="0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67360" y="4400640"/>
            <a:ext cx="106704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624" y="0"/>
                </a:moveTo>
                <a:cubicBezTo>
                  <a:pt x="648" y="148"/>
                  <a:pt x="672" y="296"/>
                  <a:pt x="624" y="384"/>
                </a:cubicBezTo>
                <a:cubicBezTo>
                  <a:pt x="576" y="472"/>
                  <a:pt x="440" y="512"/>
                  <a:pt x="336" y="528"/>
                </a:cubicBezTo>
                <a:cubicBezTo>
                  <a:pt x="232" y="544"/>
                  <a:pt x="116" y="512"/>
                  <a:pt x="0" y="48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95920" y="4724280"/>
            <a:ext cx="857160" cy="638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F29-B74C-4FE6-B788-7FC3D62A7A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74480" y="76320"/>
            <a:ext cx="8219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 10 Mb/s Etherne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9" name="queries-ethernet" descr=""/>
          <p:cNvPicPr/>
          <p:nvPr/>
        </p:nvPicPr>
        <p:blipFill>
          <a:blip r:embed="rId1"/>
          <a:stretch/>
        </p:blipFill>
        <p:spPr>
          <a:xfrm>
            <a:off x="1157400" y="113364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834-9DE0-49F7-A023-03A0F7188E5A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1 Mb/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1" name="queries-roamabout" descr=""/>
          <p:cNvPicPr/>
          <p:nvPr/>
        </p:nvPicPr>
        <p:blipFill>
          <a:blip r:embed="rId1"/>
          <a:stretch/>
        </p:blipFill>
        <p:spPr>
          <a:xfrm>
            <a:off x="1157400" y="110016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2E6-0710-4B2E-8B47-9A813D149289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0.1 Mb/s mod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3" name="queries-modem" descr=""/>
          <p:cNvPicPr/>
          <p:nvPr/>
        </p:nvPicPr>
        <p:blipFill>
          <a:blip r:embed="rId1"/>
          <a:stretch/>
        </p:blipFill>
        <p:spPr>
          <a:xfrm>
            <a:off x="1157400" y="112248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1EA-2B21-43F7-ACCB-20549CC415DE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se performan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5" name="base-roamabout" descr=""/>
          <p:cNvPicPr/>
          <p:nvPr/>
        </p:nvPicPr>
        <p:blipFill>
          <a:blip r:embed="rId1"/>
          <a:stretch/>
        </p:blipFill>
        <p:spPr>
          <a:xfrm>
            <a:off x="1122480" y="1112760"/>
            <a:ext cx="689616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F14-2489-47B7-A5E3-4DE9262A1477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lowers performanc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291760" y="330660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All messages through server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24180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714240" y="2152800"/>
            <a:ext cx="1781280" cy="715320"/>
            <a:chOff x="714240" y="2152800"/>
            <a:chExt cx="1781280" cy="715320"/>
          </a:xfrm>
        </p:grpSpPr>
        <p:sp>
          <p:nvSpPr>
            <p:cNvPr id="2190" name=""/>
            <p:cNvSpPr/>
            <p:nvPr/>
          </p:nvSpPr>
          <p:spPr>
            <a:xfrm>
              <a:off x="714240" y="2454120"/>
              <a:ext cx="1781280" cy="414000"/>
            </a:xfrm>
            <a:prstGeom prst="parallelogram">
              <a:avLst>
                <a:gd name="adj" fmla="val 14778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1" name="agentred" descr=""/>
            <p:cNvPicPr/>
            <p:nvPr/>
          </p:nvPicPr>
          <p:blipFill>
            <a:blip r:embed="rId1"/>
            <a:stretch/>
          </p:blipFill>
          <p:spPr>
            <a:xfrm>
              <a:off x="1371240" y="2152800"/>
              <a:ext cx="509760" cy="52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2" name=""/>
          <p:cNvGrpSpPr/>
          <p:nvPr/>
        </p:nvGrpSpPr>
        <p:grpSpPr>
          <a:xfrm>
            <a:off x="2730600" y="1401840"/>
            <a:ext cx="383760" cy="183960"/>
            <a:chOff x="2730600" y="1401840"/>
            <a:chExt cx="383760" cy="183960"/>
          </a:xfrm>
        </p:grpSpPr>
        <p:sp>
          <p:nvSpPr>
            <p:cNvPr id="2193" name=""/>
            <p:cNvSpPr/>
            <p:nvPr/>
          </p:nvSpPr>
          <p:spPr>
            <a:xfrm>
              <a:off x="2733480" y="140184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2730600" y="1404000"/>
              <a:ext cx="383400" cy="82440"/>
              <a:chOff x="2730600" y="1404000"/>
              <a:chExt cx="383400" cy="82440"/>
            </a:xfrm>
          </p:grpSpPr>
          <p:sp>
            <p:nvSpPr>
              <p:cNvPr id="2195" name=""/>
              <p:cNvSpPr/>
              <p:nvPr/>
            </p:nvSpPr>
            <p:spPr>
              <a:xfrm>
                <a:off x="2730600" y="140940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H="1">
                <a:off x="2922120" y="140400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7" name=""/>
          <p:cNvGrpSpPr/>
          <p:nvPr/>
        </p:nvGrpSpPr>
        <p:grpSpPr>
          <a:xfrm>
            <a:off x="2870280" y="2152800"/>
            <a:ext cx="1780920" cy="715320"/>
            <a:chOff x="2870280" y="2152800"/>
            <a:chExt cx="1780920" cy="715320"/>
          </a:xfrm>
        </p:grpSpPr>
        <p:sp>
          <p:nvSpPr>
            <p:cNvPr id="2198" name=""/>
            <p:cNvSpPr/>
            <p:nvPr/>
          </p:nvSpPr>
          <p:spPr>
            <a:xfrm>
              <a:off x="2870280" y="2454120"/>
              <a:ext cx="1780920" cy="414000"/>
            </a:xfrm>
            <a:prstGeom prst="parallelogram">
              <a:avLst>
                <a:gd name="adj" fmla="val 14775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9" name="agentred" descr=""/>
            <p:cNvPicPr/>
            <p:nvPr/>
          </p:nvPicPr>
          <p:blipFill>
            <a:blip r:embed="rId2"/>
            <a:stretch/>
          </p:blipFill>
          <p:spPr>
            <a:xfrm>
              <a:off x="3526920" y="2152800"/>
              <a:ext cx="509400" cy="52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0" name=""/>
          <p:cNvSpPr/>
          <p:nvPr/>
        </p:nvSpPr>
        <p:spPr>
          <a:xfrm flipV="1">
            <a:off x="1900080" y="1669680"/>
            <a:ext cx="1289160" cy="53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782880" y="1771560"/>
            <a:ext cx="0" cy="346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84600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981160" y="28274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027080" y="11113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214720" y="1703520"/>
            <a:ext cx="223560" cy="280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911920" y="2454120"/>
            <a:ext cx="3036960" cy="414360"/>
          </a:xfrm>
          <a:prstGeom prst="parallelogram">
            <a:avLst>
              <a:gd name="adj" fmla="val 1463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7" name="agentred" descr=""/>
          <p:cNvPicPr/>
          <p:nvPr/>
        </p:nvPicPr>
        <p:blipFill>
          <a:blip r:embed="rId3"/>
          <a:stretch/>
        </p:blipFill>
        <p:spPr>
          <a:xfrm>
            <a:off x="6540480" y="2239920"/>
            <a:ext cx="509760" cy="527040"/>
          </a:xfrm>
          <a:prstGeom prst="rect">
            <a:avLst/>
          </a:prstGeom>
          <a:ln w="0">
            <a:noFill/>
          </a:ln>
        </p:spPr>
      </p:pic>
      <p:pic>
        <p:nvPicPr>
          <p:cNvPr id="2208" name="agentred" descr=""/>
          <p:cNvPicPr/>
          <p:nvPr/>
        </p:nvPicPr>
        <p:blipFill>
          <a:blip r:embed="rId4"/>
          <a:stretch/>
        </p:blipFill>
        <p:spPr>
          <a:xfrm>
            <a:off x="7658280" y="2238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2209" name=""/>
          <p:cNvSpPr/>
          <p:nvPr/>
        </p:nvSpPr>
        <p:spPr>
          <a:xfrm>
            <a:off x="684684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62436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V="1">
            <a:off x="6810480" y="1782360"/>
            <a:ext cx="336600" cy="43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7634160" y="1789200"/>
            <a:ext cx="236520" cy="414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3" name=""/>
          <p:cNvGrpSpPr/>
          <p:nvPr/>
        </p:nvGrpSpPr>
        <p:grpSpPr>
          <a:xfrm>
            <a:off x="6446880" y="1835280"/>
            <a:ext cx="383760" cy="183960"/>
            <a:chOff x="6446880" y="1835280"/>
            <a:chExt cx="383760" cy="183960"/>
          </a:xfrm>
        </p:grpSpPr>
        <p:sp>
          <p:nvSpPr>
            <p:cNvPr id="2214" name=""/>
            <p:cNvSpPr/>
            <p:nvPr/>
          </p:nvSpPr>
          <p:spPr>
            <a:xfrm>
              <a:off x="6449760" y="183528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5" name=""/>
            <p:cNvGrpSpPr/>
            <p:nvPr/>
          </p:nvGrpSpPr>
          <p:grpSpPr>
            <a:xfrm>
              <a:off x="6446880" y="1837440"/>
              <a:ext cx="383400" cy="82440"/>
              <a:chOff x="6446880" y="1837440"/>
              <a:chExt cx="383400" cy="82440"/>
            </a:xfrm>
          </p:grpSpPr>
          <p:sp>
            <p:nvSpPr>
              <p:cNvPr id="2216" name=""/>
              <p:cNvSpPr/>
              <p:nvPr/>
            </p:nvSpPr>
            <p:spPr>
              <a:xfrm>
                <a:off x="6446880" y="184284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H="1">
                <a:off x="6638400" y="183744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8" name=""/>
          <p:cNvGrpSpPr/>
          <p:nvPr/>
        </p:nvGrpSpPr>
        <p:grpSpPr>
          <a:xfrm>
            <a:off x="1687680" y="4119480"/>
            <a:ext cx="6292800" cy="1655640"/>
            <a:chOff x="1687680" y="4119480"/>
            <a:chExt cx="6292800" cy="1655640"/>
          </a:xfrm>
        </p:grpSpPr>
        <p:grpSp>
          <p:nvGrpSpPr>
            <p:cNvPr id="2219" name=""/>
            <p:cNvGrpSpPr/>
            <p:nvPr/>
          </p:nvGrpSpPr>
          <p:grpSpPr>
            <a:xfrm>
              <a:off x="4943880" y="4701960"/>
              <a:ext cx="3036600" cy="1073160"/>
              <a:chOff x="4943880" y="4701960"/>
              <a:chExt cx="3036600" cy="1073160"/>
            </a:xfrm>
          </p:grpSpPr>
          <p:sp>
            <p:nvSpPr>
              <p:cNvPr id="2220" name=""/>
              <p:cNvSpPr/>
              <p:nvPr/>
            </p:nvSpPr>
            <p:spPr>
              <a:xfrm>
                <a:off x="4943880" y="5360760"/>
                <a:ext cx="3036600" cy="414360"/>
              </a:xfrm>
              <a:prstGeom prst="parallelogram">
                <a:avLst>
                  <a:gd name="adj" fmla="val 10076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362920" y="4707000"/>
                <a:ext cx="1233360" cy="963360"/>
              </a:xfrm>
              <a:prstGeom prst="cube">
                <a:avLst>
                  <a:gd name="adj" fmla="val 2301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378840" y="4701960"/>
                <a:ext cx="1233360" cy="963720"/>
              </a:xfrm>
              <a:prstGeom prst="cube">
                <a:avLst>
                  <a:gd name="adj" fmla="val 23018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1687680" y="4890960"/>
              <a:ext cx="1781280" cy="695160"/>
              <a:chOff x="1687680" y="4890960"/>
              <a:chExt cx="1781280" cy="695160"/>
            </a:xfrm>
          </p:grpSpPr>
          <p:sp>
            <p:nvSpPr>
              <p:cNvPr id="2224" name=""/>
              <p:cNvSpPr/>
              <p:nvPr/>
            </p:nvSpPr>
            <p:spPr>
              <a:xfrm>
                <a:off x="1687680" y="5171760"/>
                <a:ext cx="1781280" cy="414360"/>
              </a:xfrm>
              <a:prstGeom prst="parallelogram">
                <a:avLst>
                  <a:gd name="adj" fmla="val 14765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5" name="agentred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2440" y="489096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26" name=""/>
            <p:cNvSpPr/>
            <p:nvPr/>
          </p:nvSpPr>
          <p:spPr>
            <a:xfrm>
              <a:off x="2876760" y="5076720"/>
              <a:ext cx="2454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319560" y="42210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942000" y="4840200"/>
              <a:ext cx="133200" cy="223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727800" y="50655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902560" y="4119480"/>
              <a:ext cx="1054080" cy="709560"/>
            </a:xfrm>
            <a:custGeom>
              <a:avLst/>
              <a:gdLst/>
              <a:ahLst/>
              <a:rect l="l" t="t" r="r" b="b"/>
              <a:pathLst>
                <a:path w="657" h="447">
                  <a:moveTo>
                    <a:pt x="0" y="447"/>
                  </a:moveTo>
                  <a:cubicBezTo>
                    <a:pt x="164" y="225"/>
                    <a:pt x="329" y="4"/>
                    <a:pt x="438" y="2"/>
                  </a:cubicBezTo>
                  <a:cubicBezTo>
                    <a:pt x="547" y="0"/>
                    <a:pt x="602" y="216"/>
                    <a:pt x="657" y="43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1" name=""/>
          <p:cNvSpPr/>
          <p:nvPr/>
        </p:nvSpPr>
        <p:spPr>
          <a:xfrm>
            <a:off x="2496960" y="58561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Interpreter initialization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20320" y="3665520"/>
            <a:ext cx="1198800" cy="100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CD7-4C10-45A0-B3AC-B59DC750A716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6348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oosing to jum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719280" y="973080"/>
            <a:ext cx="770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 agent should jump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e local environment has become suboptim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e local environment will cease to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 agent will jump to a new machine, M,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 has unique resources required by the ag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 has the best environment for the agen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task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 a dynamic environment, this requires “plann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 “control”….solving some sort of optimization problem.  Planning, in turn, requires knowledge of “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AC7-EDDC-49D7-841C-75D93E5D698B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t Planning: An introd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35120" y="1512720"/>
            <a:ext cx="7341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gents for plann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lanning for agents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lem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ormulate the decision to jump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 where to jump as an optimizatio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generically NP-Hard because it involves T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problems, uncertainty about future environm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s about whether to clone or no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developed some simplifications for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al algorithmic solutions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6E4-D67C-4B64-98A4-747F971B2CEE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veling Agent Problem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oziumi and Cybenko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69760" y="1393920"/>
            <a:ext cx="7405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te j “costs”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j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o visit and has probability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f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isit sites until none left or successfu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9" name=""/>
          <p:cNvGrpSpPr/>
          <p:nvPr/>
        </p:nvGrpSpPr>
        <p:grpSpPr>
          <a:xfrm>
            <a:off x="1042920" y="2405160"/>
            <a:ext cx="7081560" cy="2325600"/>
            <a:chOff x="1042920" y="2405160"/>
            <a:chExt cx="7081560" cy="2325600"/>
          </a:xfrm>
        </p:grpSpPr>
        <p:sp>
          <p:nvSpPr>
            <p:cNvPr id="2240" name=""/>
            <p:cNvSpPr/>
            <p:nvPr/>
          </p:nvSpPr>
          <p:spPr>
            <a:xfrm>
              <a:off x="1042920" y="4133880"/>
              <a:ext cx="6600600" cy="59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1" name=""/>
            <p:cNvGrpSpPr/>
            <p:nvPr/>
          </p:nvGrpSpPr>
          <p:grpSpPr>
            <a:xfrm>
              <a:off x="1175400" y="2405160"/>
              <a:ext cx="2570040" cy="2291400"/>
              <a:chOff x="1175400" y="2405160"/>
              <a:chExt cx="2570040" cy="2291400"/>
            </a:xfrm>
          </p:grpSpPr>
          <p:sp>
            <p:nvSpPr>
              <p:cNvPr id="2242" name=""/>
              <p:cNvSpPr/>
              <p:nvPr/>
            </p:nvSpPr>
            <p:spPr>
              <a:xfrm>
                <a:off x="2566800" y="2609640"/>
                <a:ext cx="368280" cy="367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265040" y="275580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001320" y="240516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175400" y="4187880"/>
                <a:ext cx="25700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Expected cost =  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6" name=""/>
            <p:cNvGrpSpPr/>
            <p:nvPr/>
          </p:nvGrpSpPr>
          <p:grpSpPr>
            <a:xfrm>
              <a:off x="2932560" y="2405160"/>
              <a:ext cx="2035440" cy="2291400"/>
              <a:chOff x="2932560" y="2405160"/>
              <a:chExt cx="2035440" cy="2291400"/>
            </a:xfrm>
          </p:grpSpPr>
          <p:grpSp>
            <p:nvGrpSpPr>
              <p:cNvPr id="2247" name=""/>
              <p:cNvGrpSpPr/>
              <p:nvPr/>
            </p:nvGrpSpPr>
            <p:grpSpPr>
              <a:xfrm>
                <a:off x="2932560" y="2405160"/>
                <a:ext cx="1614960" cy="1035720"/>
                <a:chOff x="2932560" y="2405160"/>
                <a:chExt cx="1614960" cy="1035720"/>
              </a:xfrm>
            </p:grpSpPr>
            <p:sp>
              <p:nvSpPr>
                <p:cNvPr id="2248" name=""/>
                <p:cNvSpPr/>
                <p:nvPr/>
              </p:nvSpPr>
              <p:spPr>
                <a:xfrm>
                  <a:off x="4005000" y="2609640"/>
                  <a:ext cx="367920" cy="36792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9" name=""/>
                <p:cNvGrpSpPr/>
                <p:nvPr/>
              </p:nvGrpSpPr>
              <p:grpSpPr>
                <a:xfrm>
                  <a:off x="2932560" y="2680200"/>
                  <a:ext cx="1067040" cy="760680"/>
                  <a:chOff x="2932560" y="2680200"/>
                  <a:chExt cx="1067040" cy="760680"/>
                </a:xfrm>
              </p:grpSpPr>
              <p:sp>
                <p:nvSpPr>
                  <p:cNvPr id="2250" name=""/>
                  <p:cNvSpPr/>
                  <p:nvPr/>
                </p:nvSpPr>
                <p:spPr>
                  <a:xfrm>
                    <a:off x="2933640" y="2680200"/>
                    <a:ext cx="106596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2932560" y="2680200"/>
                    <a:ext cx="106524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2" name=""/>
                <p:cNvSpPr/>
                <p:nvPr/>
              </p:nvSpPr>
              <p:spPr>
                <a:xfrm>
                  <a:off x="4363920" y="2405160"/>
                  <a:ext cx="18360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3" name=""/>
              <p:cNvSpPr/>
              <p:nvPr/>
            </p:nvSpPr>
            <p:spPr>
              <a:xfrm>
                <a:off x="3611160" y="4187880"/>
                <a:ext cx="13568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+ 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4248360" y="2405160"/>
              <a:ext cx="2746080" cy="2291400"/>
              <a:chOff x="4248360" y="2405160"/>
              <a:chExt cx="2746080" cy="2291400"/>
            </a:xfrm>
          </p:grpSpPr>
          <p:grpSp>
            <p:nvGrpSpPr>
              <p:cNvPr id="2255" name=""/>
              <p:cNvGrpSpPr/>
              <p:nvPr/>
            </p:nvGrpSpPr>
            <p:grpSpPr>
              <a:xfrm>
                <a:off x="4248360" y="2405160"/>
                <a:ext cx="1813680" cy="1112040"/>
                <a:chOff x="4248360" y="2405160"/>
                <a:chExt cx="1813680" cy="1112040"/>
              </a:xfrm>
            </p:grpSpPr>
            <p:sp>
              <p:nvSpPr>
                <p:cNvPr id="2256" name=""/>
                <p:cNvSpPr/>
                <p:nvPr/>
              </p:nvSpPr>
              <p:spPr>
                <a:xfrm>
                  <a:off x="5321160" y="2609640"/>
                  <a:ext cx="368280" cy="36792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7" name=""/>
                <p:cNvGrpSpPr/>
                <p:nvPr/>
              </p:nvGrpSpPr>
              <p:grpSpPr>
                <a:xfrm>
                  <a:off x="4248360" y="2755800"/>
                  <a:ext cx="1067760" cy="761400"/>
                  <a:chOff x="4248360" y="2755800"/>
                  <a:chExt cx="1067760" cy="761400"/>
                </a:xfrm>
              </p:grpSpPr>
              <p:sp>
                <p:nvSpPr>
                  <p:cNvPr id="2258" name=""/>
                  <p:cNvSpPr/>
                  <p:nvPr/>
                </p:nvSpPr>
                <p:spPr>
                  <a:xfrm>
                    <a:off x="4249440" y="2755800"/>
                    <a:ext cx="1066680" cy="76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4248360" y="2755800"/>
                    <a:ext cx="1065960" cy="76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0" name=""/>
                <p:cNvSpPr/>
                <p:nvPr/>
              </p:nvSpPr>
              <p:spPr>
                <a:xfrm>
                  <a:off x="5679000" y="2405160"/>
                  <a:ext cx="383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1" name=""/>
              <p:cNvSpPr/>
              <p:nvPr/>
            </p:nvSpPr>
            <p:spPr>
              <a:xfrm>
                <a:off x="4861800" y="4187880"/>
                <a:ext cx="2132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+ 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k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2" name=""/>
            <p:cNvGrpSpPr/>
            <p:nvPr/>
          </p:nvGrpSpPr>
          <p:grpSpPr>
            <a:xfrm>
              <a:off x="5608800" y="2405160"/>
              <a:ext cx="2515680" cy="2241000"/>
              <a:chOff x="5608800" y="2405160"/>
              <a:chExt cx="2515680" cy="2241000"/>
            </a:xfrm>
          </p:grpSpPr>
          <p:grpSp>
            <p:nvGrpSpPr>
              <p:cNvPr id="2263" name=""/>
              <p:cNvGrpSpPr/>
              <p:nvPr/>
            </p:nvGrpSpPr>
            <p:grpSpPr>
              <a:xfrm>
                <a:off x="7056000" y="2755800"/>
                <a:ext cx="1068480" cy="761400"/>
                <a:chOff x="7056000" y="2755800"/>
                <a:chExt cx="1068480" cy="761400"/>
              </a:xfrm>
            </p:grpSpPr>
            <p:sp>
              <p:nvSpPr>
                <p:cNvPr id="2264" name=""/>
                <p:cNvSpPr/>
                <p:nvPr/>
              </p:nvSpPr>
              <p:spPr>
                <a:xfrm>
                  <a:off x="7057800" y="2755800"/>
                  <a:ext cx="10666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7056000" y="2755800"/>
                  <a:ext cx="10666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6" name=""/>
              <p:cNvGrpSpPr/>
              <p:nvPr/>
            </p:nvGrpSpPr>
            <p:grpSpPr>
              <a:xfrm>
                <a:off x="5608800" y="2405160"/>
                <a:ext cx="1864440" cy="2241000"/>
                <a:chOff x="5608800" y="2405160"/>
                <a:chExt cx="1864440" cy="2241000"/>
              </a:xfrm>
            </p:grpSpPr>
            <p:grpSp>
              <p:nvGrpSpPr>
                <p:cNvPr id="2267" name=""/>
                <p:cNvGrpSpPr/>
                <p:nvPr/>
              </p:nvGrpSpPr>
              <p:grpSpPr>
                <a:xfrm>
                  <a:off x="5608800" y="2405160"/>
                  <a:ext cx="1820160" cy="1112040"/>
                  <a:chOff x="5608800" y="2405160"/>
                  <a:chExt cx="1820160" cy="1112040"/>
                </a:xfrm>
              </p:grpSpPr>
              <p:sp>
                <p:nvSpPr>
                  <p:cNvPr id="2268" name=""/>
                  <p:cNvSpPr/>
                  <p:nvPr/>
                </p:nvSpPr>
                <p:spPr>
                  <a:xfrm>
                    <a:off x="6681600" y="2609640"/>
                    <a:ext cx="368280" cy="367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69" name=""/>
                  <p:cNvGrpSpPr/>
                  <p:nvPr/>
                </p:nvGrpSpPr>
                <p:grpSpPr>
                  <a:xfrm>
                    <a:off x="5608800" y="2755800"/>
                    <a:ext cx="1067760" cy="761400"/>
                    <a:chOff x="5608800" y="2755800"/>
                    <a:chExt cx="1067760" cy="761400"/>
                  </a:xfrm>
                </p:grpSpPr>
                <p:sp>
                  <p:nvSpPr>
                    <p:cNvPr id="2270" name=""/>
                    <p:cNvSpPr/>
                    <p:nvPr/>
                  </p:nvSpPr>
                  <p:spPr>
                    <a:xfrm>
                      <a:off x="5609880" y="2755800"/>
                      <a:ext cx="106668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1" name=""/>
                    <p:cNvSpPr/>
                    <p:nvPr/>
                  </p:nvSpPr>
                  <p:spPr>
                    <a:xfrm>
                      <a:off x="5608800" y="2755800"/>
                      <a:ext cx="106596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72" name=""/>
                  <p:cNvSpPr/>
                  <p:nvPr/>
                </p:nvSpPr>
                <p:spPr>
                  <a:xfrm>
                    <a:off x="7115760" y="2405160"/>
                    <a:ext cx="31320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3" name=""/>
                <p:cNvSpPr/>
                <p:nvPr/>
              </p:nvSpPr>
              <p:spPr>
                <a:xfrm>
                  <a:off x="6811200" y="4187880"/>
                  <a:ext cx="6620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+ </a:t>
                  </a:r>
                  <a:r>
                    <a:rPr b="0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..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74" name=""/>
          <p:cNvSpPr/>
          <p:nvPr/>
        </p:nvSpPr>
        <p:spPr>
          <a:xfrm>
            <a:off x="323640" y="5072040"/>
            <a:ext cx="854280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orem:  Minimum occurs when 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/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are in decreasing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is is a stochastic version of the Traveling Salesma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012840" y="2492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455000" y="249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705280" y="249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11072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8FBF-AA81-497D-A466-C91B1F5822C4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veling agent in multiple LA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85800" y="2133720"/>
            <a:ext cx="2209680" cy="12189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704960" y="3371760"/>
            <a:ext cx="122400" cy="134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2870280" y="4644720"/>
            <a:ext cx="560160" cy="452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685960" y="3121200"/>
            <a:ext cx="679680" cy="657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741040" y="1946160"/>
            <a:ext cx="285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N 1 has 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033800" y="4776840"/>
            <a:ext cx="14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112200" y="2967120"/>
            <a:ext cx="169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atency 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181560" y="2290680"/>
            <a:ext cx="23846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ult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eads 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(1+m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(1+m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ep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94720" y="1260360"/>
            <a:ext cx="80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cies constant within LAN’s, but variable across LAN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146400" y="3560760"/>
            <a:ext cx="2209680" cy="12193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62120" y="4762440"/>
            <a:ext cx="2209680" cy="12193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898640" y="5881680"/>
            <a:ext cx="152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096920" y="3881520"/>
            <a:ext cx="59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604960" y="4324320"/>
            <a:ext cx="59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882-C305-4273-9A46-8B4EB4A0610D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ltiple Agent Probl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846000" y="30132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3255840" y="3024360"/>
            <a:ext cx="476280" cy="40608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080"/>
              <a:gd name="textAreaBottom" fmla="*/ 313560 h 40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267000" y="36180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260880" y="2482920"/>
            <a:ext cx="475920" cy="406440"/>
          </a:xfrm>
          <a:custGeom>
            <a:avLst/>
            <a:gdLst>
              <a:gd name="textAreaLeft" fmla="*/ 108720 w 475920"/>
              <a:gd name="textAreaRight" fmla="*/ 367200 w 47592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236760" y="120636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2414520" y="1868040"/>
            <a:ext cx="600120" cy="459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344680" y="3297240"/>
            <a:ext cx="493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285920" y="2292480"/>
            <a:ext cx="811080" cy="6350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334880" y="4368960"/>
            <a:ext cx="28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agent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/clon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109840" y="1370160"/>
            <a:ext cx="350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effici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algorithm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ing multiple-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ing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prob of success = 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P-complete, for prob=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vial and for p&gt;1/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able efficiently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096640" y="553572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prising results, much more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959120" y="5423040"/>
            <a:ext cx="5222880" cy="687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192-0E6A-4D1F-AABF-49B77ECA258F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15:54:48Z</dcterms:created>
  <dc:creator>hiro</dc:creator>
  <dc:description/>
  <dc:language>en-US</dc:language>
  <cp:lastModifiedBy>hiro</cp:lastModifiedBy>
  <cp:lastPrinted>1999-04-27T12:51:47Z</cp:lastPrinted>
  <dcterms:modified xsi:type="dcterms:W3CDTF">1999-04-27T12:57:03Z</dcterms:modified>
  <cp:revision>711</cp:revision>
  <dc:subject/>
  <dc:title>Mobile Agents in Distribute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actcomm.dartmouth.edu/~rgray/</vt:lpwstr>
  </property>
  <property fmtid="{D5CDD505-2E9C-101B-9397-08002B2CF9AE}" pid="9" name="LinkColor">
    <vt:r8>16711782</vt:r8>
  </property>
  <property fmtid="{D5CDD505-2E9C-101B-9397-08002B2CF9AE}" pid="10" name="MailAddress">
    <vt:lpwstr>robert.s.gray@dartmouth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bo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